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B9A8-F849-491F-B387-6324D1169B3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05C6-0DC5-413F-B656-B5755B10E6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2AB8-99CF-458B-A65A-B77F74186D9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446D-CFBA-40A2-803B-8F53BDC88CD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BA7A-4842-4D66-A542-11648DFA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B763-820D-416E-8EEF-045A7108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74D8-F55E-452D-9ECC-C44D9B62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A7CB-0542-49F5-B025-0F25F65A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A21A4-9BD6-40D4-B37A-212654CB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48264-C4E6-416F-8BFD-71A82D51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D4DEB-E67B-4535-BA17-95ECAA9A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31340-E566-4F3B-A01B-78786638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5F0F9-3241-4C27-ADAA-6130EC6E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0C6DA-C117-4679-BCFA-3FCD7230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D43C9-AADC-46EA-8352-4721C148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C685-A798-4465-8667-42325348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8EDD0-AE27-4379-811F-01A222F0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7E2D3-18B0-4199-8C29-9037CF25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C0ADD-BB74-469F-8B2D-A53C1203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FCA41-3DAD-471A-8F8F-B6860876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C3EA0-7BBE-4045-8C46-B07D1777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4AED-19CA-4F5A-B83E-437FCDC0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7EA2-64E2-4C66-A3E8-10CD6B10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A99C-A155-4C0D-BB3F-E9277EC5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AE5E-8515-466E-BC78-CD7DD1CA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963A-C5C9-46E2-A016-DFCF143D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0855-BB8D-44D5-A627-6D49AB12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A260-5E81-4984-A4C4-4162BEF7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0414-BD45-4090-8B9E-B5B77C9E88E8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9B0E-75E1-4F6F-ADCE-9C49DDB4A566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179280" y="0"/>
            <a:ext cx="87138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84313"/>
                </a:srgbClr>
              </a:gs>
              <a:gs pos="100000">
                <a:srgbClr val="ffffff">
                  <a:alpha val="84313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C7A9-760F-4522-AF20-EC4B66321FC2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56FE-76C4-488B-8F80-7413B8FCE26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4400"/>
            </a:br>
            <a:r>
              <a:rPr b="0" lang="es-ES_tradnl" sz="40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cción preventiv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determinar acciones (apropiadas) para eliminar las causas de no conformidades potenciales para prevenir su ocurrencia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determinar no conformidades potenciales y sus caus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valuar acciones para prevenir ocurrencia de no conformidad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y tomar ac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ar resultados de las ac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visar acciones tomad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Sugerencias a considerar para control de producto no-conform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a y documente procedimientos para controlar y asegurar el uso no intencionado o instalación de productos no conformes, cuando éstos son identific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que y separe productos no conform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ocumente y registre todas las instancias de no conform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tifique a todos los interesados en las no conformidades, incluyendo el clien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Riesgo de no revisar el uso o reparación propues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 realizar una revisión de problemas con el cliente cuando se requieren revisiones por contrato, es una violación al contra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TA: Este requerimiento no es aplicable a menos que aparezca en el contra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 las acciones correctivas no son verificadas, la deficiencia puede persistir aun cuando se perciba como resuelt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s acciones correctivas por si mismas pueden introducir nuevos defect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Sugerencias sobre las acciones correctiva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se todas las fuentes de información sobre no conformidades para eliminar las posibles caus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fina los procedimientos a seguir para la prevención efectiv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jecute las acciones y asegúrese de que son ef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a administración debe involucrarse en las acciones preventivas ya que se puede requerir recursos especiale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termine cuáles problemas son candidatos para acciones preven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i las acciones preventivas no son iniciadas y no se asegura su efectividad, no se podrá prevenir la ocurrencia de la no conformidad con otro client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Modelo de desarrollo de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4766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9 procesos: 5 de Ingeniería de Software y 4 de Gestión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dquisición y análisis de requerimientos (SRA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nálisis y diseño de arquitectura (SAA&amp;D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mplementación de componentes (SCI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Testing de componentes (SCT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nstalación de software (SCD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Planificación de proyectos (SPP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Seguimiento y control de proyectos (SPT&amp;O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Gestión de configuración (SCM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seguramiento de calidad (SQA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7090200" y="2965680"/>
            <a:ext cx="1911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33"/>
                </a:solidFill>
                <a:latin typeface="Tahoma"/>
              </a:rPr>
              <a:t>Procesos de Ingeniería de Softw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6933960" y="266400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2"/>
                </a:lnTo>
                <a:cubicBezTo>
                  <a:pt x="10800" y="10342"/>
                  <a:pt x="5400" y="11242"/>
                  <a:pt x="0" y="11242"/>
                </a:cubicBezTo>
                <a:cubicBezTo>
                  <a:pt x="5400" y="11242"/>
                  <a:pt x="10800" y="12142"/>
                  <a:pt x="10800" y="1304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7246080" y="5020920"/>
            <a:ext cx="175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33"/>
                </a:solidFill>
                <a:latin typeface="Tahoma"/>
              </a:rPr>
              <a:t>Procesos de Gestión de Softw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6933960" y="464832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2"/>
                </a:lnTo>
                <a:cubicBezTo>
                  <a:pt x="10800" y="10342"/>
                  <a:pt x="5400" y="11242"/>
                  <a:pt x="0" y="11242"/>
                </a:cubicBezTo>
                <a:cubicBezTo>
                  <a:pt x="5400" y="11242"/>
                  <a:pt x="10800" y="12142"/>
                  <a:pt x="10800" y="1304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Proceso de Análisis y adquisición de requerimientos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1981080"/>
            <a:ext cx="6172200" cy="30492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ahoma"/>
              </a:rPr>
              <a:t>Análisis y adquisición de requerimientos (S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2362320"/>
            <a:ext cx="6172200" cy="520200"/>
          </a:xfrm>
          <a:prstGeom prst="rect">
            <a:avLst/>
          </a:prstGeom>
          <a:solidFill>
            <a:srgbClr val="ffffcc">
              <a:alpha val="50000"/>
            </a:srgbClr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[</a:t>
            </a:r>
            <a:r>
              <a:rPr b="1" lang="es-ES_tradnl" sz="1400" spc="-1" strike="noStrike">
                <a:solidFill>
                  <a:srgbClr val="996633"/>
                </a:solidFill>
                <a:latin typeface="Tahoma"/>
              </a:rPr>
              <a:t>IR</a:t>
            </a: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] Determinar y establecer un conjunto completo, consistente y coherente de requisitos exigidos a un software dentro de un proyect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679400" y="3068640"/>
            <a:ext cx="6132240" cy="2722320"/>
            <a:chOff x="1679400" y="3068640"/>
            <a:chExt cx="6132240" cy="2722320"/>
          </a:xfrm>
        </p:grpSpPr>
        <p:sp>
          <p:nvSpPr>
            <p:cNvPr id="136" name=""/>
            <p:cNvSpPr/>
            <p:nvPr/>
          </p:nvSpPr>
          <p:spPr>
            <a:xfrm>
              <a:off x="1679400" y="4972320"/>
              <a:ext cx="1468800" cy="7110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99"/>
                </a:gs>
              </a:gsLst>
              <a:lin ang="135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7160" y="5013720"/>
              <a:ext cx="13730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6633"/>
                  </a:solidFill>
                  <a:latin typeface="Arial"/>
                </a:rPr>
                <a:t>Ingreso de requisitos a la línea de base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435040" y="3238920"/>
              <a:ext cx="1468800" cy="709560"/>
              <a:chOff x="2435040" y="3238920"/>
              <a:chExt cx="1468800" cy="709560"/>
            </a:xfrm>
          </p:grpSpPr>
          <p:sp>
            <p:nvSpPr>
              <p:cNvPr id="139" name=""/>
              <p:cNvSpPr/>
              <p:nvPr/>
            </p:nvSpPr>
            <p:spPr>
              <a:xfrm>
                <a:off x="2435040" y="3238920"/>
                <a:ext cx="1468800" cy="709560"/>
              </a:xfrm>
              <a:prstGeom prst="ellipse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99"/>
                  </a:gs>
                </a:gsLst>
                <a:lin ang="135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503800" y="3394800"/>
                <a:ext cx="137304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Recolección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6006960" y="3286440"/>
              <a:ext cx="1468800" cy="709200"/>
              <a:chOff x="6006960" y="3286440"/>
              <a:chExt cx="1468800" cy="709200"/>
            </a:xfrm>
          </p:grpSpPr>
          <p:sp>
            <p:nvSpPr>
              <p:cNvPr id="142" name=""/>
              <p:cNvSpPr/>
              <p:nvPr/>
            </p:nvSpPr>
            <p:spPr>
              <a:xfrm>
                <a:off x="6006960" y="3286440"/>
                <a:ext cx="1468800" cy="709200"/>
              </a:xfrm>
              <a:prstGeom prst="ellipse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99"/>
                  </a:gs>
                </a:gsLst>
                <a:lin ang="135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75720" y="3441960"/>
                <a:ext cx="137304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Análisis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270760" y="5081400"/>
              <a:ext cx="1468800" cy="709560"/>
              <a:chOff x="5270760" y="5081400"/>
              <a:chExt cx="1468800" cy="709560"/>
            </a:xfrm>
          </p:grpSpPr>
          <p:sp>
            <p:nvSpPr>
              <p:cNvPr id="145" name=""/>
              <p:cNvSpPr/>
              <p:nvPr/>
            </p:nvSpPr>
            <p:spPr>
              <a:xfrm>
                <a:off x="5270760" y="5081400"/>
                <a:ext cx="1468800" cy="709560"/>
              </a:xfrm>
              <a:prstGeom prst="ellipse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99"/>
                  </a:gs>
                </a:gsLst>
                <a:lin ang="135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339520" y="5237280"/>
                <a:ext cx="137304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Negociación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957480" y="3535920"/>
              <a:ext cx="2003040" cy="151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24400" y="3198960"/>
              <a:ext cx="87768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expresad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389640" y="4080600"/>
              <a:ext cx="383400" cy="98100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83680" y="4241520"/>
              <a:ext cx="122796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infactibles, inconsistentes o incoherente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159600" y="4016160"/>
              <a:ext cx="398880" cy="93456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41320" y="4319640"/>
              <a:ext cx="87660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expresad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208320" y="5429160"/>
              <a:ext cx="1989000" cy="151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486520" y="3991320"/>
              <a:ext cx="439920" cy="92088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79400" y="4118760"/>
              <a:ext cx="101088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Incompletitud de la líne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de bas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828520" y="3844440"/>
              <a:ext cx="3195720" cy="114948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98000" y="4040280"/>
              <a:ext cx="8089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complet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63520" y="5029200"/>
              <a:ext cx="808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complet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74040" y="3068640"/>
              <a:ext cx="343800" cy="2865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539040" y="5715000"/>
            <a:ext cx="216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Fuente: Modelo EVA – CEI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C. Brav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jercicio 8: Defina el proceso de adquisición y análisis de requerimientos en su empresa piloto 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1844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rebuchet MS"/>
              </a:rPr>
              <a:t>Use el patrón de proceso dado en clase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jercicio 8: Desarrolle un procedimiento para la recolección de requerimiento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Identifique no conformidades potenciales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Identifique acciones (apropiadas) para eliminar sus causas y prevenir su ocurrencia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SO/IEC 9126 es un estándar de calidad de productos compuesto por 4 parte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ISO/IEC 9126 Parte 1 describe un modelo de dos partes para calidad de productos de software: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a) calidad interna y externa, y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b) calidad en uso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objetivo es abarcar todos los aspectos que pueden afectar a la calidad de los productos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Existe un equivalente chileno - NCh 2812-1.c2002 - que es una homologación idéntica de la norma original hecha por el IN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8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8. Medición, análisis y mejor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1 Generalidad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2 Seguimiento y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3 Control del producto no conform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4 Análisis de da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5 Mejor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El estándar internacional posee otras tres partes con carácter de reportes técnicos (aún no son estándares propiamente tales)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2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2: External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3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3: Internal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4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4: Quality in use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560" y="1904760"/>
            <a:ext cx="8569080" cy="476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55720" y="2275200"/>
            <a:ext cx="292860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Necesidad de calid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del usua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774360" y="4047120"/>
            <a:ext cx="286452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Requisit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x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853920" y="5845680"/>
            <a:ext cx="286452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Requisit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927120" y="2137320"/>
            <a:ext cx="119412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n u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6977520" y="3897720"/>
            <a:ext cx="117756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x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7007400" y="5839200"/>
            <a:ext cx="112860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4170240" y="252900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4143240" y="426096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143240" y="605484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7510320" y="2946240"/>
            <a:ext cx="0" cy="843120"/>
          </a:xfrm>
          <a:prstGeom prst="line">
            <a:avLst/>
          </a:prstGeom>
          <a:ln w="38160">
            <a:solidFill>
              <a:srgbClr val="18869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7516800" y="4802040"/>
            <a:ext cx="0" cy="843120"/>
          </a:xfrm>
          <a:prstGeom prst="line">
            <a:avLst/>
          </a:prstGeom>
          <a:ln w="38160">
            <a:solidFill>
              <a:srgbClr val="18869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2271600" y="3078000"/>
            <a:ext cx="0" cy="622440"/>
          </a:xfrm>
          <a:prstGeom prst="line">
            <a:avLst/>
          </a:prstGeom>
          <a:ln w="38160">
            <a:solidFill>
              <a:srgbClr val="80b5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ISO/IEC 9126: 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Calidad en el ciclo de vida del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5" name=""/>
          <p:cNvSpPr/>
          <p:nvPr/>
        </p:nvSpPr>
        <p:spPr>
          <a:xfrm>
            <a:off x="4249080" y="264600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Uso y retroalimen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4816440" y="4365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Valid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858560" y="613836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Verif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250560" y="3132000"/>
            <a:ext cx="18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Contribuye en l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especificación 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4915080"/>
            <a:ext cx="18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Contribuye en l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especificación 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7542000" y="328896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Ind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7548120" y="50353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Ind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276640" y="4875120"/>
            <a:ext cx="0" cy="622440"/>
          </a:xfrm>
          <a:prstGeom prst="line">
            <a:avLst/>
          </a:prstGeom>
          <a:ln w="38160">
            <a:solidFill>
              <a:srgbClr val="80b5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Ámbitos de uso de 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Validar la integridad de una definición de requisitos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requisitos del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objetivos del diseño del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objetivos de la prueba de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l criterio de aseguramiento de calidad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l criterio de aceptación para un producto de software complet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iorizar los recursos en los aspectos más importantes en términos de calidad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tc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1905120"/>
          <a:ext cx="8229600" cy="4929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decu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Preci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Interoperabilidad (compatibilida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Seguridad de acce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funciona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Efici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nejo del tiempo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nejo de los recurs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efici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Confi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dure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Tolerancia a fall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Recupe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confi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Manteni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análi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para introducir camb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Es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prueb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manteni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Facilidad de u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comprensión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aprendizaje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Operatividad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tra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facilidad de u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Port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daptabil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Instalabil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-exist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mpatibilidad o facilidad de reemplaz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por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1) Funciona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ntregar funciones que cumplan con las necesidades explícitas e implícitas cuando el software se usa bajo condiciones específic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Las funciones implementadas están adecuadas a los objetivos del software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Las tareas ejecutadas por las funciones existentes generan resultados deseados o correcto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2) Confia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vitar fallas como resultado de errores de software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l software presenta fallas en uso normal de este y con qué frecuencia ‘se cae’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Cómo se comporta el software frente a un uso anormal del software, por ejemplo, ingresando valores inválidos, realizando acciones incorrecta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n caso de producirse una falla, se recupera rápidamente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3) Facilidad de us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fácil de comprender, aprender y usar por el usuario y ser atractivo para él, bajo condiciones específicas de us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Un usuario nuevo puede comprender el sentido del software para empezar a usarl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se requieren manuales para usarl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4) Eficiencia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ntregar un desempeño apropiado, en relación con la cantidad de recursos utilizados, bajo condiciones establecid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Cuánto demora el despliegue de la información de consulta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5) Manteni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modificado. Estas modificaciones pueden incluir correcciones, mejoras o adaptaciones del software a los cambios en el ambiente, en requisitos y en especificaciones funcionales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Existe documentación que facilite entender el software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El código está auto documentad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6) Porta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transferido desde un ambiente a otro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xisten manuales de instalación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stán identificados todos los archivos, documentos, etc. para reinstalar el software en otro computador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1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Generalidad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La Organización debe planificar e implementar los procesos de seguimiento, medición, análisis y mejora necesarios para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Demostrar la conformidad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Asegurarse de la conformidad d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Mejorar continuamente la eficacia d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para calidad en us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 la capacidad del producto de software para permitir a usuarios específicos lograr objetivos con efectividad, productividad, seguridad de uso y satisfacció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mide en términos de los resultados del uso del software más que de las propiedades del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SO/IEC 9126 propone 4 atributos de calidad en uso, estos so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fectiv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ductiv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guridad de uso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atisfacción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Perfil de Calidad usando </a:t>
            </a:r>
            <a:br>
              <a:rPr sz="3600"/>
            </a:b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n perfil de calidad permite focalizar la definición o evaluación de calidad de un producto de software en los criterios de calidad más importantes según el contexto requerido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un perfil están definidos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atributos y sub características relevantes para el producto de software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as métricas que se usarán en la medición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rangos de aceptación de esas métricas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rebuchet MS"/>
              </a:rPr>
              <a:t>Ejercicio 9. Perfil de Calidad para su empresa ejempl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Qué atributos / sub.-atributos son los más relevantes desde el punto de vista de los diferentes interesados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2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Seguimiento y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Realice el seguimiento de la información relativa a la percepción del cliente con respecto al cumplimiento de sus requisitos por parte de la Organización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A intervalos planificados, lleve a cabo auditorías internas para determinar si el SGC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Es conforme con el plan de 7.1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Cumple con la Norma y los requisitos establecidos en el SGC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Se ha implementado y se mantiene de manera eficaz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2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Seguimiento y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Aplique métodos apropiados para el seguimiento, y cuando sea aplicable, la medición de los procesos del SGC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Mida y haga un seguimiento de las características del producto para verificar que se cumplen los requisitos del mismo, en la etapas apropiadas, y según lo planificado en 7.1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3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Control del producto no conform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La Organización debe asegurarse de que el producto que no sea conforme con los requisitos, se identifica y se controla para prevenir su uso o entrega no intencional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¿Qué hacer con ellos?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liminar la no conformidad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utorizar su uso, liberación o aceptación (por el cliente o alguna autoridad pertinente)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edir su uso o aplicación original previst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4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nálisis de dat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La Organización debe analizar los datos producidos para demostrar la idoneidad y eficacia, y evaluar dónde puede realizarse la mejora continua de su SGC. El análisis debe proporcionar información sobr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satisfacción del client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conformidad con los requisitos d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s características y tendencias de los procesos y de los productos, incluyendo las oportunidades para llevar a cabo acciones preventiv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os proveedor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Mejora continu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Mejore continuamente la eficacia del SGC mediante la política, los objetivos, los resultados de las auditorías, el análisis de los datos, las acciones preventivas, correctivas, y las revisiones de la Direcció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Tome acciones para eliminar la causa de las no conformidades para que no vuelvan a ocurr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e acciones para eliminar las causas de no conformidades potenciales para prevenir su ocurrencia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cción correctiv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tomar acciones para eliminar la causa de no conformidades para que no vuelvan a ocurr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revisar las no conformidad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sus caus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valuar acciones para que no se repita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y tomar ac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ar los resultados de las acciones tomad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visar dichas ac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jahurtado</cp:lastModifiedBy>
  <dcterms:modified xsi:type="dcterms:W3CDTF">2008-10-06T03:07:09Z</dcterms:modified>
  <cp:revision>519</cp:revision>
  <dc:subject/>
  <dc:title>ISO 9000 aplicado a software</dc:title>
</cp:coreProperties>
</file>