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6E44-F6E7-4BF5-9E06-EC5D2F6B4D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AA34-7CF8-4908-8F84-1A4883B6A6D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5FA5-4742-46C2-A690-8E9374B9BF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4A6C-A52A-438E-9C50-367008F216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0D0-40C1-4918-A306-D6DA637F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DF83-3321-4EF3-BCC5-DFC6471A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A91-5DB5-4D56-B40F-A31D53CC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90B-65FD-4541-9B7E-4F26DB67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7C22B-B35D-463C-8B9C-3981BA9A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CD1E9-B531-4899-A7A4-0A04E6A5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1CD09-440E-4E65-93E1-51B7ED59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E6838-ABF7-4266-AE35-CE2DDDC2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21E41-983C-4E61-ADE3-782DE6B8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64675-6988-441D-8FA9-4E406790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8E608-2EC9-49E8-9C25-870D3A21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4318-133D-44EE-BBBB-C816FC3D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EA7A1-EE30-4B90-8073-DE4F6AAB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82671-A249-4DE2-815C-401E7632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ED801-9DCB-4133-928D-D0DF0B27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6A89F-EEA7-4474-A921-4BA4B690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77906-EE18-4D09-AEC8-3816C6B1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9685-50C1-4A08-9A3A-72594C75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E7A-78C9-42E9-84AA-4E3DBF72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B01-701D-4E1C-8020-232F7FEE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5AE4-60E5-4FC9-B631-0BE94E5B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4AF-CACB-4E3A-82CB-CCF4DD2A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CA0-FAC7-4226-8A4E-014C312B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7DF-BEC1-458B-A600-D71FA258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AF39-CBF4-4EEE-A8F4-87B40B0B3734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F5C9-18EE-4B4B-8610-C750C92265D5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0"/>
            <a:ext cx="87138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F798-6200-493D-9828-22B81EDB4CA9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0DC5-8496-4DB1-98D8-5AEBEBE157C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preven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acciones (apropiadas)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determinar no conformidades potenciales y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prevenir ocurrencia de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resultados de l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a considerar para control de producto no-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a y documente procedimientos para controlar y asegurar el uso no intencionado o instalación de productos no conformes, cuando éstos son identific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que y separe productos no conform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ocumente y registre todas las instancias de no conform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tifique a todos los interesados en las no conformidades, incluyendo e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Riesgo de no revisar el uso o reparación propues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 realizar una revisión de problemas con el cliente cuando se requieren revisiones por contrato, es una violación al contra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TA: Este requerimiento no es aplicable a menos que aparezca en el contra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las acciones correctivas no son verificadas, la deficiencia puede persistir aun cuando se perciba como resuelt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acciones correctivas por si mismas pueden introducir nuevos defec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sobre las acciones correctiva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se todas las fuentes de información sobre no conformidades para eliminar las posibles caus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fina los procedimientos a seguir para la prevención efectiv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jecute las acciones y asegúrese de que son ef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administración debe involucrarse en las acciones preventivas ya que se puede requerir recursos especial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termine cuáles problemas son candidatos para acciones preven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i las acciones preventivas no son iniciadas y no se asegura su efectividad, no se podrá prevenir la ocurrencia de la no conformidad con otro client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Modelo de desarrollo de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9 procesos: 5 de Ingeniería de Software y 4 de Gestión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dquisición y análisis de requerimientos (SR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nálisis y diseño de arquitectura (SAA&amp;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mplementación de componentes (SCI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Testing de componentes (SCT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stalación de software (SC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Planificación de proyectos (SPP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Seguimiento y control de proyectos (SPT&amp;O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Gestión de configuración (SCM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seguramiento de calidad (SQ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7090200" y="2965680"/>
            <a:ext cx="1911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Ingeniería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6933960" y="266400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7246080" y="5020920"/>
            <a:ext cx="175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Gestión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6933960" y="46483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Proceso de Análisis y adquisición de requerimientos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1981080"/>
            <a:ext cx="6172200" cy="30492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ahoma"/>
              </a:rPr>
              <a:t>Análisis y adquisición de requerimientos (S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2362320"/>
            <a:ext cx="6172200" cy="520200"/>
          </a:xfrm>
          <a:prstGeom prst="rect">
            <a:avLst/>
          </a:prstGeom>
          <a:solidFill>
            <a:srgbClr val="ffffcc">
              <a:alpha val="5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[</a:t>
            </a:r>
            <a:r>
              <a:rPr b="1" lang="es-ES_tradnl" sz="1400" spc="-1" strike="noStrike">
                <a:solidFill>
                  <a:srgbClr val="996633"/>
                </a:solidFill>
                <a:latin typeface="Tahoma"/>
              </a:rPr>
              <a:t>IR</a:t>
            </a: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] Determinar y establecer un conjunto completo, consistente y coherente de requisitos exigidos a un software dentro de un proyect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79400" y="3068640"/>
            <a:ext cx="6132240" cy="2722320"/>
            <a:chOff x="1679400" y="3068640"/>
            <a:chExt cx="6132240" cy="2722320"/>
          </a:xfrm>
        </p:grpSpPr>
        <p:sp>
          <p:nvSpPr>
            <p:cNvPr id="136" name=""/>
            <p:cNvSpPr/>
            <p:nvPr/>
          </p:nvSpPr>
          <p:spPr>
            <a:xfrm>
              <a:off x="1679400" y="4972320"/>
              <a:ext cx="1468800" cy="711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99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7160" y="5013720"/>
              <a:ext cx="13730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6633"/>
                  </a:solidFill>
                  <a:latin typeface="Arial"/>
                </a:rPr>
                <a:t>Ingreso de requisitos a la línea de bas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435040" y="3238920"/>
              <a:ext cx="1468800" cy="709560"/>
              <a:chOff x="2435040" y="3238920"/>
              <a:chExt cx="1468800" cy="709560"/>
            </a:xfrm>
          </p:grpSpPr>
          <p:sp>
            <p:nvSpPr>
              <p:cNvPr id="139" name=""/>
              <p:cNvSpPr/>
              <p:nvPr/>
            </p:nvSpPr>
            <p:spPr>
              <a:xfrm>
                <a:off x="2435040" y="323892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03800" y="339480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Recolec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006960" y="3286440"/>
              <a:ext cx="1468800" cy="709200"/>
              <a:chOff x="6006960" y="3286440"/>
              <a:chExt cx="1468800" cy="709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006960" y="3286440"/>
                <a:ext cx="1468800" cy="70920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75720" y="3441960"/>
                <a:ext cx="137304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Análisis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270760" y="5081400"/>
              <a:ext cx="1468800" cy="709560"/>
              <a:chOff x="5270760" y="5081400"/>
              <a:chExt cx="1468800" cy="709560"/>
            </a:xfrm>
          </p:grpSpPr>
          <p:sp>
            <p:nvSpPr>
              <p:cNvPr id="145" name=""/>
              <p:cNvSpPr/>
              <p:nvPr/>
            </p:nvSpPr>
            <p:spPr>
              <a:xfrm>
                <a:off x="5270760" y="508140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39520" y="523728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Negocia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957480" y="3535920"/>
              <a:ext cx="200304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24400" y="3198960"/>
              <a:ext cx="87768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389640" y="4080600"/>
              <a:ext cx="383400" cy="98100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83680" y="4241520"/>
              <a:ext cx="122796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infactibles, inconsistentes o incoherent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159600" y="4016160"/>
              <a:ext cx="398880" cy="9345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41320" y="4319640"/>
              <a:ext cx="8766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208320" y="5429160"/>
              <a:ext cx="198900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486520" y="3991320"/>
              <a:ext cx="439920" cy="9208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9400" y="4118760"/>
              <a:ext cx="101088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Incompletitud de la líne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de bas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828520" y="3844440"/>
              <a:ext cx="3195720" cy="11494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98000" y="4040280"/>
              <a:ext cx="8089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63520" y="5029200"/>
              <a:ext cx="808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74040" y="3068640"/>
              <a:ext cx="343800" cy="2865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539040" y="5715000"/>
            <a:ext cx="216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Fuente: Modelo EVA – CEI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. Brav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8: Defina el proceso de adquisición y análisis de requerimientos en su empresa piloto 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1844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Use el patrón de proceso dado en clase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8: Desarrolle un procedimiento para la recolección de requerimiento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no conformidades potenciales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acciones (apropiadas) para eliminar sus causas y prevenir su ocurrenci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es un estándar de calidad de productos compuesto por 4 part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ISO/IEC 9126 Parte 1 describe un modelo de dos partes para calidad de productos de software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a) calidad interna y externa, y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b) calidad en us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objetivo es abarcar todos los aspectos que pueden afectar a la calidad de los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xiste un equivalente chileno - NCh 2812-1.c2002 - que es una homologación idéntica de la norma original hecha por el IN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8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1 Generalidad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2 Seguimiento y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3 Control del producto no conform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4 Análisis de da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estándar internacional posee otras tres partes con carácter de reportes técnicos (aún no son estándares propiamente tales)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2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2: Ex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3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3: In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4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4: Quality in use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76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55720" y="2275200"/>
            <a:ext cx="292860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Necesidad de 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del usu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74360" y="404712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53920" y="584568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927120" y="2137320"/>
            <a:ext cx="119412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n u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6977520" y="3897720"/>
            <a:ext cx="117756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7007400" y="5839200"/>
            <a:ext cx="112860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4170240" y="252900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4143240" y="426096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143240" y="605484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7510320" y="29462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7516800" y="48020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2271600" y="307800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: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n el ciclo de vida del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"/>
          <p:cNvSpPr/>
          <p:nvPr/>
        </p:nvSpPr>
        <p:spPr>
          <a:xfrm>
            <a:off x="4249080" y="2646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Uso y retroalimen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4816440" y="4365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alid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858560" y="613836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er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50560" y="313200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91508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7542000" y="32889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7548120" y="50353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276640" y="487512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Ámbitos de uso de 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Validar la integridad de una definición de requisitos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requisitos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l diseño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 la prueba de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seguramiento de calidad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ceptación para un producto de software comple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iorizar los recursos en los aspectos más importantes en términos de calidad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905120"/>
          <a:ext cx="8229600" cy="4929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dure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tr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apt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stal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1) Funciona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funciones que cumplan con las necesidades explícitas e implícitas cuando el software se usa bajo condiciones específic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funciones implementadas están adecuadas a los objetivos del softwar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tareas ejecutadas por las funciones existentes generan resultados deseados o correcto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2) Confi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vitar fallas como resultado de errores de softwar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l software presenta fallas en uso normal de este y con qué frecuencia ‘se cae’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ómo se comporta el software frente a un uso anormal del software, por ejemplo, ingresando valores inválidos, realizando acciones incorrec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n caso de producirse una falla, se recupera rápidament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3) Facilidad de us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fácil de comprender, aprender y usar por el usuario y ser atractivo para él, bajo condiciones específicas de us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Un usuario nuevo puede comprender el sentido del software para empezar 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se requieren manuales par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4) Eficiencia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un desempeño apropiado, en relación con la cantidad de recursos utilizados, bajo condiciones establecid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uánto demora el despliegue de la información de consul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5) Manteni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modificado. Estas modificaciones pueden incluir correcciones, mejoras o adaptaciones del software a los cambios en el ambiente, en requisitos y en especificaciones funcionale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xiste documentación que facilite entender el software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l código está auto documentad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6) Port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transferido desde un ambiente a otr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xisten manuales de instalación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stán identificados todos los archivos, documentos, etc. para reinstalar el software en otro computador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1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Generalidad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La Organización debe planificar e implementar los procesos de seguimiento, medición, análisis y mejora necesarios par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Demostrar la conformidad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Asegurarse de la conformidad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Mejorar continuamente la eficacia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para calidad en us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 la capacidad del producto de software para permitir a usuarios específicos lograr objetivos con efectividad, productividad, seguridad de uso y satisfa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mide en términos de los resultados del uso del software más que de las propiedades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propone 4 atributos de calidad en uso, estos so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fe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du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guridad de us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atisfac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erfil de Calidad usando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 perfil de calidad permite focalizar la definición o evaluación de calidad de un producto de software en los criterios de calidad más importantes según el contexto requerido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un perfil están definido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atributos y sub características relevantes para el producto de software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as métricas que se usarán en la medición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rangos de aceptación de esas métricas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9. Perfil de Calidad para su empresa ejempl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atributos / sub.-atributos son los más relevantes desde el punto de vista de los diferentes interesados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Realice el seguimiento de la información relativa a la percepción del cliente con respecto al cumplimiento de sus requisitos por parte de la Organización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A intervalos planificados, lleve a cabo auditorías internas para determinar si el SGC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Es conforme con el plan de 7.1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Cumple con la Norma y los requisitos establecidos en el SGC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Se ha implementado y se mantiene de manera eficaz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Aplique métodos apropiados para el seguimiento, y cuando sea aplicable, la medición de los procesos del SGC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Mida y haga un seguimiento de las características del producto para verificar que se cumplen los requisitos del mismo, en la etapas apropiadas, y según lo planificado en 7.1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Control del producto no 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La Organización debe asegurarse de que el producto que no sea conforme con los requisitos, se identifica y se controla para prevenir su uso o entrega no intencional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¿Qué hacer con ellos?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liminar la no conform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utorizar su uso, liberación o aceptación (por el cliente o alguna autoridad pertinente)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edir su uso o aplicación original previst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4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nálisis de dat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a Organización debe analizar los datos producidos para demostrar la idoneidad y eficacia, y evaluar dónde puede realizarse la mejora continua de su SGC. El análisis debe proporcionar información sobr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satisfacción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conformidad con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s características y tendencias de los procesos y de los productos, incluyendo las oportunidades para llevar a cabo acciones preven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os proveedor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ejore continuamente la eficacia del SGC mediante la política, los objetivos, los resultados de las auditorías, el análisis de los datos, las acciones preventivas, correctivas, y las revisiones de la Dire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Tome acciones para eliminar la causa de las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e acciones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correc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tomar acciones para eliminar la causa de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revisar las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que no se repita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los resultados de las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dich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jahurtado</cp:lastModifiedBy>
  <dcterms:modified xsi:type="dcterms:W3CDTF">2008-10-06T03:07:09Z</dcterms:modified>
  <cp:revision>519</cp:revision>
  <dc:subject/>
  <dc:title>ISO 9000 aplicado a software</dc:title>
</cp:coreProperties>
</file>