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6F77-A9BF-4049-872B-1093DCBAA3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E695-B761-4499-A542-4929B0FA73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00BC-7E9E-483F-9575-B6E4AC182B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6E86-0580-4E97-AF39-339003C9BB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05E-6DDC-4EA9-819B-739ECD0B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DB5-BB74-45AC-8EFC-57C7964D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4F2-8AFE-449D-A16E-955386B7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CF5-A856-4FD8-ABC5-5D3ECFA7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64CDC-3524-4FF4-B575-599E175E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E9E80-502D-4ACE-B99C-3E9EB0D0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60B03-DB87-4D47-AB9D-0B2C2B2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6E540-E42A-4929-952F-426E5136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E700D-AFC3-4A1F-8E97-8C9AA574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A2FD8-584D-428D-B957-87146A4F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82676-13B1-465E-B8E2-BF123F1C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5AC-754E-4FB3-8AD6-154251BE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27FA4-5F4F-429B-9098-557C6F2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C236-0CA2-4968-9BF7-C1F9E6F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E7674-C28B-4D96-B58C-A00FE11A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09695-BC64-4C4E-9CD1-65EA2D63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8FA44-09DE-4BB7-AC4E-2D311FDC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DB9-7FEC-41B1-B1B8-AC77E91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F85-3F5D-4C27-82B7-DB52D11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87B-C162-4BEA-B44F-A90B620B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5CA-F25E-4F1A-9E2B-BCC0FB7B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8AF-DC51-40F8-8EC0-FC2ADE9F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F41-DB39-4E5F-BECF-E1119409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9C7-0C6B-4B3F-89CC-75F41BDE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C6E9-B8F5-4F8B-BE7F-22E39C822828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F571-ED28-4A40-A2DA-466ADEF2DC12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4DD0-9EB6-4CD3-B807-F0124006FB1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A70E-F4F0-4E89-ABA8-3AC6F215460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36" name="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fina el proceso de adquisición y análisis de requerimientos en su empresa piloto 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Use el patrón de proceso dado en clase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recolec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0512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9. Perfil de Calidad para su empresa ejempl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atributos / sub.-atributos son los más relevantes desde el punto de vista de los diferentes interesados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6T03:07:09Z</dcterms:modified>
  <cp:revision>519</cp:revision>
  <dc:subject/>
  <dc:title>ISO 9000 aplicado a software</dc:title>
</cp:coreProperties>
</file>