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E08B-039F-4667-8D53-367C46DE29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14E6-7E07-44C9-9877-339EC6035E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5AAB-D699-48BE-BE6C-2320F7B108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D622-879C-4338-8AA5-AA019CF232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A1F-26FC-46B8-9F44-CAF4440A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D59-2247-4E0B-BE1F-7787B69C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582-CDF3-4B01-B8DE-033414EC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507-7281-46A7-B5E9-56F0E017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9DB46-EF92-498A-8C10-C3F6541D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8E624-27BE-4E8C-A2B4-C88D462C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30972-4362-4538-AF63-55D2B934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17456-D3CB-4E87-8A98-7523D929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933A4-EF04-4997-876D-05AEA859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D2404-E4B7-4781-9D72-DEB94D28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AC261-7B3E-4613-A113-F7783F00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9D3-0447-41CF-9AE0-5C81CB64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E6B25-B1C7-4CA1-A9FD-F02158FB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277E5-7CF8-4831-9A6B-CF7C852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D748A-16CA-4702-8CE9-522DCCF2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3A4BE-53D3-46ED-9E56-4276077C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0B0E9-BD36-4B79-A346-2C5D5346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9AB-930C-40C0-AE29-F97E5706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DC5-D1F4-4056-8003-D42E1B8A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E09-F244-4E5C-A59D-F44EDC22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F68-B4BB-4CB3-8D58-4D5A367A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53C-DF4D-4991-BEB0-BC1AD45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226-D7E1-4244-9D7C-AF04109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7FA-4BBF-4557-ACFD-029C77E7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BD41-618B-4525-A522-A386F9FB7B43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9AB2-2CF5-4EA1-A3E7-1DBBF21E12D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353-D078-4317-88DD-A4C3DEFCA462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BDB0-3966-40F4-8ABA-CAF9057CD11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36" name="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fina el proceso de adquisición y análisis de requerimientos en su empresa piloto 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Use el patrón de proceso dado en clase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recolec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05120"/>
          <a:ext cx="8229600" cy="49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9. Perfil de Calidad para su empresa ejempl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atributos / sub.-atributos son los más relevantes desde el punto de vista de los diferentes interesados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6T03:07:09Z</dcterms:modified>
  <cp:revision>519</cp:revision>
  <dc:subject/>
  <dc:title>ISO 9000 aplicado a software</dc:title>
</cp:coreProperties>
</file>