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44B3-72FB-4A05-A65E-3E24712BA04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26CC-70B5-4292-86E3-6AB3DE5B88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F7A6-8E6A-4DA1-AC26-E815D05F258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2000" cy="3632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5AD5-9C59-4A6C-BAFC-81A3B067C58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6840" y="72864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5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9E2-580B-4ECD-84F2-6C9AE0CC0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E47-4377-4106-A85C-6EAE0A36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F64-D04F-401E-86A9-685473D3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F04E-1571-4170-845E-D76C4F84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13D72-6646-4323-AD37-5F6F59662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5D8CD-85A0-4068-8841-1E121DBA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B55220-FF83-4293-917A-3D4604C5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C119D-5AED-44A2-A415-5BA9E840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9839C-E3D3-403D-AFDD-1C996287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EA71E-A6C1-467A-969A-270BEAC6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E17A2-935B-4D7F-AF6C-8F130AD3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6367-6E3D-45A5-9C83-5FA3FFF5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8BD60-832A-431D-93A2-677BF100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1A104-0C9D-4DCB-A518-198B50C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3EBFD-F7F9-47A8-BFFA-1C771B6B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F7243-E21C-4369-995F-FA4F1BBB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4FC53-30EE-4DCA-9A31-44E3BDB2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5BC5-6F03-4617-B0CD-BB2CB616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6E2-B2AD-42D9-B8B2-C3F5217B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94EC-0955-4F53-862C-1E286D5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078E-D005-4ADE-9C5A-29B5F669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D1F5-7A11-42F9-8AD3-795AD9DB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564-EFD5-4CBC-A806-DB206817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AA6-0C19-4D92-9867-5A29142B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46DE-F94D-4EEA-89C2-599422A43616}" type="slidenum">
              <a:rPr b="1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8E59-F5C9-468D-8BCD-5F4891E47BB3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0"/>
            <a:ext cx="87138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84313"/>
                </a:srgbClr>
              </a:gs>
              <a:gs pos="100000">
                <a:srgbClr val="ffffff">
                  <a:alpha val="84313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12ED-0908-46B7-85AA-1B11D9513F3C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E0B23-C7BF-486E-AAC3-84E6642F08F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33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preven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acciones (apropiadas)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determinar no conformidades potenciales y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prevenir ocurrencia de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resultados de l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a considerar para control de producto no-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procedimientos para controlar y asegurar el uso no intencionado o instalación de productos no conformes, cuando éstos son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que y separe productos no conforme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ocumente y registre todas las instancias de no conform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tifique a todos los interesados en las no conformidades, incluyendo el client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Riesgo de no revisar el uso o reparación propues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No realizar una revisión de problemas con el cliente cuando se requieren revisiones por contrato, es una violación al contra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TA: Este requerimiento no es aplicable a menos que aparezca en el contra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i las acciones correctivas no son verificadas, la deficiencia puede persistir aun cuando se perciba como resuelt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acciones correctivas por si mismas pueden introducir nuevos defect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Sugerencias sobre las acciones correctiv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Use todas las fuentes de información sobre no conformidades para eliminar las posibles caus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fina los procedimientos a seguir para la prevención efectiva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jecute las acciones y asegúrese de que son efec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administración debe involucrarse en las acciones preventivas ya que se puede requerir recursos especiale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Determine cuáles problemas son candidatos para acciones preventivas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i las acciones preventivas no son iniciadas y no se asegura su efectividad, no se podrá prevenir la ocurrencia de la no conformidad con otro cliente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Modelo de desarrollo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9 procesos: 5 de Ingeniería de Software y 4 de Gestión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dquisición y análisis de requerimientos (SR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nálisis y diseño de arquitectura (SAA&amp;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mplementación de componentes (SCI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Testing de componentes (SCT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Instalación de software (SCD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Planificación de proyectos (SPP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Seguimiento y control de proyectos (SPT&amp;O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Gestión de configuración (SCM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Aseguramiento de calidad (SQA)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90200" y="2965680"/>
            <a:ext cx="1911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Ingeniería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933960" y="266400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7246080" y="5020920"/>
            <a:ext cx="175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6633"/>
                </a:solidFill>
                <a:latin typeface="Tahoma"/>
              </a:rPr>
              <a:t>Procesos de Gestión de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933960" y="4648320"/>
            <a:ext cx="228600" cy="1676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2"/>
                </a:lnTo>
                <a:cubicBezTo>
                  <a:pt x="10800" y="10342"/>
                  <a:pt x="5400" y="11242"/>
                  <a:pt x="0" y="11242"/>
                </a:cubicBezTo>
                <a:cubicBezTo>
                  <a:pt x="5400" y="11242"/>
                  <a:pt x="10800" y="12142"/>
                  <a:pt x="10800" y="1304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Proceso de Análisis y adquisición de requerimientos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1981080"/>
            <a:ext cx="6172200" cy="30492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ahoma"/>
              </a:rPr>
              <a:t>Análisis y adquisición de requerimientos (S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362320"/>
            <a:ext cx="6172200" cy="520200"/>
          </a:xfrm>
          <a:prstGeom prst="rect">
            <a:avLst/>
          </a:prstGeom>
          <a:solidFill>
            <a:srgbClr val="ffffcc">
              <a:alpha val="50000"/>
            </a:srgbClr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[</a:t>
            </a:r>
            <a:r>
              <a:rPr b="1" lang="es-ES_tradnl" sz="1400" spc="-1" strike="noStrike">
                <a:solidFill>
                  <a:srgbClr val="996633"/>
                </a:solidFill>
                <a:latin typeface="Tahoma"/>
              </a:rPr>
              <a:t>IR</a:t>
            </a:r>
            <a:r>
              <a:rPr b="0" lang="es-ES_tradnl" sz="1400" spc="-1" strike="noStrike">
                <a:solidFill>
                  <a:srgbClr val="996633"/>
                </a:solidFill>
                <a:latin typeface="Tahoma"/>
              </a:rPr>
              <a:t>] Determinar y establecer un conjunto completo, consistente y coherente de requisitos exigidos a un software dentro de un proyect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79400" y="3068640"/>
            <a:ext cx="6132240" cy="2722320"/>
            <a:chOff x="1679400" y="3068640"/>
            <a:chExt cx="6132240" cy="2722320"/>
          </a:xfrm>
        </p:grpSpPr>
        <p:sp>
          <p:nvSpPr>
            <p:cNvPr id="136" name=""/>
            <p:cNvSpPr/>
            <p:nvPr/>
          </p:nvSpPr>
          <p:spPr>
            <a:xfrm>
              <a:off x="1679400" y="4972320"/>
              <a:ext cx="1468800" cy="711000"/>
            </a:xfrm>
            <a:prstGeom prst="ellipse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99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7160" y="5013720"/>
              <a:ext cx="13730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996633"/>
                  </a:solidFill>
                  <a:latin typeface="Arial"/>
                </a:rPr>
                <a:t>Ingreso de requisitos a la línea de bas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2435040" y="3238920"/>
              <a:ext cx="1468800" cy="709560"/>
              <a:chOff x="2435040" y="3238920"/>
              <a:chExt cx="1468800" cy="7095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35040" y="323892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03800" y="339480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Recolec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6006960" y="3286440"/>
              <a:ext cx="1468800" cy="709200"/>
              <a:chOff x="6006960" y="3286440"/>
              <a:chExt cx="1468800" cy="709200"/>
            </a:xfrm>
          </p:grpSpPr>
          <p:sp>
            <p:nvSpPr>
              <p:cNvPr id="142" name=""/>
              <p:cNvSpPr/>
              <p:nvPr/>
            </p:nvSpPr>
            <p:spPr>
              <a:xfrm>
                <a:off x="6006960" y="3286440"/>
                <a:ext cx="1468800" cy="70920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075720" y="3441960"/>
                <a:ext cx="137304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Análisis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270760" y="5081400"/>
              <a:ext cx="1468800" cy="709560"/>
              <a:chOff x="5270760" y="5081400"/>
              <a:chExt cx="1468800" cy="709560"/>
            </a:xfrm>
          </p:grpSpPr>
          <p:sp>
            <p:nvSpPr>
              <p:cNvPr id="145" name=""/>
              <p:cNvSpPr/>
              <p:nvPr/>
            </p:nvSpPr>
            <p:spPr>
              <a:xfrm>
                <a:off x="5270760" y="5081400"/>
                <a:ext cx="1468800" cy="709560"/>
              </a:xfrm>
              <a:prstGeom prst="ellipse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99"/>
                  </a:gs>
                </a:gsLst>
                <a:lin ang="13500000"/>
              </a:gradFill>
              <a:ln w="64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39520" y="5237280"/>
                <a:ext cx="1373040" cy="52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996633"/>
                    </a:solidFill>
                    <a:latin typeface="Arial"/>
                  </a:rPr>
                  <a:t>Negociación de requisitos</a:t>
                </a:r>
                <a:endParaRPr b="0" lang="en-US" sz="1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957480" y="3535920"/>
              <a:ext cx="200304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24400" y="3198960"/>
              <a:ext cx="87768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6389640" y="4080600"/>
              <a:ext cx="383400" cy="98100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4241520"/>
              <a:ext cx="122796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infactibles, inconsistentes o incoherente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159600" y="4016160"/>
              <a:ext cx="398880" cy="93456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41320" y="4319640"/>
              <a:ext cx="876600" cy="3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expresad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208320" y="5429160"/>
              <a:ext cx="1989000" cy="1512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2486520" y="3991320"/>
              <a:ext cx="439920" cy="9208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79400" y="4118760"/>
              <a:ext cx="101088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Incompletitud de la línea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de base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28520" y="3844440"/>
              <a:ext cx="3195720" cy="1149480"/>
            </a:xfrm>
            <a:prstGeom prst="line">
              <a:avLst/>
            </a:prstGeom>
            <a:ln w="31680">
              <a:solidFill>
                <a:srgbClr val="80808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98000" y="4040280"/>
              <a:ext cx="80892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63520" y="5029200"/>
              <a:ext cx="808920" cy="3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99"/>
                  </a:solidFill>
                  <a:latin typeface="Arial"/>
                </a:rPr>
                <a:t>Requisitos completo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74040" y="3068640"/>
              <a:ext cx="343800" cy="2865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539040" y="5715000"/>
            <a:ext cx="216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Fuente: Modelo EVA – CEI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s-ES" sz="1200" spc="-1" strike="noStrike">
                <a:solidFill>
                  <a:srgbClr val="ffffff"/>
                </a:solidFill>
                <a:latin typeface="Tahoma"/>
              </a:rPr>
              <a:t>C. Bravo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fina el proceso de adquisición y análisis de requerimientos en su empresa piloto 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rebuchet MS"/>
              </a:rPr>
              <a:t>Use el patrón de proceso dado en clase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8: Desarrolle un procedimiento para la recolección de requerimiento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no conformidades potenciales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Identifique acciones (apropiadas) para eliminar sus causas y prevenir su ocurrenci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Revisión de ISO 9001:2000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es un estándar de calidad de productos compuesto por 4 partes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ISO/IEC 9126 Parte 1 describe un modelo de dos partes para calidad de productos de software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a) calidad interna y externa, y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00"/>
                </a:solidFill>
                <a:latin typeface="Trebuchet MS"/>
              </a:rPr>
              <a:t>b) calidad en uso. 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l objetivo es abarcar todos los aspectos que pueden afectar a la calidad de los productos de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Trebuchet MS"/>
              </a:rPr>
              <a:t>Existe un equivalente chileno - NCh 2812-1.c2002 - que es una homologación idéntica de la norma original hecha por el IN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El estándar internacional posee otras tres partes con carácter de reportes técnicos (aún no son estándares propiamente tales)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2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2: Ex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3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3: Internal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SO/IEC TR 9126-4 </a:t>
            </a:r>
            <a:r>
              <a:rPr b="0" lang="es-ES" sz="2400" spc="-1" strike="noStrike">
                <a:solidFill>
                  <a:srgbClr val="333300"/>
                </a:solidFill>
                <a:latin typeface="Trebuchet MS"/>
              </a:rPr>
              <a:t>Software engineering - Product quality - Part 4: Quality in use metric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1904760"/>
            <a:ext cx="8569080" cy="476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55720" y="2275200"/>
            <a:ext cx="292860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Necesidad de 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del usu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74360" y="404712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853920" y="5845680"/>
            <a:ext cx="2864520" cy="703800"/>
          </a:xfrm>
          <a:prstGeom prst="rect">
            <a:avLst/>
          </a:prstGeom>
          <a:solidFill>
            <a:srgbClr val="1cb7d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Requisit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927120" y="2137320"/>
            <a:ext cx="119412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n u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6977520" y="3897720"/>
            <a:ext cx="117756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ex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7007400" y="5839200"/>
            <a:ext cx="1128600" cy="703800"/>
          </a:xfrm>
          <a:prstGeom prst="rect">
            <a:avLst/>
          </a:prstGeom>
          <a:solidFill>
            <a:srgbClr val="ffa5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rebuchet MS"/>
              </a:rPr>
              <a:t>intern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4170240" y="252900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4143240" y="426096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4143240" y="6054840"/>
            <a:ext cx="2490840" cy="0"/>
          </a:xfrm>
          <a:prstGeom prst="line">
            <a:avLst/>
          </a:prstGeom>
          <a:ln w="28440">
            <a:solidFill>
              <a:srgbClr val="ff41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7510320" y="29462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16800" y="4802040"/>
            <a:ext cx="0" cy="843120"/>
          </a:xfrm>
          <a:prstGeom prst="line">
            <a:avLst/>
          </a:prstGeom>
          <a:ln w="38160">
            <a:solidFill>
              <a:srgbClr val="18869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71600" y="307800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: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n el ciclo de vida del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249080" y="2646000"/>
            <a:ext cx="24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Uso y retroalimen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4816440" y="4365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alid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858560" y="613836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Verif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50560" y="313200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915080"/>
            <a:ext cx="180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Contribuye en la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especificación d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7542000" y="328896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7548120" y="503532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f3f3f"/>
                </a:solidFill>
                <a:latin typeface="Trebuchet MS"/>
              </a:rPr>
              <a:t>Indic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276640" y="4875120"/>
            <a:ext cx="0" cy="622440"/>
          </a:xfrm>
          <a:prstGeom prst="line">
            <a:avLst/>
          </a:prstGeom>
          <a:ln w="38160">
            <a:solidFill>
              <a:srgbClr val="80b5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Ámbitos de uso de 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Validar la integridad de una definición de requisitos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requisitos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l diseño del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los objetivos de la prueba de software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seguramiento de calidad;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l criterio de aceptación para un producto de software comple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Priorizar los recursos en los aspectos más importantes en términos de calidad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905120"/>
          <a:ext cx="8229600" cy="49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unciona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ecu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Precis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teroperabilidad (compatibilidad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Seguridad de acc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unciona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Eficienc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l tiempo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nejo de los recurso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efici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Confi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Madurez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Tolerancia a fal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Recuperació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confi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Manteni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nális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para introducir camb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Es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prueb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manteni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Facilidad de u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comprensión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Facilidad de aprendizaje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Operatividad.</a:t>
                      </a: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tractiv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facilidad de u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3300"/>
                          </a:solidFill>
                          <a:latin typeface="Trebuchet MS"/>
                        </a:rPr>
                        <a:t>Portabilida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Adapt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Instalabilida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-existenc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mpatibilidad o facilidad de reemplaz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333300"/>
                          </a:solidFill>
                          <a:latin typeface="Trebuchet MS"/>
                        </a:rPr>
                        <a:t>Conformidad de portabili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1) Funciona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funciones que cumplan con las necesidades explícitas e implícitas cuando el software se usa bajo condiciones específic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funciones implementadas están adecuadas a los objetivos del softwar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Las tareas ejecutadas por las funciones existentes generan resultados deseados o correcto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2) Confi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vitar fallas como resultado de errores de software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l software presenta fallas en uso normal de este y con qué frecuencia ‘se cae’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ómo se comporta el software frente a un uso anormal del software, por ejemplo, ingresando valores inválidos, realizando acciones incorrec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n caso de producirse una falla, se recupera rápidamente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3) Facilidad de us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fácil de comprender, aprender y usar por el usuario y ser atractivo para él, bajo condiciones específicas de uso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Un usuario nuevo puede comprender el sentido del software para empezar 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se requieren manuales para usarl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4) Eficiencia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entregar un desempeño apropiado, en relación con la cantidad de recursos utilizados, bajo condiciones establecida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Cuánto demora el despliegue de la información de consultas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5) Manteni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modificado. Estas modificaciones pueden incluir correcciones, mejoras o adaptaciones del software a los cambios en el ambiente, en requisitos y en especificaciones funcionales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xiste documentación que facilite entender el software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¿El código está auto documentado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Atributos de la norma para 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calidad externa e interna</a:t>
            </a: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: </a:t>
            </a:r>
            <a:br>
              <a:rPr sz="3200"/>
            </a:br>
            <a:r>
              <a:rPr b="1" lang="es-MX" sz="3200" spc="-1" strike="noStrike">
                <a:solidFill>
                  <a:srgbClr val="003300"/>
                </a:solidFill>
                <a:latin typeface="Trebuchet MS"/>
              </a:rPr>
              <a:t>(6) Portabilidad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 la capacidad del producto de software para ser transferido desde un ambiente a otr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xisten manuales de instalación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¿Están identificados todos los archivos, documentos, etc. para reinstalar el software en otro computador?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Atributos para calidad en us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s la capacidad del producto de software para permitir a usuarios específicos lograr objetivos con efectividad, productividad, seguridad de uso y satisfa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mide en términos de los resultados del uso del software más que de las propiedades del software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SO/IEC 9126 propone 4 atributos de calidad en uso, estos son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fe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Productividad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eguridad de uso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atisfacción.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Perfil de Calidad usando </a:t>
            </a:r>
            <a:br>
              <a:rPr sz="3600"/>
            </a:br>
            <a:r>
              <a:rPr b="1" lang="es-MX" sz="3600" spc="-1" strike="noStrike">
                <a:solidFill>
                  <a:srgbClr val="003300"/>
                </a:solidFill>
                <a:latin typeface="Trebuchet MS"/>
              </a:rPr>
              <a:t>ISO/IEC 9126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Un perfil de calidad permite focalizar la definición o evaluación de calidad de un producto de software en los criterios de calidad más importantes según el contexto requerido.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un perfil están definid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atributos y sub características relevantes para el producto de software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as métricas que se usarán en la medición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rangos de aceptación de esas métricas.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rebuchet MS"/>
              </a:rPr>
              <a:t>Ejercicio 9. Perfil de Calidad para su empresa ejempl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¿Qué atributos / sub.-atributos son los más relevantes desde el punto de vista de los diferentes interesados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cción correctiv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tomar acciones para eliminar la causa de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revisar las no conformidad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sus caus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valuar acciones para que no se repita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terminar y tomar acciones necesar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gistrar los resultados de las acciones tomad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Revisar dichas ac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jahurtado</cp:lastModifiedBy>
  <dcterms:modified xsi:type="dcterms:W3CDTF">2008-10-06T03:07:09Z</dcterms:modified>
  <cp:revision>519</cp:revision>
  <dc:subject/>
  <dc:title>ISO 9000 aplicado a software</dc:title>
</cp:coreProperties>
</file>