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7C33-A294-45D4-9EE8-A0EF8BFF5E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0CF2-2D51-4E05-82E3-FBD6A6A54BA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AE10-C491-413D-ADB1-3FF9403AF4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06E0-6940-4D64-B018-04AC1C510E2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471F-8401-493C-8859-F6EEB2FD036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0B0D-DEC6-4AAB-B6D9-7E5A596A27B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153C-7849-4CED-AECB-7BF2602389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5E04-8F67-44B7-89AE-87EBF93186F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E9F6-4F81-4CB8-92A4-E1D85175204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51C5-02E9-4188-AC15-ACD5D4B116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9EF1-0038-494E-A59E-1AFE840E41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D319-EC38-4B48-A25C-C24D1E967C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4FD6-0845-47CE-9FFD-BE5D47D27E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3680-F1B7-4A3A-8BBF-75DB028611E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57C7-C491-492D-A2BE-11F736FF6D5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1FC8-12B9-4376-8A0B-48739F350DF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DISCUSS the controlled conditions in light of the definitions given in the standar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FFDA-FCE0-4404-9196-848EE76490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88EA-2F45-4704-AEFF-6A5A0D808A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C4BA-6A2B-4CEE-B6CC-9E327C542F3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32B1-70BC-475B-ABF1-E570944E654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6EF4-9B12-4C39-9412-F7BCB93AF2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9929-06A5-410A-B4BC-B2CD06DBA29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7B76-2D55-4800-9042-976704677F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EC52-7E1F-4039-8653-7D3D430A6C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3759-718E-44C5-B3E1-13DF2B08B20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F283-E670-4080-8F07-55C9BA29463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790B-0CD7-406E-BA86-5744EDD5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5907-F7A6-4753-A28A-765803AA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11D1-F50E-4234-9882-D307EE66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0F08-B9BC-4171-AA1F-D4F3A909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06279-A07F-47E9-82DA-F17FDF1C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9D04B-AE3E-4763-85D0-BB9A041F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BED32-56E4-4C87-B9FF-418D470D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51C04-64EC-4F9E-88ED-6F8CC82B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2EE8E-63AB-4541-878D-4F39F613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EDFF0-BB08-4143-A78D-A90825C4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E5CF1-0846-48DD-9B5B-78227221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C957-08FF-4D05-9761-21CABBCD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3023B-B03D-444E-AD77-4BF16FBE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F9400-89F2-4C78-B2D7-C8905850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8910B-495F-40B5-9C4E-22DCE057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BE4EF-F18A-46EB-A0AE-2AA860B3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DA11F-BAD1-46B5-9D6D-59DE5046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396-E6D2-421A-8BD7-46199FBD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5C37-6278-4340-98EE-C8471B34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7B0D-E8E4-4F57-AAD7-9F081014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F8BF-C75C-4EEC-B478-8C5AFC9A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5C16-8036-4E29-BA34-DCA3FEA4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B4E-3590-44F8-B793-93206D52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8B4-99DF-4FC0-9A47-C572AE13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4D28-A5AA-49A6-9671-C295C6450F7D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98FF-069B-46AF-A4AB-9A45202877C2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0"/>
            <a:ext cx="87138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2836-67D7-4EE5-80C6-D5DF55E5C0F2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7164-C76D-408C-9CEA-354EB04E224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r y controlar el diseño y desarrollo del product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tap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visión, verificación y validación apropi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sponsabilidades y autor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los elementos de entrada para 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funcionales y de desempeñ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legales y reglamentari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de diseños previos similar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tr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ntregar los resultados del diseño y desarrollo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umpliendo requisitos de entrad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roporcionando información adecuada para la compra,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tener o hacer referencia a criterios de acept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specificar características esenciales para uso seguro y corre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las etapas adecuadas, revisar, verificar y validar el diseño y desarrollo según lo planific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Ver si se van a cumplir los requisi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dentificar problemas y proponer accion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y mantener registros de los cambios del diseño y desarroll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cambios deben revisarse, verificarse y validarse, y aprobarse antes de su implementación, evaluando el efecto en las partes constitutivas y en el producto ya entreg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9640" y="1812960"/>
            <a:ext cx="7777440" cy="4419720"/>
          </a:xfrm>
          <a:prstGeom prst="rect">
            <a:avLst/>
          </a:prstGeom>
          <a:solidFill>
            <a:srgbClr val="010199"/>
          </a:solidFill>
          <a:ln w="7632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..    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Diseño y desarrollo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906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lanific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control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2422440"/>
            <a:ext cx="2438640" cy="91440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Elemento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 entrad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79880" y="2879640"/>
            <a:ext cx="234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Etap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Mecanismos de revisión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verificación y 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628000" y="3336840"/>
            <a:ext cx="187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Funcion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Desempeñ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Leg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5796000" y="2968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sulta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5724360" y="3882960"/>
            <a:ext cx="2705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mplimiento d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uisi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Información pa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mpra, produc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prestación del servi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riterios de acep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Formas de uso correc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segur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iberar una vez aproba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2118960" y="4708440"/>
            <a:ext cx="244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uando corresp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o según pla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vis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erific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alid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5640120" y="182736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ntrolar cambi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s entradas para el diseño: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termine cómo las entradas deben ser definidas, documentadas, comunicadas y revisad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resolver las ambigüedades o conflic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administrar las actualizaciones y cambios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s salidas d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segúrese, a través de revisiones, que las sali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relacionan hacia atrás con los requerimient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atisfacen las entradas para las actividades de diseñ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on consistentes con los criterios de salida o acep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ontienen indicaciones para el uso seguro del product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umplen los requisitos regulatori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Riesgo de no planificar y conducir revisiones formal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planifican revisiones formales, no ocurrirán cuando se necesite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llevan a cabo revisiones formales, los problemas serán visibles muy tarde en el ciclo de p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Verificaciones y validaciones del diseñ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ínalas y gestiónelas 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ones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el pla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ben reflejar una visión independiente de aquella del diseñado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inspecciones, revisiones y testing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son aproximaciones a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ón y la Validación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es similar a la prueba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gístrelas incluyendo las medidas tomad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fec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aracterísticas de los proce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pletitud y efectividad de la salida cumpliendo con los requerimien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828720" y="2133720"/>
            <a:ext cx="6264000" cy="4247640"/>
            <a:chOff x="828720" y="2133720"/>
            <a:chExt cx="6264000" cy="4247640"/>
          </a:xfrm>
        </p:grpSpPr>
        <p:pic>
          <p:nvPicPr>
            <p:cNvPr id="181" name="" descr=""/>
            <p:cNvPicPr/>
            <p:nvPr/>
          </p:nvPicPr>
          <p:blipFill>
            <a:blip r:embed="rId2"/>
            <a:srcRect l="7117" t="5223" r="5579" b="0"/>
            <a:stretch/>
          </p:blipFill>
          <p:spPr>
            <a:xfrm>
              <a:off x="828720" y="2133720"/>
              <a:ext cx="6264000" cy="42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585760" y="3929760"/>
              <a:ext cx="1506600" cy="1024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492360" y="1413000"/>
            <a:ext cx="5651280" cy="5255640"/>
            <a:chOff x="3492360" y="1413000"/>
            <a:chExt cx="5651280" cy="5255640"/>
          </a:xfrm>
        </p:grpSpPr>
        <p:sp>
          <p:nvSpPr>
            <p:cNvPr id="184" name=""/>
            <p:cNvSpPr/>
            <p:nvPr/>
          </p:nvSpPr>
          <p:spPr>
            <a:xfrm>
              <a:off x="3492360" y="1413000"/>
              <a:ext cx="5651280" cy="52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3"/>
            <a:srcRect l="17069" t="0" r="18601" b="0"/>
            <a:stretch/>
          </p:blipFill>
          <p:spPr>
            <a:xfrm>
              <a:off x="3735720" y="1499040"/>
              <a:ext cx="5407920" cy="497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Ejemplo 5 – Actividades del desarrollo de los requeimientos en el Tutelkán Reference Proces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jercicio 6. Definiendo procesos 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00"/>
                </a:solidFill>
                <a:latin typeface="Trebuchet MS"/>
              </a:rPr>
              <a:t>Describa las actividades principales del proceso de diseño en su empresa ejempl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00"/>
                </a:solidFill>
                <a:latin typeface="Trebuchet MS"/>
              </a:rPr>
              <a:t>Detalle una de ella en un flujo de trabajo que incluya actividades, roles y productos de trabajo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 (continuación…)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4508640"/>
            <a:ext cx="7993080" cy="2089080"/>
          </a:xfrm>
          <a:prstGeom prst="rect">
            <a:avLst/>
          </a:prstGeom>
          <a:noFill/>
          <a:ln w="763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319640" y="0"/>
            <a:ext cx="4824360" cy="6121440"/>
          </a:xfrm>
          <a:prstGeom prst="wedgeRoundRectCallout">
            <a:avLst>
              <a:gd name="adj1" fmla="val -77046"/>
              <a:gd name="adj2" fmla="val 40143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7.4.1. Proceso de compras =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ffff"/>
                </a:solidFill>
                <a:uFillTx/>
                <a:latin typeface="Tahoma"/>
              </a:rPr>
              <a:t>1) Productos a comprar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=&gt; COTS, software libre, shareware, customized, subcontratos, actividades delegadas por outsourcing, herramientas, hardware, documentación, material de entrenamient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2) Control de la compra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=&gt; contatos, gestionar el acuerdo con el proveedor, gestión del riesgo, evaluación y selección del proveedo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7.4.2. Información de compra =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querimientos o procedimientos para identificarlos, identificación del producto a comprar, estándares, ambiente de operación, requerimientos del personal, requerimientos del SG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Realización del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roduct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4" name=""/>
          <p:cNvSpPr/>
          <p:nvPr/>
        </p:nvSpPr>
        <p:spPr>
          <a:xfrm>
            <a:off x="3413160" y="5985000"/>
            <a:ext cx="1090440" cy="5047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959280" y="3639600"/>
            <a:ext cx="0" cy="4194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141720" y="3639600"/>
            <a:ext cx="0" cy="125748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4480" y="3639600"/>
            <a:ext cx="0" cy="7542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6276960" y="3639960"/>
            <a:ext cx="544680" cy="754200"/>
          </a:xfrm>
          <a:custGeom>
            <a:avLst/>
            <a:gdLst/>
            <a:ahLst/>
            <a:rect l="l" t="t" r="r" b="b"/>
            <a:pathLst>
              <a:path w="96" h="336">
                <a:moveTo>
                  <a:pt x="96" y="336"/>
                </a:move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687240" y="3100320"/>
            <a:ext cx="177192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nálisis de 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2914560" y="3100320"/>
            <a:ext cx="136224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iseño y Desarroll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049720" y="3100320"/>
            <a:ext cx="177192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roducción y P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732040" y="5457960"/>
            <a:ext cx="1636920" cy="527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4. Compr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641600" y="4309920"/>
            <a:ext cx="1220760" cy="454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3822840" y="397512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/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6550200" y="4143240"/>
            <a:ext cx="1298520" cy="45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06" name=""/>
          <p:cNvCxnSpPr>
            <a:stCxn id="199" idx="3"/>
            <a:endCxn id="200" idx="1"/>
          </p:cNvCxnSpPr>
          <p:nvPr/>
        </p:nvCxnSpPr>
        <p:spPr>
          <a:xfrm>
            <a:off x="2458800" y="3365280"/>
            <a:ext cx="456120" cy="10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0" idx="3"/>
            <a:endCxn id="201" idx="1"/>
          </p:cNvCxnSpPr>
          <p:nvPr/>
        </p:nvCxnSpPr>
        <p:spPr>
          <a:xfrm>
            <a:off x="4276440" y="3365280"/>
            <a:ext cx="773640" cy="10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824040" y="2063880"/>
            <a:ext cx="6643440" cy="40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Medición, Análisis, Acción Correcti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8908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565360" y="2496960"/>
            <a:ext cx="0" cy="18129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3549600" y="3629160"/>
            <a:ext cx="0" cy="11840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03600" y="2496960"/>
            <a:ext cx="0" cy="14781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6821640" y="3327480"/>
            <a:ext cx="16365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7068960" y="2496960"/>
            <a:ext cx="0" cy="164628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327816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545940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184760" y="258444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326304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555516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6639840" y="274680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4510080"/>
            <a:ext cx="14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8093880" y="353232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23" name=""/>
          <p:cNvCxnSpPr>
            <a:stCxn id="199" idx="2"/>
            <a:endCxn id="202" idx="1"/>
          </p:cNvCxnSpPr>
          <p:nvPr/>
        </p:nvCxnSpPr>
        <p:spPr>
          <a:xfrm flipH="1" rot="16200000">
            <a:off x="1105560" y="4097160"/>
            <a:ext cx="2092680" cy="115956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02" idx="3"/>
            <a:endCxn id="201" idx="2"/>
          </p:cNvCxnSpPr>
          <p:nvPr/>
        </p:nvCxnSpPr>
        <p:spPr>
          <a:xfrm flipV="1">
            <a:off x="4368960" y="3630600"/>
            <a:ext cx="1567440" cy="209268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3822840" y="620244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4776840" y="5735520"/>
            <a:ext cx="0" cy="4557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824040" y="1628640"/>
            <a:ext cx="6643440" cy="43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7.1. Planificación de la Realiz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7476840" y="1779480"/>
            <a:ext cx="114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Satisfac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10199"/>
                </a:solidFill>
                <a:latin typeface="Arial"/>
              </a:rPr>
              <a:t>del cli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2868480" y="4813200"/>
            <a:ext cx="1220760" cy="453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4048920" y="2756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2118600" y="27579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095480" y="3639600"/>
            <a:ext cx="0" cy="8067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33" name=""/>
          <p:cNvCxnSpPr>
            <a:endCxn id="208" idx="3"/>
          </p:cNvCxnSpPr>
          <p:nvPr/>
        </p:nvCxnSpPr>
        <p:spPr>
          <a:xfrm flipV="1" rot="16200000">
            <a:off x="7104240" y="2627280"/>
            <a:ext cx="1035720" cy="310320"/>
          </a:xfrm>
          <a:prstGeom prst="bentConnector4">
            <a:avLst>
              <a:gd name="adj1" fmla="val 24687"/>
              <a:gd name="adj2" fmla="val -464"/>
            </a:avLst>
          </a:prstGeom>
          <a:ln cap="sq" w="12600">
            <a:solidFill>
              <a:srgbClr val="008000"/>
            </a:solidFill>
            <a:miter/>
            <a:tailEnd len="sm" type="triangle" w="sm"/>
          </a:ln>
        </p:spPr>
      </p:cxnSp>
      <p:sp>
        <p:nvSpPr>
          <p:cNvPr id="234" name=""/>
          <p:cNvSpPr/>
          <p:nvPr/>
        </p:nvSpPr>
        <p:spPr>
          <a:xfrm>
            <a:off x="6019920" y="5264280"/>
            <a:ext cx="3124080" cy="1468440"/>
          </a:xfrm>
          <a:prstGeom prst="ellipse">
            <a:avLst/>
          </a:prstGeom>
          <a:solidFill>
            <a:srgbClr val="33cccc"/>
          </a:solidFill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Vista de Proces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Interacciones entre sec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179280" y="2565360"/>
            <a:ext cx="2521080" cy="3456000"/>
          </a:xfrm>
          <a:prstGeom prst="wedgeRectCallout">
            <a:avLst>
              <a:gd name="adj1" fmla="val 114356"/>
              <a:gd name="adj2" fmla="val 61759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7.4.3. Verificación del producto compr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rueba de aceptación, métodos de V&amp;V del subcontratado, aplicar el V&amp;V de la organización, En contratación de personal la evaluación de capacidades, habilidades y experie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es un producto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Un producto puede incluir un servicio, hardware, materiales procesados, software, o una combinación de estos, y puede ser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tangibl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(ej.: CPU) o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intangibl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(ej.: consultoría experta), o una combinación de ambos [ISO 9001]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es un proveedor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l individuo o grupo de quien se reciben productos, partes de productos a ser entregados a un cliente, o servicios incluidos en la producción del producto entregad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jemplo: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Alguien de fuera de la organización, a quien solicita la entrega de un producto o servicio, que eventualmente usted entregará a su cliente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l comprar se requiere una descripción del producto requerido, incluyendo los requisitos de aprob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los procedimientos para las compras indiqu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los subcontratistas son evaluados y selecciona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é controles ejercerá sobre los subcontratistas y bajo qué condi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establece y mantiene sus registros de subcontratistas acepta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Bajo qué circunstancias verificará las premisas del subcontratist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inalmente, verifique que se adquirió el producto especifi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4) Tipos de controles en las compra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ínimo a ninguno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ha consistente y repetitivamente demostrado capacidad y buen desempeño, o donde el producto comprado tiene un impacto bajo en la calidad del producto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Razonable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requiere revisiones periódicas o evaluaciones de desempeño basadas en criterios de contro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áximo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requiere procesos específicos y procedimientos a ser seguidos, o donde el producto comprado es crítico para la calidad del producto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Ejempl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Mínimos a ninguno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Artículos de oficin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Razonables:</a:t>
            </a:r>
            <a:r>
              <a:rPr b="0" i="1" lang="es-ES_tradnl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quipamiento computaciona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Máximo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tratación de mano de obra (outsourcing de servicios)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 Producción y prestación del servici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Se requiere planificar y llevar a cabo la producción y la prestación del servicio bajo condiciones controlad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Realización del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roduct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9" name=""/>
          <p:cNvSpPr/>
          <p:nvPr/>
        </p:nvSpPr>
        <p:spPr>
          <a:xfrm>
            <a:off x="3413160" y="5985000"/>
            <a:ext cx="1090440" cy="5047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959280" y="3639600"/>
            <a:ext cx="0" cy="4194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141720" y="3639600"/>
            <a:ext cx="0" cy="125748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914480" y="3639600"/>
            <a:ext cx="0" cy="7542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6276960" y="3639960"/>
            <a:ext cx="544680" cy="754200"/>
          </a:xfrm>
          <a:custGeom>
            <a:avLst/>
            <a:gdLst/>
            <a:ahLst/>
            <a:rect l="l" t="t" r="r" b="b"/>
            <a:pathLst>
              <a:path w="96" h="336">
                <a:moveTo>
                  <a:pt x="96" y="336"/>
                </a:move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687240" y="3100320"/>
            <a:ext cx="177192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nálisis de 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2914560" y="3100320"/>
            <a:ext cx="136224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iseño y Desarroll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5049720" y="2997360"/>
            <a:ext cx="1771920" cy="633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roducción y prestación del servic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732040" y="5457960"/>
            <a:ext cx="1636920" cy="527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4. Compr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641600" y="4309920"/>
            <a:ext cx="1220760" cy="454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3822840" y="397512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/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6550200" y="4143240"/>
            <a:ext cx="1298520" cy="45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61" name=""/>
          <p:cNvCxnSpPr>
            <a:stCxn id="254" idx="3"/>
            <a:endCxn id="255" idx="1"/>
          </p:cNvCxnSpPr>
          <p:nvPr/>
        </p:nvCxnSpPr>
        <p:spPr>
          <a:xfrm>
            <a:off x="2458800" y="3365280"/>
            <a:ext cx="456120" cy="10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824040" y="2063880"/>
            <a:ext cx="6643440" cy="40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Medición, Análisis, Acción Correcti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18908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2565360" y="2496960"/>
            <a:ext cx="0" cy="18129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3549600" y="3629160"/>
            <a:ext cx="0" cy="11840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4503600" y="2496960"/>
            <a:ext cx="0" cy="14781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6821640" y="3327480"/>
            <a:ext cx="16365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7068960" y="2496960"/>
            <a:ext cx="0" cy="164628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327816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5459400" y="2496960"/>
            <a:ext cx="0" cy="42732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1184760" y="258444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326304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555516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 rot="16200000">
            <a:off x="6639840" y="274680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4510080"/>
            <a:ext cx="14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8093880" y="353232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77" name=""/>
          <p:cNvCxnSpPr>
            <a:stCxn id="254" idx="2"/>
            <a:endCxn id="257" idx="1"/>
          </p:cNvCxnSpPr>
          <p:nvPr/>
        </p:nvCxnSpPr>
        <p:spPr>
          <a:xfrm flipH="1" rot="16200000">
            <a:off x="1105560" y="4097160"/>
            <a:ext cx="2092680" cy="115956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57" idx="3"/>
            <a:endCxn id="256" idx="2"/>
          </p:cNvCxnSpPr>
          <p:nvPr/>
        </p:nvCxnSpPr>
        <p:spPr>
          <a:xfrm flipV="1">
            <a:off x="4368960" y="3630240"/>
            <a:ext cx="1567440" cy="209160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3822840" y="620244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776840" y="5735520"/>
            <a:ext cx="0" cy="4557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824040" y="1628640"/>
            <a:ext cx="6643440" cy="43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7.1. Planificación de la Realiz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7476840" y="1779480"/>
            <a:ext cx="114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Satisfac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10199"/>
                </a:solidFill>
                <a:latin typeface="Arial"/>
              </a:rPr>
              <a:t>del cli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2868480" y="4813200"/>
            <a:ext cx="1220760" cy="453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4048920" y="2756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2118600" y="27579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095480" y="3639600"/>
            <a:ext cx="0" cy="8067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87" name=""/>
          <p:cNvCxnSpPr>
            <a:endCxn id="262" idx="3"/>
          </p:cNvCxnSpPr>
          <p:nvPr/>
        </p:nvCxnSpPr>
        <p:spPr>
          <a:xfrm flipV="1" rot="16200000">
            <a:off x="7104240" y="2627280"/>
            <a:ext cx="1035720" cy="310320"/>
          </a:xfrm>
          <a:prstGeom prst="bentConnector4">
            <a:avLst>
              <a:gd name="adj1" fmla="val 24687"/>
              <a:gd name="adj2" fmla="val -464"/>
            </a:avLst>
          </a:prstGeom>
          <a:ln cap="sq" w="12600">
            <a:solidFill>
              <a:srgbClr val="008000"/>
            </a:solidFill>
            <a:miter/>
            <a:tailEnd len="sm" type="triangle" w="sm"/>
          </a:ln>
        </p:spPr>
      </p:cxnSp>
      <p:sp>
        <p:nvSpPr>
          <p:cNvPr id="288" name=""/>
          <p:cNvSpPr/>
          <p:nvPr/>
        </p:nvSpPr>
        <p:spPr>
          <a:xfrm>
            <a:off x="6019920" y="5264280"/>
            <a:ext cx="3124080" cy="1468440"/>
          </a:xfrm>
          <a:prstGeom prst="ellipse">
            <a:avLst/>
          </a:prstGeom>
          <a:solidFill>
            <a:srgbClr val="33cccc"/>
          </a:solidFill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Vista de Proces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Interacciones entre sec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89" name=""/>
          <p:cNvCxnSpPr>
            <a:endCxn id="256" idx="1"/>
          </p:cNvCxnSpPr>
          <p:nvPr/>
        </p:nvCxnSpPr>
        <p:spPr>
          <a:xfrm flipV="1">
            <a:off x="4284360" y="3314160"/>
            <a:ext cx="765720" cy="11484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250920" y="1628640"/>
            <a:ext cx="3241440" cy="5229360"/>
          </a:xfrm>
          <a:prstGeom prst="wedgeRoundRectCallout">
            <a:avLst>
              <a:gd name="adj1" fmla="val 147356"/>
              <a:gd name="adj2" fmla="val -22708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ntrol de Producción =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Liberables, entregables y operación y mantenimie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Validación del procesos de Producción =&gt; orientado a la prevención y pronóst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dentificación y Trazabil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ropiedad del cli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reservación del produc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ntrol de dispositivos de monitoreo y medi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Control de produ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gún corresponda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que describa las características d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strucciones de trabaj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Uso del equipamiento apropi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isponibilidad y uso de dispositivos de seguimiento y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lementación del seguimiento y la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lementación de actividades de liberación, entrega y posteriores a la entreg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2492280"/>
            <a:ext cx="7993080" cy="1944720"/>
          </a:xfrm>
          <a:prstGeom prst="rect">
            <a:avLst/>
          </a:prstGeom>
          <a:noFill/>
          <a:ln w="763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Validación de los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validar los procesos donde los productos resultantes no puedan verificarse, incluyendo aquellos cuyas deficiencias se hacen aparentes únicamente después de que el producto está asiendo utilizado o se haya prestado el servicio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mplos: requerimientos del software, diseño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Sugerencias sobre el control de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todos los procesos que afectan la calidad del produc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 incluir los procesos (actividades en el plan)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 entradas, controles y criterios de salida para los procesos identific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lacione los procedimientos requeridos con los procesos defini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a y documente las instrucciones de trabajo, checklist, y formularios donde la ausencia de ellos pueda acarrear problemas de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Tipos de procesos aplicables a la producción de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nálisis de requerimien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rototip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iseño 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mplementación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spección y pruebas: de unidad, funcional, de sistema, de usabilidad, etc.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26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ción del proyec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c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stión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stión de configur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Trazabil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uando sea apropiado, identifique el producto por medios adecuados a través de toda la realización del producto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mplos: gestión de configuración incluyendo minutas, documentos (requisitos, diseño, pruebas), piezas de código, 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uando la trazabilidad sea un requisito, la organización debe controlar y registrar la identificación única de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sarrolle un sistema simple pero útil de identif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segure que la trazabilidad de los requisitos está claramente establecida en las especificaciones de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ntrene a su personal en la identificación y trazabilidad de requerimien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Propiedad d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organización debe cuidar los bienes que son propiedad del cliente mientras estén bajo su control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re los bienes de propiedad del cliente se debe considerar la propiedad intelectual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deben reportar pérdidas o daños de un producto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no se verifica, el proveedor quedará vulnerable a tener que trabajar con un producto defectuoso o tratar de repararlo despué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no es almacenado adecuadamente, el producto podría dañarse y afectar la relación con el client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Un producto que se usa y no es mantenido puede resultar dañado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la pérdida, daño o desajuste del producto no es reportada al cliente, el proveedor se hace totalmente responsable por el estado del producto y deberá disponer de los recursos para solucionar la situación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Propiedad d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 deben comunicar al cliente los problemas: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i el cliente no es comunicado sobre los defectos del producto facilitado, puede llegar a pensar que el proveedor acepta la responsabilidad sobre los daños previ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costos extra por uso de un producto en malas condiciones, aun provisto por el cliente, recaen en el proveedor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Conform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 organización debe preservar la conformidad del producto durante el proceso interno y la entrega al destino previsto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 en las inspecciones y pruebas no se identifican la conformidad o disconformidad, el estado actual de la inspección o prueba nunca se conocerá realmente, y los problemas con el producto no serán suficientemente visibles como para tomar acciones correctivas de manera tempran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 no se mantiene el estatus con respecto a conformidad o disconformidad, el personal o los clientes pueden usar partes que no han sido suficientemente inspeccionadas o probadas, o para las cuales aún no se encuentra una solu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Organización debe determinar el seguimiento y medición a realizar, y los dispositivos de seguimiento y medición necesarios para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proporcionar la evidencia de la conformidad del producto con los requisitos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determinad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jemplos en la industria de software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Técnicas de estimación y registro de esfuerz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Técnicas de detección, ubicación y corrección de defec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Herramientas y técnicas de Test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usada en los Test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uando sea necesario, asegúrese de la validez de los resultados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Defina cómo se va a determinar la incertidumbre de las mediciones, cuando este factor sea relevant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Cuente con un medio independiente para calibrar a intervalos definidos todos los equipos identificados, y no utilice el equipamiento hasta calibrarlo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Mantenga registros de todas las revisiones, calibraciones y mantencione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Asegúrese de que el equipamiento sea utilizado por personal calificado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Realización del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roduct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"/>
          <p:cNvSpPr/>
          <p:nvPr/>
        </p:nvSpPr>
        <p:spPr>
          <a:xfrm>
            <a:off x="3413160" y="5985000"/>
            <a:ext cx="1090440" cy="5047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959280" y="3639600"/>
            <a:ext cx="0" cy="4194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141720" y="3639600"/>
            <a:ext cx="0" cy="125748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914480" y="3639600"/>
            <a:ext cx="0" cy="7542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276960" y="3639960"/>
            <a:ext cx="544680" cy="754200"/>
          </a:xfrm>
          <a:custGeom>
            <a:avLst/>
            <a:gdLst/>
            <a:ahLst/>
            <a:rect l="l" t="t" r="r" b="b"/>
            <a:pathLst>
              <a:path w="96" h="336">
                <a:moveTo>
                  <a:pt x="96" y="336"/>
                </a:move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068640"/>
            <a:ext cx="2208240" cy="61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2. Procesos relacionados con el cli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914560" y="3100320"/>
            <a:ext cx="136224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3. Diseño y Desarroll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3068640"/>
            <a:ext cx="1898640" cy="633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5. Producción y provisión del servic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732040" y="5457960"/>
            <a:ext cx="1636920" cy="527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4. Compr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641600" y="4309920"/>
            <a:ext cx="1220760" cy="454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822840" y="397512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/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550200" y="4143240"/>
            <a:ext cx="1298520" cy="45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3" name=""/>
          <p:cNvCxnSpPr>
            <a:stCxn id="106" idx="3"/>
            <a:endCxn id="107" idx="1"/>
          </p:cNvCxnSpPr>
          <p:nvPr/>
        </p:nvCxnSpPr>
        <p:spPr>
          <a:xfrm flipV="1">
            <a:off x="2458800" y="3365280"/>
            <a:ext cx="456120" cy="115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7" idx="3"/>
            <a:endCxn id="108" idx="1"/>
          </p:cNvCxnSpPr>
          <p:nvPr/>
        </p:nvCxnSpPr>
        <p:spPr>
          <a:xfrm>
            <a:off x="4276800" y="3365280"/>
            <a:ext cx="800640" cy="208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824040" y="2063880"/>
            <a:ext cx="6643440" cy="40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Medición, Análisis, Acción Correcti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189080" y="2496960"/>
            <a:ext cx="0" cy="5004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565360" y="2496960"/>
            <a:ext cx="0" cy="18129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3629160"/>
            <a:ext cx="0" cy="11840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503600" y="2496960"/>
            <a:ext cx="0" cy="14781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948360" y="3327480"/>
            <a:ext cx="150984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7068960" y="2496960"/>
            <a:ext cx="0" cy="164628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27816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5459400" y="2496960"/>
            <a:ext cx="0" cy="42732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184760" y="258444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26304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555516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639840" y="274680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510080"/>
            <a:ext cx="14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8093880" y="353232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0" name=""/>
          <p:cNvCxnSpPr>
            <a:stCxn id="106" idx="2"/>
            <a:endCxn id="109" idx="1"/>
          </p:cNvCxnSpPr>
          <p:nvPr/>
        </p:nvCxnSpPr>
        <p:spPr>
          <a:xfrm flipH="1" rot="16200000">
            <a:off x="1024560" y="4014720"/>
            <a:ext cx="2037600" cy="137700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09" idx="3"/>
            <a:endCxn id="108" idx="2"/>
          </p:cNvCxnSpPr>
          <p:nvPr/>
        </p:nvCxnSpPr>
        <p:spPr>
          <a:xfrm flipV="1">
            <a:off x="4368600" y="3701520"/>
            <a:ext cx="1657800" cy="202032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3822840" y="620244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776840" y="5735520"/>
            <a:ext cx="0" cy="4557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824040" y="1628640"/>
            <a:ext cx="6643440" cy="43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7.1. Planificación de la Realiz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7476840" y="1779480"/>
            <a:ext cx="114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Satisfac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10199"/>
                </a:solidFill>
                <a:latin typeface="Arial"/>
              </a:rPr>
              <a:t>del cli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68480" y="4813200"/>
            <a:ext cx="1220760" cy="453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4048920" y="2756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2118600" y="27579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095480" y="3715920"/>
            <a:ext cx="0" cy="7304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0" name=""/>
          <p:cNvCxnSpPr>
            <a:endCxn id="115" idx="3"/>
          </p:cNvCxnSpPr>
          <p:nvPr/>
        </p:nvCxnSpPr>
        <p:spPr>
          <a:xfrm flipV="1" rot="16200000">
            <a:off x="7104240" y="2627280"/>
            <a:ext cx="1035720" cy="310320"/>
          </a:xfrm>
          <a:prstGeom prst="bentConnector4">
            <a:avLst>
              <a:gd name="adj1" fmla="val 24687"/>
              <a:gd name="adj2" fmla="val -464"/>
            </a:avLst>
          </a:prstGeom>
          <a:ln cap="sq" w="12600">
            <a:solidFill>
              <a:srgbClr val="008000"/>
            </a:solidFill>
            <a:miter/>
            <a:tailEnd len="sm" type="triangle" w="sm"/>
          </a:ln>
        </p:spPr>
      </p:cxnSp>
      <p:sp>
        <p:nvSpPr>
          <p:cNvPr id="141" name=""/>
          <p:cNvSpPr/>
          <p:nvPr/>
        </p:nvSpPr>
        <p:spPr>
          <a:xfrm>
            <a:off x="6019920" y="5264280"/>
            <a:ext cx="3124080" cy="1468440"/>
          </a:xfrm>
          <a:prstGeom prst="ellipse">
            <a:avLst/>
          </a:prstGeom>
          <a:solidFill>
            <a:srgbClr val="33cccc"/>
          </a:solidFill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Vista de Proces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Interacciones entre sec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643280" y="115920"/>
            <a:ext cx="4319640" cy="2665440"/>
          </a:xfrm>
          <a:prstGeom prst="wedgeRoundRectCallout">
            <a:avLst>
              <a:gd name="adj1" fmla="val -106819"/>
              <a:gd name="adj2" fmla="val 64949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étodo para desarrollar los requisi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étodos para gestionar el cambio de los requerimientos, evaluar prototipos y de registro de revis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volucrar al cli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tablecer un método de trazabil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étodos de revi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municación con el cli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3500280"/>
            <a:ext cx="4643640" cy="1440000"/>
          </a:xfrm>
          <a:prstGeom prst="wedgeRoundRectCallout">
            <a:avLst>
              <a:gd name="adj1" fmla="val 3981"/>
              <a:gd name="adj2" fmla="val -175027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Ciclo de Vida del Softwa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lanificación de las actividades esenci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lanificación de las actividades de gest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lanificación de las actividades de cal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Gestionar el ries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852640"/>
            <a:ext cx="4572000" cy="3743280"/>
          </a:xfrm>
          <a:prstGeom prst="wedgeRoundRectCallout">
            <a:avLst>
              <a:gd name="adj1" fmla="val -82986"/>
              <a:gd name="adj2" fmla="val -32486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ffff"/>
                </a:solidFill>
                <a:uFillTx/>
                <a:latin typeface="Tahoma"/>
              </a:rPr>
              <a:t>7.3.1. Planeación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=&gt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Etapas de diseño y desarroll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Secuencia de actividades (in, out, review_a, management_a, support_a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éto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criterios de aceptación para CO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Interfac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ffff"/>
                </a:solidFill>
                <a:uFillTx/>
                <a:latin typeface="Tahoma"/>
              </a:rPr>
              <a:t>7.3.2. Entradas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=&gt; requisitos funcionales y de desempeño; regulaciones, derivada de diseños previos, otros requeri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ffff"/>
                </a:solidFill>
                <a:uFillTx/>
                <a:latin typeface="Tahoma"/>
              </a:rPr>
              <a:t>7.3.3. Salidas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=&gt; modelos de datos, arquitectura, diseños detallados, código fuente, manuales, prototip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60280"/>
            <a:ext cx="3348000" cy="6193080"/>
          </a:xfrm>
          <a:prstGeom prst="wedgeRoundRectCallout">
            <a:avLst>
              <a:gd name="adj1" fmla="val 69439"/>
              <a:gd name="adj2" fmla="val 13523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7.3.4.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Revisión de diseño  y desarroll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visiones técnicas, recorridos, inspecciones, pruebas formales, demostr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Verificació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=&gt; diseño e implementación e implementación es conforme a los requerimientos de entrada = revisión + te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Validació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=&gt; producto conforme a la intención de uso (probar el sistema bajo condiciones similares al ambiente de producción) tests de acept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Control de cambio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=&gt; Gestión de la configur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1) Planificación de la realización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La organización debe planificar y desarrollar los procesos necesarios para la realización del product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eterminar cuando sea apropi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bjetivos de la calidad y requisit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ecesidad de establecer procesos, documentos y proporcionar recursos específic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 requeridas de verificación, validación, seguimiento, inspección y ensayo/prueba para el producto, y criterios de aceptación de los mism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gistros necesarios como evidenci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1) Actualización de la planifica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planificación debe actualizarse. Si los planes no se actualizan durante el diseño y el desarrollo, los planes no representarán lo que es necesario hacer para satisfacer los requerimien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e pueden producir errores de interpretación acerca de las actividades; incluso éstas pueden ser olvid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Si los planes no se actualizan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no hay un plan real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2) Procesos relacionados con el client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los requisitos relacionados con el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pecificaciones del cliente: producto, entrega, otr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 establecidos por el cliente pero necesari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egales y reglamentarios aplica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Otros determinados por la organiz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revisar los requisitos relacionados con el producto. Antes del compromiso, asegurar qu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determinados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resueltas las diferenc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xisten las capacidades en la empres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600"/>
            </a:b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(7.2) … comunicación con 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necesario tener mecanismos de comunicación con el cliente, relativos 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nformación sobre 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sultas, contratos o atención de pedidos, incluyendo modific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Retroalimentación d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Diseño y desarroll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se entiende por diseño?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Todo el diseño y las 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de desarrollo que transforman la especificación de los requerimientos del cliente en un producto de softwar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l diseño comienza con la salida de la revisión del contrato y evoluciona hasta transformarse en el producto a ser entregado al cliente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jahurtado</cp:lastModifiedBy>
  <dcterms:modified xsi:type="dcterms:W3CDTF">2008-10-01T21:54:44Z</dcterms:modified>
  <cp:revision>521</cp:revision>
  <dc:subject/>
  <dc:title>ISO 9000 aplicado a software</dc:title>
</cp:coreProperties>
</file>