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2B58-AFEB-418B-8F46-59B80A8032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E584-AD07-4803-A119-8E9EEEA30D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F6F-53B3-453F-B9C2-D51A37B03E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785-DEB6-4B1D-A63D-76F442FA55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DFC-6648-4847-B1C4-DDB61CFBCD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0BC-A90D-4A51-B12B-71BCD52514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04A6-3F6B-4A60-87CE-3C5471A3FD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FEB-53A1-4D4D-A568-8E4BE48BF8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5DA-A22F-41A6-921A-752E444CCF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91A-5514-41FD-BEE7-F55C3E92FA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576-7776-4D33-AF75-439922D14C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AFD8-38E6-4E8F-A063-D9939C80AD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E06D-83C5-4108-ABB3-58067E4276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4F48-05D4-44F5-9F2F-9EFC485FC1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EEB-A0CE-4F98-B557-82172AE199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AF2-7616-4B99-B2ED-2C5E1C785B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C37-9D3A-4DEC-B699-2A5103BF35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82A-CAEC-456B-9F1A-FF432067CE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793A-E1F7-4C6D-A1DA-41275E02B4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C105-D78A-4A9E-9E84-A6EC5AF9E6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2E5-723F-4026-BEF6-D7E3F2FA3C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B585-79B3-4F7A-BFBF-3B65AB0616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C19-2999-4FD9-9AF2-F359A3E2B5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6F73-DA0E-4B8C-B4A9-2F9627F58F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873-17DE-45D7-A803-C22A35C6CA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47D-C730-495A-832F-A27AC77AB5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15-74C1-4317-8457-817EA7A1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ADE-8FBB-4AAE-B7EC-C3695B7B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841-20AB-434C-8B00-7E3D8EB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B32-3F63-4ABA-9B2C-BBC35F55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07ED7-78BC-4E78-8AE2-C0620BE6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775FE-C2AE-4538-8E85-67DCCDE6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DC46-E758-4DB0-B0F4-BB9F2384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3C23-84AA-4252-8F5B-BFEB036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AE040-A59F-4DF2-B8E7-A50D3C65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FC2CB-20DE-4753-948D-E74F305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F3E5E-4AF7-4E96-AB37-0CB51A2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528-5A45-419E-A9C7-72A3E51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D5601-EE11-453D-9FE2-9D43C10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4F83-C49D-4E8C-A276-451714F0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AF45-20EA-4E35-B2B6-50F7B1E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F34D5-834D-4F1E-85FE-04879EC3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D736F-E3AA-4FFF-ABC4-2AE85CDF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F97-C070-42B8-B844-B0AE865F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F5C-CE39-4B40-895E-5EF59C0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791-B203-4335-A801-B73CEFC2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056-3026-410B-B8F8-6AC4341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867-FED0-43A2-BF15-FD95BD0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33B-506D-4345-BDD9-4F4155E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979-1252-4C5E-904C-B2012922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E9E-6426-4971-82DD-59942AF251B3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8FA8-73F1-40C4-B641-E6E4EAFFBEBB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9537-1CD7-4F13-BBD8-6822CB1D32E8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704-8D33-40AE-9F60-F6FDB296915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, revisiones y testing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28720" y="2133720"/>
            <a:ext cx="6264000" cy="4247640"/>
            <a:chOff x="828720" y="2133720"/>
            <a:chExt cx="6264000" cy="4247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7117" t="5223" r="5579" b="0"/>
            <a:stretch/>
          </p:blipFill>
          <p:spPr>
            <a:xfrm>
              <a:off x="828720" y="2133720"/>
              <a:ext cx="6264000" cy="42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85760" y="3929760"/>
              <a:ext cx="1506600" cy="102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2360" y="1413000"/>
            <a:ext cx="5651280" cy="5255640"/>
            <a:chOff x="3492360" y="1413000"/>
            <a:chExt cx="5651280" cy="5255640"/>
          </a:xfrm>
        </p:grpSpPr>
        <p:sp>
          <p:nvSpPr>
            <p:cNvPr id="184" name=""/>
            <p:cNvSpPr/>
            <p:nvPr/>
          </p:nvSpPr>
          <p:spPr>
            <a:xfrm>
              <a:off x="3492360" y="1413000"/>
              <a:ext cx="5651280" cy="52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3"/>
            <a:srcRect l="17069" t="0" r="18601" b="0"/>
            <a:stretch/>
          </p:blipFill>
          <p:spPr>
            <a:xfrm>
              <a:off x="3735720" y="1499040"/>
              <a:ext cx="5407920" cy="49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Ejemplo 5 – Actividades del desarrollo de los requeimientos en el Tutelkán Reference Proces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jercicio 6. Definiendo procesos 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scriba las actividades principales del proceso de diseño en su empresa ejempl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talle una de ella en un flujo de trabajo que incluya actividades, roles y productos de trabajo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508640"/>
            <a:ext cx="7993080" cy="208908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9640" y="0"/>
            <a:ext cx="4824360" cy="6121440"/>
          </a:xfrm>
          <a:prstGeom prst="wedgeRoundRectCallout">
            <a:avLst>
              <a:gd name="adj1" fmla="val -77046"/>
              <a:gd name="adj2" fmla="val 4014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1. Proceso de compras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1) Productos a compra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COTS, software libre, shareware, customized, subcontratos, actividades delegadas por outsourcing, herramientas, hardware, documentación, material de entrenamien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2) Control de la compr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contatos, gestionar el acuerdo con el proveedor, gestión del riesgo, evaluación y selección del provee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2. Información de compra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querimientos o procedimientos para identificarlos, identificación del producto a comprar, estándares, ambiente de operación, requerimientos del personal, requerimientos del SG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04972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6" name=""/>
          <p:cNvCxnSpPr>
            <a:stCxn id="199" idx="3"/>
            <a:endCxn id="200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201" idx="1"/>
          </p:cNvCxnSpPr>
          <p:nvPr/>
        </p:nvCxnSpPr>
        <p:spPr>
          <a:xfrm>
            <a:off x="4276440" y="3365280"/>
            <a:ext cx="77364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45940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3" name=""/>
          <p:cNvCxnSpPr>
            <a:stCxn id="199" idx="2"/>
            <a:endCxn id="202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2" idx="3"/>
            <a:endCxn id="201" idx="2"/>
          </p:cNvCxnSpPr>
          <p:nvPr/>
        </p:nvCxnSpPr>
        <p:spPr>
          <a:xfrm flipV="1">
            <a:off x="4368960" y="3630600"/>
            <a:ext cx="1567440" cy="209268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33" name=""/>
          <p:cNvCxnSpPr>
            <a:endCxn id="208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34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2565360"/>
            <a:ext cx="2521080" cy="3456000"/>
          </a:xfrm>
          <a:prstGeom prst="wedgeRectCallout">
            <a:avLst>
              <a:gd name="adj1" fmla="val 114356"/>
              <a:gd name="adj2" fmla="val 61759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4.3. Verificación del producto compr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ueba de aceptación, métodos de V&amp;V del subcontratado, aplicar el V&amp;V de la organización, En contratación de personal la evaluación de capacidades, habilidades y experi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049720" y="2997360"/>
            <a:ext cx="177192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1" name=""/>
          <p:cNvCxnSpPr>
            <a:stCxn id="254" idx="3"/>
            <a:endCxn id="255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7" name=""/>
          <p:cNvCxnSpPr>
            <a:stCxn id="254" idx="2"/>
            <a:endCxn id="257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7" idx="3"/>
            <a:endCxn id="256" idx="2"/>
          </p:cNvCxnSpPr>
          <p:nvPr/>
        </p:nvCxnSpPr>
        <p:spPr>
          <a:xfrm flipV="1">
            <a:off x="4368960" y="3630240"/>
            <a:ext cx="1567440" cy="20916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7" name=""/>
          <p:cNvCxnSpPr>
            <a:endCxn id="262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9" name=""/>
          <p:cNvCxnSpPr>
            <a:endCxn id="256" idx="1"/>
          </p:cNvCxnSpPr>
          <p:nvPr/>
        </p:nvCxnSpPr>
        <p:spPr>
          <a:xfrm flipV="1">
            <a:off x="4284360" y="3314160"/>
            <a:ext cx="765720" cy="11484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50920" y="1628640"/>
            <a:ext cx="3241440" cy="5229360"/>
          </a:xfrm>
          <a:prstGeom prst="wedgeRoundRectCallout">
            <a:avLst>
              <a:gd name="adj1" fmla="val 147356"/>
              <a:gd name="adj2" fmla="val -22708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Producción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iberables, entregables y operación y manten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alidación del procesos de Producción =&gt; orientado a la prevención y pronó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dentificación y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opiedad d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eservación del 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dispositivos de monitoreo y me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Control de produ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92280"/>
            <a:ext cx="7993080" cy="194472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requerimientos del software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 en la industria de software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estimación y registro de esfuerz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detección, ubicación y corrección de defec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Herramientas y técnicas de Test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usada en los Test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idumbre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2208240" cy="61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2. Procesos relacionados con 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3. 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068640"/>
            <a:ext cx="189864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5. Producción y provis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3" name=""/>
          <p:cNvCxnSpPr>
            <a:stCxn id="106" idx="3"/>
            <a:endCxn id="107" idx="1"/>
          </p:cNvCxnSpPr>
          <p:nvPr/>
        </p:nvCxnSpPr>
        <p:spPr>
          <a:xfrm flipV="1">
            <a:off x="2458800" y="3365280"/>
            <a:ext cx="456120" cy="11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3"/>
            <a:endCxn id="108" idx="1"/>
          </p:cNvCxnSpPr>
          <p:nvPr/>
        </p:nvCxnSpPr>
        <p:spPr>
          <a:xfrm>
            <a:off x="4276800" y="3365280"/>
            <a:ext cx="800640" cy="208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89080" y="2496960"/>
            <a:ext cx="0" cy="500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327480"/>
            <a:ext cx="15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0" name=""/>
          <p:cNvCxnSpPr>
            <a:stCxn id="106" idx="2"/>
            <a:endCxn id="109" idx="1"/>
          </p:cNvCxnSpPr>
          <p:nvPr/>
        </p:nvCxnSpPr>
        <p:spPr>
          <a:xfrm flipH="1" rot="16200000">
            <a:off x="1024560" y="4014720"/>
            <a:ext cx="2037600" cy="13770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9" idx="3"/>
            <a:endCxn id="108" idx="2"/>
          </p:cNvCxnSpPr>
          <p:nvPr/>
        </p:nvCxnSpPr>
        <p:spPr>
          <a:xfrm flipV="1">
            <a:off x="4368600" y="3701520"/>
            <a:ext cx="1657800" cy="202032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95480" y="3715920"/>
            <a:ext cx="0" cy="7304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0" name=""/>
          <p:cNvCxnSpPr>
            <a:endCxn id="115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15920"/>
            <a:ext cx="4319640" cy="2665440"/>
          </a:xfrm>
          <a:prstGeom prst="wedgeRoundRectCallout">
            <a:avLst>
              <a:gd name="adj1" fmla="val -106819"/>
              <a:gd name="adj2" fmla="val 64949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 para desarrollar los requisi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para gestionar el cambio de los requerimientos, evaluar prototipos y de registro de 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olucrar a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ablecer un método de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de re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municación con 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500280"/>
            <a:ext cx="4643640" cy="1440000"/>
          </a:xfrm>
          <a:prstGeom prst="wedgeRoundRectCallout">
            <a:avLst>
              <a:gd name="adj1" fmla="val 3981"/>
              <a:gd name="adj2" fmla="val -17502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iclo de Vida del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esen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gest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cal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Gestionar el ries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52640"/>
            <a:ext cx="4572000" cy="3743280"/>
          </a:xfrm>
          <a:prstGeom prst="wedgeRoundRectCallout">
            <a:avLst>
              <a:gd name="adj1" fmla="val -82986"/>
              <a:gd name="adj2" fmla="val -32486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1. Planeación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Etapas de diseño y desarro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Secuencia de actividades (in, out, review_a, management_a, support_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riterios de aceptación para CO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2. Entra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requisitos funcionales y de desempeño; regulaciones, derivada de diseños previos, otros requer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3. Sali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modelos de datos, arquitectura, diseños detallados, código fuente, manuales, proto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0280"/>
            <a:ext cx="3348000" cy="6193080"/>
          </a:xfrm>
          <a:prstGeom prst="wedgeRoundRectCallout">
            <a:avLst>
              <a:gd name="adj1" fmla="val 69439"/>
              <a:gd name="adj2" fmla="val 1352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3.4.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Revisión de diseño  y desarrol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ones técnicas, recorridos, inspecciones, pruebas formales, demostr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erific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diseño e implementación e implementación es conforme a los requerimientos de entrada = revisión + te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alid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producto conforme a la intención de uso (probar el sistema bajo condiciones similares al ambiente de producción) tests de acep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Control de cambi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Gestión de la config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1T21:54:44Z</dcterms:modified>
  <cp:revision>521</cp:revision>
  <dc:subject/>
  <dc:title>ISO 9000 aplicado a software</dc:title>
</cp:coreProperties>
</file>