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B6F-C92F-4881-BF1D-3D5D5A0231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D7E-7DA7-443D-82DB-2CB8C9B913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6B6-7A13-4991-8A2B-AA8E5703AC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D8A-8B18-4509-B0A8-663796A39C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D726-C710-49F3-AA54-29C55170D9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321-62E4-4C56-8D20-3B2391F34A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8E3-F4E9-4BB5-8F82-3BA519EFA1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D02C-4014-4A86-A8C4-D42224383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B08-5DEF-426F-AD1B-2912371814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7D9E-8503-4C46-A889-D19CB57456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D75-97EB-4BE8-A919-6AC5F1906D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C58-58B3-4F5D-A558-AA28395E3A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D8F-16E2-4BA6-85FE-46C1A8D4BC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176-B1C8-443B-91EE-C0C379DB51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0E6-4C67-4F24-BE14-4D7EB0CE78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335-14DD-4233-9FFD-2E0F1764B7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863-50C1-45A5-8A82-B4592078AA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408-767B-45B1-838E-7D5CED09FD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EC2E-1186-4C1F-A127-0C93C19F34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00C-8AD4-4B4D-A504-D0BB833474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DE0B-2584-4067-A44B-148DEEC56B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787A-6752-46C8-ACDD-1F50CB6813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E28-4196-4376-813D-6FF32B1AC5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5FE8-F751-466B-9D99-F9370C85B9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285E-F7C0-47E3-9E4F-90823757A8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666-0C72-4647-80BC-38FC4AC7E7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A93-827E-47CE-9B03-880C39F9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4C0-30F5-4B6A-BF7A-1E659FC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46A-02B2-4B79-9F56-6BC494FE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9C9-BE1A-4A23-9902-4DF7B6EE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E6E7-9757-417F-88D2-802BEF3B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C3A1-B0C6-4250-BCB1-24BA4A91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D4A0E-25BE-4BA6-8533-57D9D47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D51F8-68C7-4130-986B-182B761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B6F66-D49B-4F89-B6D6-3B18942A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F620E-79D1-431F-84E1-2E603AC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D7562-72B8-4ECD-A8B0-A431DFC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6F2-CD12-4114-A898-7EDA5DB0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749B-504C-4E88-929C-6469F48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02F7E-C6E4-40C6-8D9B-465BB72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4142-CC1B-430A-8639-F2B9987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2E65C-0918-4688-948B-1903323F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293D-60A1-403B-99F1-1C4B4CE8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2D8-B89E-4A0F-A9CC-0B300BD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48A-216C-410C-B1B5-AD204C0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86B-940E-4ED6-8714-57A11FA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3A0-9B9E-4291-8B64-4C6BCEE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22A-5019-4312-8C80-C8085A13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EF1-6F19-4D9C-BDF7-0F282FE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A0E-24F2-46EB-9A9A-091C85C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5E84-387A-46BE-B301-4B5D79FAA448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56B0-F41F-468E-A21A-D887157609D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95A-794F-4B77-A71F-5B1FC215E31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1BC6-0974-4BF1-95D6-079D7A6171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, revisiones y testing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28720" y="2133720"/>
            <a:ext cx="6264000" cy="4247640"/>
            <a:chOff x="828720" y="2133720"/>
            <a:chExt cx="6264000" cy="4247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7117" t="5223" r="5579" b="0"/>
            <a:stretch/>
          </p:blipFill>
          <p:spPr>
            <a:xfrm>
              <a:off x="828720" y="2133720"/>
              <a:ext cx="6264000" cy="42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85760" y="3929760"/>
              <a:ext cx="1506600" cy="102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2360" y="1413000"/>
            <a:ext cx="5651280" cy="5255640"/>
            <a:chOff x="3492360" y="1413000"/>
            <a:chExt cx="5651280" cy="5255640"/>
          </a:xfrm>
        </p:grpSpPr>
        <p:sp>
          <p:nvSpPr>
            <p:cNvPr id="184" name=""/>
            <p:cNvSpPr/>
            <p:nvPr/>
          </p:nvSpPr>
          <p:spPr>
            <a:xfrm>
              <a:off x="3492360" y="1413000"/>
              <a:ext cx="5651280" cy="52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3"/>
            <a:srcRect l="17069" t="0" r="18601" b="0"/>
            <a:stretch/>
          </p:blipFill>
          <p:spPr>
            <a:xfrm>
              <a:off x="3735720" y="1499040"/>
              <a:ext cx="5407920" cy="49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Ejemplo 5 – Actividades del desarrollo de los requeimientos en el Tutelkán Reference Proces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jercicio 6. Definiendo procesos 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scriba las actividades principales del proceso de diseño en su empresa ejempl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talle una de ella en un flujo de trabajo que incluya actividades, roles y productos de trabajo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508640"/>
            <a:ext cx="7993080" cy="208908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9640" y="0"/>
            <a:ext cx="4824360" cy="6121440"/>
          </a:xfrm>
          <a:prstGeom prst="wedgeRoundRectCallout">
            <a:avLst>
              <a:gd name="adj1" fmla="val -77046"/>
              <a:gd name="adj2" fmla="val 4014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1. Proceso de compras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1) Productos a compra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COTS, software libre, shareware, customized, subcontratos, actividades delegadas por outsourcing, herramientas, hardware, documentación, material de entrenamien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2) Control de la compr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contatos, gestionar el acuerdo con el proveedor, gestión del riesgo, evaluación y selección del provee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2. Información de compra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querimientos o procedimientos para identificarlos, identificación del producto a comprar, estándares, ambiente de operación, requerimientos del personal, requerimientos del SG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04972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6" name=""/>
          <p:cNvCxnSpPr>
            <a:stCxn id="199" idx="3"/>
            <a:endCxn id="200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201" idx="1"/>
          </p:cNvCxnSpPr>
          <p:nvPr/>
        </p:nvCxnSpPr>
        <p:spPr>
          <a:xfrm>
            <a:off x="4276440" y="3365280"/>
            <a:ext cx="77364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45940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3" name=""/>
          <p:cNvCxnSpPr>
            <a:stCxn id="199" idx="2"/>
            <a:endCxn id="202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2" idx="3"/>
            <a:endCxn id="201" idx="2"/>
          </p:cNvCxnSpPr>
          <p:nvPr/>
        </p:nvCxnSpPr>
        <p:spPr>
          <a:xfrm flipV="1">
            <a:off x="4368960" y="3630600"/>
            <a:ext cx="1567440" cy="209268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33" name=""/>
          <p:cNvCxnSpPr>
            <a:endCxn id="208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34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2565360"/>
            <a:ext cx="2521080" cy="3456000"/>
          </a:xfrm>
          <a:prstGeom prst="wedgeRectCallout">
            <a:avLst>
              <a:gd name="adj1" fmla="val 114356"/>
              <a:gd name="adj2" fmla="val 61759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4.3. Verificación del producto compr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ueba de aceptación, métodos de V&amp;V del subcontratado, aplicar el V&amp;V de la organización, En contratación de personal la evaluación de capacidades, habilidades y experi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049720" y="2997360"/>
            <a:ext cx="177192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1" name=""/>
          <p:cNvCxnSpPr>
            <a:stCxn id="254" idx="3"/>
            <a:endCxn id="255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7" name=""/>
          <p:cNvCxnSpPr>
            <a:stCxn id="254" idx="2"/>
            <a:endCxn id="257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7" idx="3"/>
            <a:endCxn id="256" idx="2"/>
          </p:cNvCxnSpPr>
          <p:nvPr/>
        </p:nvCxnSpPr>
        <p:spPr>
          <a:xfrm flipV="1">
            <a:off x="4368960" y="3630240"/>
            <a:ext cx="1567440" cy="20916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7" name=""/>
          <p:cNvCxnSpPr>
            <a:endCxn id="262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9" name=""/>
          <p:cNvCxnSpPr>
            <a:endCxn id="256" idx="1"/>
          </p:cNvCxnSpPr>
          <p:nvPr/>
        </p:nvCxnSpPr>
        <p:spPr>
          <a:xfrm flipV="1">
            <a:off x="4284360" y="3314160"/>
            <a:ext cx="765720" cy="11484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50920" y="1628640"/>
            <a:ext cx="3241440" cy="5229360"/>
          </a:xfrm>
          <a:prstGeom prst="wedgeRoundRectCallout">
            <a:avLst>
              <a:gd name="adj1" fmla="val 147356"/>
              <a:gd name="adj2" fmla="val -22708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Producción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iberables, entregables y operación y manten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alidación del procesos de Producción =&gt; orientado a la prevención y pronó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dentificación y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opiedad d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eservación del 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dispositivos de monitoreo y me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Control de produ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92280"/>
            <a:ext cx="7993080" cy="194472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requerimientos del software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 en la industria de software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estimación y registro de esfuerz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detección, ubicación y corrección de defec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Herramientas y técnicas de Test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usada en los Test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idumbre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2208240" cy="61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2. Procesos relacionados con 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3. 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068640"/>
            <a:ext cx="189864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5. Producción y provis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3" name=""/>
          <p:cNvCxnSpPr>
            <a:stCxn id="106" idx="3"/>
            <a:endCxn id="107" idx="1"/>
          </p:cNvCxnSpPr>
          <p:nvPr/>
        </p:nvCxnSpPr>
        <p:spPr>
          <a:xfrm flipV="1">
            <a:off x="2458800" y="3365280"/>
            <a:ext cx="456120" cy="11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3"/>
            <a:endCxn id="108" idx="1"/>
          </p:cNvCxnSpPr>
          <p:nvPr/>
        </p:nvCxnSpPr>
        <p:spPr>
          <a:xfrm>
            <a:off x="4276800" y="3365280"/>
            <a:ext cx="800640" cy="208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89080" y="2496960"/>
            <a:ext cx="0" cy="500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327480"/>
            <a:ext cx="15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0" name=""/>
          <p:cNvCxnSpPr>
            <a:stCxn id="106" idx="2"/>
            <a:endCxn id="109" idx="1"/>
          </p:cNvCxnSpPr>
          <p:nvPr/>
        </p:nvCxnSpPr>
        <p:spPr>
          <a:xfrm flipH="1" rot="16200000">
            <a:off x="1024560" y="4014720"/>
            <a:ext cx="2037600" cy="13770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9" idx="3"/>
            <a:endCxn id="108" idx="2"/>
          </p:cNvCxnSpPr>
          <p:nvPr/>
        </p:nvCxnSpPr>
        <p:spPr>
          <a:xfrm flipV="1">
            <a:off x="4368600" y="3701520"/>
            <a:ext cx="1657800" cy="202032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95480" y="3715920"/>
            <a:ext cx="0" cy="7304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0" name=""/>
          <p:cNvCxnSpPr>
            <a:endCxn id="115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15920"/>
            <a:ext cx="4319640" cy="2665440"/>
          </a:xfrm>
          <a:prstGeom prst="wedgeRoundRectCallout">
            <a:avLst>
              <a:gd name="adj1" fmla="val -106819"/>
              <a:gd name="adj2" fmla="val 64949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 para desarrollar los requisi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para gestionar el cambio de los requerimientos, evaluar prototipos y de registro de 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olucrar a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ablecer un método de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de re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municación con 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500280"/>
            <a:ext cx="4643640" cy="1440000"/>
          </a:xfrm>
          <a:prstGeom prst="wedgeRoundRectCallout">
            <a:avLst>
              <a:gd name="adj1" fmla="val 3981"/>
              <a:gd name="adj2" fmla="val -17502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iclo de Vida del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esen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gest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cal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Gestionar el ries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52640"/>
            <a:ext cx="4572000" cy="3743280"/>
          </a:xfrm>
          <a:prstGeom prst="wedgeRoundRectCallout">
            <a:avLst>
              <a:gd name="adj1" fmla="val -82986"/>
              <a:gd name="adj2" fmla="val -32486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1. Planeación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Etapas de diseño y desarro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Secuencia de actividades (in, out, review_a, management_a, support_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riterios de aceptación para CO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2. Entra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requisitos funcionales y de desempeño; regulaciones, derivada de diseños previos, otros requer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3. Sali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modelos de datos, arquitectura, diseños detallados, código fuente, manuales, proto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0280"/>
            <a:ext cx="3348000" cy="6193080"/>
          </a:xfrm>
          <a:prstGeom prst="wedgeRoundRectCallout">
            <a:avLst>
              <a:gd name="adj1" fmla="val 69439"/>
              <a:gd name="adj2" fmla="val 1352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3.4.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Revisión de diseño  y desarrol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ones técnicas, recorridos, inspecciones, pruebas formales, demostr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erific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diseño e implementación e implementación es conforme a los requerimientos de entrada = revisión + te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alid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producto conforme a la intención de uso (probar el sistema bajo condiciones similares al ambiente de producción) tests de acep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Control de cambi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Gestión de la config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1T21:54:44Z</dcterms:modified>
  <cp:revision>521</cp:revision>
  <dc:subject/>
  <dc:title>ISO 9000 aplicado a software</dc:title>
</cp:coreProperties>
</file>