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DFA5-426F-4346-831B-6721A368B20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297F-1C88-4C23-8E32-41D6FC45E24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ISO 9004 gives additional guidan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6758-86C4-4EF5-8A0F-A0C14A4DBBD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NOTE: items a-e with the participa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MM: SPE (b-e), DP (a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72D1-99CE-4B96-A722-81825C341FE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92EC-EB0D-4D7E-8411-7BF7038242D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F8E3-C5BC-4040-8229-95D91F6B02B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7E4F-0B82-4C5D-B707-A999190E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CABA-43D5-4947-9609-55496A09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53E2-6190-4C1F-BA46-92801E16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BE94-F6C8-4EE2-8898-E0F579DA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54E12-AB90-49D2-96AA-290EE0F4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8F690-F2ED-492F-A28B-A011D30A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60AF3-AB92-4BDC-AA89-1E76B024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5F5E9-CC18-4A80-BC48-A93A2035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B9185-2673-4581-847E-98DA585C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CB9C1-2A77-418F-958F-10F70CA1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2375D-8E98-47F3-ABB3-9BBF8C33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FC39-9DC0-4ECA-9B47-EADFEBB3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6C373-FB5E-4C61-B382-CD896A3B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E026A-D49E-45DB-B705-C82DD695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B946F-C059-410B-A9C1-4A68CE85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3B363-08FB-46DF-A5F3-41263524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33827-382A-422F-8C20-79853110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B4E5-5BCA-4CE4-A8B4-39FF53F1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3B8A-6261-485C-B988-7AEC653C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91D4-C3BE-48E7-A509-308EA0F4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D1D5-A31A-4B6F-B854-842E9395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A95E-AAF4-4158-9209-B34304FA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B67C-1C87-446B-AE1B-3E4AA2CC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869E-0706-4D7B-BA50-53E28032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E7A9-5EE2-40EC-9C12-C7735C06E574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5A26-2FB6-4086-A0C4-CA833C9A2DA9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179280" y="0"/>
            <a:ext cx="87138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84313"/>
                </a:srgbClr>
              </a:gs>
              <a:gs pos="100000">
                <a:srgbClr val="ffffff">
                  <a:alpha val="84313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4A65-A0CB-49E6-8C0C-B13A6AB232DC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2519-084E-46DE-9706-C05A1B9AB6F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5400"/>
            </a:br>
            <a:r>
              <a:rPr b="1" lang="es-ES_tradnl" sz="48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5013000"/>
            <a:ext cx="64008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La infraestructura y el ambiente de trabaj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rebuchet MS"/>
              </a:rPr>
              <a:t>La organización debe determinar, proporcionar y mantener la infraestructura necesaria para lograr la conformidad con los requisitos del product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rebuchet MS"/>
              </a:rPr>
              <a:t>Igualmente, debe determinar y gestionar el ambiente de trabaj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Sugerencias a considerar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ablecer y mantener procedimientos para identificar necesidades de entrenamiento, infraestructura y ambiente de trabaj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Proveer entrenamiento para todo el personal que realiza actividades que afectan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3628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4: Recursos necesarios para operar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ITIS LTDA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62800" cy="440352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Sitis Ltda es una empresa pequeña donde hay dos tipos de talento human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Fiel y en general de media capac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Volátil de alta capac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l proceso ha sido adecuado a este contraste, para soportar mejor el aprendizaje y las transiciones de entrada del nuevo personal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ncorporó prácticas de aprendizaje por experiencia documentando las lecciones aprendidas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Está desarrollando una infraestructura de gestión de conocimiento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En un tercer ciclo de mejora de procesos implementará el área OT (Organizational Training) de CMMI a un nivel de capacidad 3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155268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5: Recursos humanos en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u organización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Cuales las  necesidades actuales de recursos humanos para soportar un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Para cubrir cada necesidad defina estrategi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6: Haga un mapa de procesos de para organiza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Cuáles son los procesos más importantes para el trabajo de la empresa, vista desde cada una de sus área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Relación con client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Oper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Mantenimien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Gest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Revisión de ISO 9001:2000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Estructura de la norma ISO/IEC12207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56000" y="1314360"/>
            <a:ext cx="3689280" cy="554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de los proces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835280" y="1557360"/>
            <a:ext cx="5329080" cy="489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Estructura del estandar ISO/IEC 15504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137440" cy="506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6. Gestión de los recur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6.1 Provisión de recursos: </a:t>
            </a:r>
            <a:r>
              <a:rPr b="0" lang="es-ES_tradnl" sz="1600" spc="-1" strike="noStrike">
                <a:solidFill>
                  <a:srgbClr val="333300"/>
                </a:solidFill>
                <a:latin typeface="Trebuchet MS"/>
              </a:rPr>
              <a:t>para satisfacer los requerimientos y sostener el SGC</a:t>
            </a: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6.2 Recursos human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Generalidades: formación, entrenamiento, habilidades y experiencia </a:t>
            </a:r>
            <a:r>
              <a:rPr b="0" lang="es-ES_tradnl" sz="1800" spc="-1" strike="noStrike">
                <a:solidFill>
                  <a:srgbClr val="996633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 ISO/IEC 12207 human resource management , People CMM.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Competencia, toma de conciencia y formación: notaciones, métodos, lenguajes, herramientas, técnicas usadas para desarrollo y gestión. </a:t>
            </a:r>
            <a:r>
              <a:rPr b="0" lang="es-ES_tradnl" sz="1800" spc="-1" strike="noStrike">
                <a:solidFill>
                  <a:srgbClr val="996633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 CMMI – Organizational Training 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6.3 Infraestructura: edificaciones, equipos y servicios de soporte (herramientas, gestión de conocimiento), herramientas y soporte físico: red, protocolos, seguridad, asistencia técnica. IS0/IEC                                                    12207 Infraestructure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6.4 Ambiente de trabajo: PP, CMMI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Las personas: ¿Cómo determinar la calificación necesaria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1. Identificar habilidades necesarias en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2. Identificar habilidades disponibl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3. Determinar la diferencia entre lo necesario y lo disponib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4. Acortar esa brech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5. Evaluar los efectos de dichas accion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mo las organizaciones y los clientes tienen necesidades cambiantes, la educación continua se transforma en una actividad para la organización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os planes de entrenamiento se deben revisar periódicamente para asegurar que van en la línea de las necesidades del negocio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Tipos de entrenamiento para el personal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Dominio funcional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Proces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Cultura y valor del negoci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Técnicas y práctic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Por qué podría haber un déficit de ciertas habilidades en la Organizació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es nuevo 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es asignado a nuevas actividades 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no ha desarrollado satisfactoriamente sus actividades actual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proceso definido ha sido actualizad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Nuevas herramientas y métodos están siendo usad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organización evolucion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jahurtado</cp:lastModifiedBy>
  <dcterms:modified xsi:type="dcterms:W3CDTF">2008-09-29T22:03:10Z</dcterms:modified>
  <cp:revision>485</cp:revision>
  <dc:subject/>
  <dc:title>ISO 9000 aplicado a software</dc:title>
</cp:coreProperties>
</file>