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77AE-2990-4882-A764-352023F9F5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6E76-B692-4F55-992C-BFC072EA0F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EF12-B37A-41BD-A6E7-D0FBE65EAF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703E-9C56-45D2-9730-11EBB7F7A5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0D7A-BCEE-476A-879B-210A10B029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87D3-6A8C-4C75-BE6E-3180A5F562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453-4710-4E8B-B9D1-B4DCE83D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E7B-913B-494E-A866-C253FE0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018-B4B1-42FF-B71F-6F8B73F3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6CD-16B2-4C09-9FE0-C05140F4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C7AEF-71AD-4D19-9F48-1CB1917F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A92C3-2266-4AB9-B068-C16910C3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00F01-66A3-45E7-A7CF-E263C72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1486-CD73-43CD-8FE9-34DDAB7F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B814B-2F0A-4212-A5C6-3D5C7BF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73FC0-841C-4CBB-9D78-8A76511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2AEE-585F-4E2D-B4A2-B454F108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5FE-58E3-4A5C-A317-91D8847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FA3F9-049C-4FAC-B375-77C81A0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64DD8-560A-4C47-8D04-107DB95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AC9D3-8F40-40A0-9DF3-35EDB7D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F6E58-22D8-490A-B0C8-7F13E0A9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8F5BD-D3B5-4B2B-8DFF-705C32EB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3BB-E3FF-4701-8174-189375BF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F7C-BDFE-4A64-8EC5-A411A05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D00-F3D0-4D6B-9D74-BFCE79A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B86-0A71-4756-99CC-D3490E80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237-E0A3-4D13-B998-CF224051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BB3-4B00-454F-ADE5-6F2F8BC5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CAF-7425-4801-9103-FE25DCD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D462-DE5A-49B0-8D21-2AD2D39E3C0D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08B6-E8B1-473F-9C08-08ADACCBD761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192D-8D93-4B1F-810E-0A629BC4BB6B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F48A-1B31-4E95-B889-8DC5164D0DE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ITIS LTDA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40352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itis Ltda es una empresa pequeña donde hay dos tipos de talento human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Fiel y en general de medi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olátil de alt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proceso ha sido adecuado a este contraste, para soportar mejor el aprendizaje y las transiciones de entrada del nuevo personal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corporó prácticas de aprendizaje por experiencia documentando las lecciones aprendidas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stá desarrollando una infraestructura de gestión de conocimient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n un tercer ciclo de mejora de procesos implementará el área OT (Organizational Training) de CMMI a un nivel de capacidad 3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55268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humanos en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u organización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uales las  necesidades actuales de recursos humanos para soportar un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ara cubrir cada necesidad defina estrategi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Haga un mapa de procesos de para organiz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Gest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 la norma ISO/IEC12207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1314360"/>
            <a:ext cx="368928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329080" cy="48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l estandar ISO/IEC 15504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7440" cy="506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1 Provisión de recursos: </a:t>
            </a:r>
            <a:r>
              <a:rPr b="0" lang="es-ES_tradnl" sz="1600" spc="-1" strike="noStrike">
                <a:solidFill>
                  <a:srgbClr val="333300"/>
                </a:solidFill>
                <a:latin typeface="Trebuchet MS"/>
              </a:rPr>
              <a:t>para satisfacer los requerimientos y sostener el SGC</a:t>
            </a: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: formación, entrenamiento, habilidades y experiencia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ISO/IEC 12207 human resource management , People CMM.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petencia, toma de conciencia y formación: notaciones, métodos, lenguajes, herramientas, técnicas usadas para desarrollo y gestión.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CMMI – Organizational Training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3 Infraestructura: edificaciones, equipos y servicios de soporte (herramientas, gestión de conocimiento), herramientas y soporte físico: red, protocolos, seguridad, asistencia técnica. IS0/IEC                                                    12207 Infraestructure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4 Ambiente de trabajo: PP, CMMI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écnicas y práctic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evolucion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09-29T22:03:10Z</dcterms:modified>
  <cp:revision>485</cp:revision>
  <dc:subject/>
  <dc:title>ISO 9000 aplicado a software</dc:title>
</cp:coreProperties>
</file>