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8BDE-8001-425A-BAF1-1F132865AD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0D4F-C30E-4F0B-9D6B-83CB31FE2B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466C-66D4-4140-B7DF-A48D50FB4E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382B-BD60-4D5E-8DDD-8E00A40E3B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D7B3-CD56-4476-8B1F-DC62EAEAFE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21F5-0678-4BB2-B58B-494B28EC6D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6C7-FC70-46D1-8B5B-DA3FD304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481-BD24-4124-A307-11848406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E78-3521-42AB-BC16-8B8F56C6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25A-9574-443C-B77D-2952F0FC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AF556-B54B-427F-A386-562BA886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52B51-9EAD-4357-811B-E4D63BE6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B5DCD-0640-4D48-9F72-3B340635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F5FFE-6075-4D58-8152-D05DB07B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F28EC-F514-4700-B857-D98418FF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D9F82-BC02-4525-8702-2717D9FB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BADB9-2424-4417-BEE1-316E0E61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0C3-58C1-4302-98BD-3B93CC3A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701F0-5E06-4222-AD51-291B92DB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34F56-925A-4FBC-B606-647047B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D27BA-FBD8-418A-B068-CAE7614E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97D61-1623-48CC-A544-4986B05E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C328A-B32D-4DC7-BC42-98C1F81E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C6A-E73B-4B0C-AB9C-3BDCCECA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CBE-5CD8-4511-B6D8-4F6D76C1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A94-E0C0-46FF-8D5A-301575DF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878-8519-4497-9B59-F8EFDE9E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30A-14BC-4233-A50E-12D981B0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180-6894-410C-9980-B56262E2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02D-0A43-4E1F-8F70-7B62BAAD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B363-32CB-486D-85B6-4390B6143541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F83F-0D3C-42C5-9F8D-57FBAF489B1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2524-9D8C-4234-8DB0-55DBBB05C518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0B37-D533-426C-B575-C4A41D86996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ITIS LTDA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40352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itis Ltda es una empresa pequeña donde hay dos tipos de talento human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Fiel y en general de medi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olátil de alt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proceso ha sido adecuado a este contraste, para soportar mejor el aprendizaje y las transiciones de entrada del nuevo personal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corporó prácticas de aprendizaje por experiencia documentando las lecciones aprendidas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stá desarrollando una infraestructura de gestión de conocimient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n un tercer ciclo de mejora de procesos implementará el área OT (Organizational Training) de CMMI a un nivel de capacidad 3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55268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humanos en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u organización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uales las  necesidades actuales de recursos humanos para soportar un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Para cubrir cada necesidad defina estrategi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Haga un mapa de procesos de para organiz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Gest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 la norma ISO/IEC12207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1314360"/>
            <a:ext cx="368928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329080" cy="48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l estandar ISO/IEC 15504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7440" cy="506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1 Provisión de recursos: </a:t>
            </a:r>
            <a:r>
              <a:rPr b="0" lang="es-ES_tradnl" sz="1600" spc="-1" strike="noStrike">
                <a:solidFill>
                  <a:srgbClr val="333300"/>
                </a:solidFill>
                <a:latin typeface="Trebuchet MS"/>
              </a:rPr>
              <a:t>para satisfacer los requerimientos y sostener el SGC</a:t>
            </a: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: formación, entrenamiento, habilidades y experiencia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ISO/IEC 12207 human resource management , People CMM.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petencia, toma de conciencia y formación: notaciones, métodos, lenguajes, herramientas, técnicas usadas para desarrollo y gestión.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CMMI – Organizational Training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3 Infraestructura: edificaciones, equipos y servicios de soporte (herramientas, gestión de conocimiento), herramientas y soporte físico: red, protocolos, seguridad, asistencia técnica. IS0/IEC                                                    12207 Infraestructure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4 Ambiente de trabajo: PP, CMMI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écnicas y práctic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evolucion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09-29T22:03:10Z</dcterms:modified>
  <cp:revision>485</cp:revision>
  <dc:subject/>
  <dc:title>ISO 9000 aplicado a software</dc:title>
</cp:coreProperties>
</file>