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037E-4837-42AE-8FF6-BCDA4D935AA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6FEA-9D99-4EBF-A7C6-CC79DFBE3AF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AUTI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mmendations, if the auditee requested them and the auditors ag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07C8-1427-41B1-A3EC-7DE9153DCBA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CFF0-26DB-47EE-9E37-417E57ABCC1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7D58-6EB6-494A-81F2-3FEB3F73D35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97C5-CFE9-477A-9D17-18522A51458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BA66-0F56-4BCE-920F-EAF34E57765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6ABC-4754-43C8-BF16-E83D184E8C8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4E04-A5DA-4D85-AFD9-463D478F8E2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DB9F-7219-4E95-9CE1-431D39FA9E8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8373-9F0B-451A-BD83-D543B5A66E2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9480-116C-4E61-B46F-3A7844ADC4A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A30D-0315-40F0-A6CB-2B8F49C149B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4BE3-89F5-4C86-AA01-44474963333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A4A0-EF36-42CA-BFB0-5D1261C31D6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CA01-73DF-463C-A292-BBD762D6341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2AC7-E6B8-41D1-85B5-8C33093E6CA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A7D8-A945-49BC-B3ED-E47ED552620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AC7E-7065-40E8-B693-7A40E5440D0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A2A7-D642-43AD-B297-852D26A622E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A5D8-316B-4519-BEFB-F590D5418A0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DB8B-5D97-4922-8463-33719996359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B741-1A49-4839-A2A8-548FBEEF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F362-5339-488B-A3CC-1E432CB0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0747-40CC-4CD8-BF92-FD0248BA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3C75-67B8-48EB-97B6-EC227F8F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E4D2B-2555-46DA-ACE3-1E880DDC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3D23B-88C4-499D-AD4B-6BDE27E2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8293D-F0A3-445A-97BF-AAFDB65D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109F4-204E-4B87-86AF-19BCCBE3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BA434-EB4A-4292-AE6D-B5602581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9E921-C4F8-47CA-82BD-80C9F730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5D71C-0D82-4E00-971F-B5DE6DA2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9F49-2F89-4631-861F-0C1903CB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1F43D-860F-48E4-BBA8-D538E6E0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A2DE3-E608-486F-84CD-DA04969C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0147D-CB04-492E-9CB4-1C892397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7E5DF-1CD0-4570-AE77-5323BA5E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C4881-2DBA-4766-A7AD-479A8426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3A76-8577-423D-94F8-2DDA67B3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7F96-E570-4664-9729-BE1844B6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0D3B-50C7-4F04-A584-7D184F44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A1B3-230E-453B-85B0-6818D061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F02D-899B-4FED-AAD4-926D221A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F58D-0AC7-478B-96BD-42678E9A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284F-A697-493A-ACC6-1853E881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BE8C-62D5-4389-8492-ABE308C5C4A0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9427-035D-4F31-AE7A-43F21823E50C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5E5F-A11A-4893-B5F2-589DB5CECFE1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5D11-9F38-4638-9D3C-C0AB678DC6D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4400"/>
            </a:br>
            <a:r>
              <a:rPr b="0" lang="es-ES_tradnl" sz="40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hay en el reporte final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resumen ejecutivo de los alcances, objetivos, hallazgos y detalles del plan de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de efectividad del SGC en relación con los objetivos definidos para la cal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y explicación de cada no conform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requerimiento de acciones corr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de las fortalezas del SGC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Identificación de los documentos utilizados durante la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juicio sobre el grado de cumplimiento de la auditoría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lista de distribución del reporte de auditoría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SO/IEC 9126 es un estándar de calidad de productos compuesto por 4 parte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ISO/IEC 9126 Parte 1 describe un modelo de dos partes para calidad de productos de software: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a) calidad interna y externa, y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b) calidad en uso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objetivo es abarcar todos los aspectos que pueden afectar a la calidad de los productos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Existe un equivalente chileno - NCh 2812-1.c2002 - que es una homologación idéntica de la norma original hecha por el IN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El estándar internacional posee otras tres partes con carácter de reportes técnicos (aún no son estándares propiamente tales)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2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2: External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3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3: Internal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4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4: Quality in use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560" y="1904760"/>
            <a:ext cx="8569080" cy="476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55720" y="2275200"/>
            <a:ext cx="292860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Necesidad de calid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del usua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774360" y="4047120"/>
            <a:ext cx="286452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Requisit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x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853920" y="5845680"/>
            <a:ext cx="286452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Requisit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927120" y="2137320"/>
            <a:ext cx="119412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n u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977520" y="3897720"/>
            <a:ext cx="117756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x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7007400" y="5839200"/>
            <a:ext cx="112860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170240" y="252900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4143240" y="426096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4143240" y="605484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7510320" y="2946240"/>
            <a:ext cx="0" cy="843120"/>
          </a:xfrm>
          <a:prstGeom prst="line">
            <a:avLst/>
          </a:prstGeom>
          <a:ln w="38160">
            <a:solidFill>
              <a:srgbClr val="18869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7516800" y="4802040"/>
            <a:ext cx="0" cy="843120"/>
          </a:xfrm>
          <a:prstGeom prst="line">
            <a:avLst/>
          </a:prstGeom>
          <a:ln w="38160">
            <a:solidFill>
              <a:srgbClr val="18869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2271600" y="3078000"/>
            <a:ext cx="0" cy="622440"/>
          </a:xfrm>
          <a:prstGeom prst="line">
            <a:avLst/>
          </a:prstGeom>
          <a:ln w="38160">
            <a:solidFill>
              <a:srgbClr val="80b5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ISO/IEC 9126: 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Calidad en el ciclo de vida del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4249080" y="264600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Uso y retroalimen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4816440" y="4365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Valid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4858560" y="613836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Verif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250560" y="3132000"/>
            <a:ext cx="18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Contribuye en l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especificación 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228600" y="4915080"/>
            <a:ext cx="18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Contribuye en l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especificación 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7542000" y="328896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Ind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7548120" y="50353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Ind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22"/>
          <p:cNvSpPr/>
          <p:nvPr/>
        </p:nvSpPr>
        <p:spPr>
          <a:xfrm>
            <a:off x="2276640" y="4875120"/>
            <a:ext cx="0" cy="622440"/>
          </a:xfrm>
          <a:prstGeom prst="line">
            <a:avLst/>
          </a:prstGeom>
          <a:ln w="38160">
            <a:solidFill>
              <a:srgbClr val="80b5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Ámbitos de uso de 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Validar la integridad de una definición de requisitos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requisitos del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objetivos del diseño del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objetivos de la prueba de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l criterio de aseguramiento de calidad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l criterio de aceptación para un producto de software complet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iorizar los recursos en los aspectos más importantes en términos de calidad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tc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905120"/>
          <a:ext cx="8229600" cy="4937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decu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Preci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Interoperabilidad (compatibilida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Seguridad de acce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funciona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Efici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nejo del tiempo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nejo de los recurs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efici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Confi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dure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Tolerancia a fall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Recupe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confi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Manteni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análi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para introducir camb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Es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prueb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manteni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Facilidad de u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comprensión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aprendizaje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Operatividad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tra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facilidad de u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Port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daptabil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Instalabil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-exist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mpatibilidad o facilidad de reemplaz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por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1) Funciona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ntregar funciones que cumplan con las necesidades explícitas e implícitas cuando el software se usa bajo condiciones específic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Las funciones implementadas están adecuadas a los objetivos del software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Las tareas ejecutadas por las funciones existentes generan resultados deseados o correcto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2) Confia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vitar fallas como resultado de errores de software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l software presenta fallas en uso normal de este y con qué frecuencia ‘se cae’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Cómo se comporta el software frente a un uso anormal del software, por ejemplo, ingresando valores inválidos, realizando acciones incorrecta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n caso de producirse una falla, se recupera rápidamente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3) Facilidad de us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fácil de comprender, aprender y usar por el usuario y ser atractivo para él, bajo condiciones específicas de us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Un usuario nuevo puede comprender el sentido del software para empezar a usarl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se requieren manuales para usarl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8. Medición, análisis y mejor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5 Mejor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4) Eficiencia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ntregar un desempeño apropiado, en relación con la cantidad de recursos utilizados, bajo condiciones establecid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Cuánto demora el despliegue de la información de consulta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5) Manteni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modificado. Estas modificaciones pueden incluir correcciones, mejoras o adaptaciones del software a los cambios en el ambiente, en requisitos y en especificaciones funcionales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Existe documentación que facilite entender el software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El código está auto documentad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6) Porta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transferido desde un ambiente a otro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xisten manuales de instalación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stán identificados todos los archivos, documentos, etc. para reinstalar el software en otro computador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para calidad en us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 la capacidad del producto de software para permitir a usuarios específicos lograr objetivos con efectividad, productividad, seguridad de uso y satisfacció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mide en términos de los resultados del uso del software más que de las propiedades del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SO/IEC 9126 propone 4 atributos de calidad en uso, estos so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fectiv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ductiv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guridad de uso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atisfacción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Perfil de Calidad usando </a:t>
            </a:r>
            <a:br>
              <a:rPr sz="3600"/>
            </a:b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n perfil de calidad permite focalizar la definición o evaluación de calidad de un producto de software en los criterios de calidad más importantes según el contexto requerido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un perfil están definidos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atributos y sub características relevantes para el producto de software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as métricas que se usarán en la medición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rangos de aceptación de esas métricas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rebuchet MS"/>
              </a:rPr>
              <a:t>Ejercicio 10. Perfil de Calidad para SWS-Asistenci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SWS va a desarrollar un software para control de asistencia del personal de plantas de proceso de empresas salmoner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El software no es muy sofisticado así que será usado por lo(a)s operario(a)s cada vez ingresen o salgan de la sala de proceso, donde deberán marcar su entrada o salida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atributos / subatributos son los más relevantes desde el punto de vista de ello(a)s?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rebuchet MS"/>
              </a:rPr>
              <a:t>Ejercicio 10. Perfil de Calidad para SWS-Asistenci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905120"/>
          <a:ext cx="8229600" cy="4937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decu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eci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teroperabilidad (compatibilida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eguridad de acce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funciona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fici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anejo del tiempo.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anejo de los recurs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efici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i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Tolerancia a fall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cupe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confi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anteni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análi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para introducir camb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s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prueb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manteni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u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comprensión.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aprendizaje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peratividad.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facilidad de u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ort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daptabilidad a la platafor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stal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-exist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mpatibilidad o facilidad de reemplaz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por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pasa durante la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Revisan la documentación del SGC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ntrevistan al personal sobre la política de calidad, el SGC, y los registros de calidad relacionados a las actividades que desarrollan, y la forma como hacen su trabaj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Preguntan al personal sobre ciertos documentos y registros de cal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Toman todas las cláusulas de ISO 9001 y verifican que el SGC los cumple;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las auditorías de revisión sólo toman un sub conjunto de dichas cláusul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ostienen reuniones de pre y post auditoría con los gerentes para establecer las expectativas y presentar los resultad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e hace seguimiento de las acciones corr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uáles son las principales cosas que un auditor externo buscará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los niveles altos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Tienen un plan de calidad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Son distribuidos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Satisface el SGC los requerimientos de ISO 9001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otros niveles revisarán el SGC contra las cláusulas de ISO 9001 y tratará de determinar su nivel de aplicació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Está el gerente de calidad firmando y fechando el reporte de evaluación del proveedor para indicar su aprobación o rechaz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Existe un programa de auditorías en que se identifique que cada sección del Manual sea auditada al menos una vez al añ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Mantiene el gerente de calidad un registro de control de desviaciones donde se identifica el Nº de desviación, fecha, etc.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En qué consisten las entrevista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busca verificar si el personal conoce sus responsabilidades establecidas en el Manual de la Calidad, y conocer que es lo que está realmente haciendo y por quié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Tipos de preguntas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Cómo hace usted una corrección en la especificación de requisitos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Cómo hace la evaluación del personal subcontratad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unque no cuenta con una especificación para usar el software de gestión de configuración, usted sabe como acceder a una pieza de código para trabajar en ella, ¿No es así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ómo se informan los resultado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porte de las no conformidad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ayores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: donde existe suficiente evidencia de que la organización no satisface los requisitos del estándar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enores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: donde se descubren algunas debilidades, por ejempl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encontró una antigua versión del documento en us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observó un defecto potencial de desempeño o en la documentación y se puede transformar en un problem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notó un problema de calibr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encontró una inconsistencia en la document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identificó que una parte de la cláusula no se practica de manera extendid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tan larga es una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Típicamente puede tomar entre 3 y 5 días, pero puede ser más larga o más cort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 duración varía según el alcance, tamaño de la organización, número de auditores y criticidad de los product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ómo se deben manejar las acciones correctiva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las causas de las no conform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Tomar acciones para corregir las no conform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y cómo se puede prevenir el problema para que no vuelva a ocurri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una acción preliminar puede ser tomad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las acciones de solución son necesarias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visar la historia para detectar desde cuando la no conformidad exis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tar preparados para tener la auditoría de seguimiento preferentemente a las dos semanas siguientes de la fecha de terminación de las acciones correctiv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6:40Z</dcterms:modified>
  <cp:revision>460</cp:revision>
  <dc:subject/>
  <dc:title>ISO 9000 aplicado a software</dc:title>
</cp:coreProperties>
</file>