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4F8-818C-494B-8F86-058191AC2B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5AD-FA5B-4B41-BF5F-D001C646B1B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8CD-EE44-4F5C-961A-7530BAB335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0D9-9249-4A22-8473-1F4EC95A1DD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FF96-5618-4841-BCAB-19647B8562F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E72C-4B22-4915-BFB7-544FF9A721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D37-B8D2-48F4-9BF9-D6E8F4FF6EC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105-3FDE-49B7-8CD6-42E3EC51B2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D31-03C8-4D11-A20C-15DF4B83EA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FBEA-8C42-42DF-88F8-F12DDC9327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985-E151-48B0-9EB0-4F0966DD31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0E0-B8E1-4581-B916-DA53A1C8C69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AF7-9D50-47EB-96A6-93EF4D6F6E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C9A8-7D73-443D-B736-57A03E326A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9AA-7B0C-49EE-A150-37F88CEF0A2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7C3C-75BA-44BC-A1A8-82CB8A39EE4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900-BB99-40B9-A065-63ECA2D5AF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22A-7920-4E6A-8B7A-D5FA7047C53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C70-F1C0-4EEF-AF4C-73417210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212-772C-4CA2-91ED-DAAADEE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598-A2B3-4765-888B-D9BA51F2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89B-7B79-46FE-A81F-DC6CB7A2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C6583-CD41-4958-B435-0D310AD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64E06-CF36-4AC4-92DC-3B380A45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EBF89-AA09-462F-A8F2-5C6BA04C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78BF-1E4B-4325-9E1E-1D1FEEEB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EA800-AF9A-4F44-9E2F-72CE7C29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B021F-B0E8-4832-B725-B07D232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2797-1592-4B45-A037-169FCDD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39E-8E4D-4A55-A93D-32FDC236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18C7-6BFE-4925-AE66-A952132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80CBE-9C37-4A03-A14D-99E1C56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622D6-DFEF-449C-9014-B03D2E3F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76E92-AEB7-4305-BD91-CAB88171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3B52E-2704-404D-80CA-E044D0F9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337-126D-4180-A0C9-10E0C2A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F2D-44DF-47AD-81A5-65A601B1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23D-71F9-4AE0-84F8-129A1A0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3A8-BB0C-4231-94BD-793E2A3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9E1-7BE4-472E-AA9F-E0970F7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FA3-5E24-44B0-A5CF-E5DFB44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BA0-F5E6-497E-962C-36B364AD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B19-D4F4-44A6-BFE2-9E7D48DFE6A2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697-2794-4852-880C-C0DE8B19DD2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2CBB-BF4E-48D7-927C-3F7AD9E0700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ED0-49C1-4F11-BF12-D46D0F95C01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s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43" name="Oval 6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27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46" name="Oval 9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Text Box 10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8" name="Group 11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9" name="Oval 12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Text Box 13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14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52" name="Oval 15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4" name="Line 17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26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8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Text Box 30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Título incluyendo seguimiento o códi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ivel de rev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ignación de autoridad y respons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ista de distribu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ropósi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lic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cripción del proce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uando sea apropiado: técnicas estadísticas a utilizar y factores ambient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irma autoriz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quisitos de registro de calidad asoci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9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istema de gestión de la calidad: Requisi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900000" y="1341360"/>
            <a:ext cx="7272360" cy="49690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851000" y="1413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SG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1044720" y="1700280"/>
            <a:ext cx="7056360" cy="4464000"/>
          </a:xfrm>
          <a:prstGeom prst="ellipse">
            <a:avLst/>
          </a:prstGeom>
          <a:solidFill>
            <a:srgbClr val="008000">
              <a:alpha val="3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328560" y="227664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Medición, análisis y 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763640" y="292428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e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203640" y="4005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Gestión de 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4211640" y="2781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alización 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Objetivo del diagnóstico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la conformidad o no conformidad del SGC con los requisitos especific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valuar la efectividad del SGC establecido para el logro de los objetivos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 el cumplimiento del programa de calidad de acuerdo con las regulaciones establecid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ar al auditado la oportunidad de perfeccionar su SGC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xámenes sistemáticos e independientes que se planifican y ejecutan usando procedimientos escritos y listas de chequeo para determinar si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sigue el sistema de gestión de calidad plane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fectivamente se ha implementando el pl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han alcanzando los objetivos de calidad defini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ueden ser internas o extern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efinicion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Evidenci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gistros, declaraciones de hech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riterios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onjunto de políticas, procedimientos o requisitos utilizados como refer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Hallazgo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s de la evaluación de la evidencia de la auditoría recopilada rente a los criterios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clusione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 de una auditoría que proporciona el equipo auditor tras considerar los objetivos de la auditoría y todos los hallazg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No 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Defecto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 asociado a un uso previsto o espec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Inspección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evaluación de la conformidad por medio de observación y dictamen, acompañada cuando sea apropiado de medición, ensayo/prueba, comparación de patron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1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auditorías internas o de primera parte son auditorías que ocurren antes de la auditoría para registro y entre las auditorías de supervisión, usando a auditores de calidad entren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dos los elementos y procesos del SGC deben ser auditados y evaluados internamente de manera regular, considerand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gramar la auditorí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alizar la auditoría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or personal independiente a las actividades o áreas auditada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formar los result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plicar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2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r: documentos aplicable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nfirmar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aboración de documentos según códigos, normas, requisitos y especific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robación, distribución, modificación, utilización y conservación de la document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Verificar y evalua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Fiabilidad e integridad de la inform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onformidad con la política general, planes, procedimientos y regul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tilización eficaz de los recurs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licación y seguimiento de procedimientos e instruc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mplimiento de los objetivos y propósitos de calidad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fectividad del SG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3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requie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Hacerlas visi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lanificarlas con el jefe de proye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cluirlas en la planificación y el desarrollo del proyecto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ar auditores que sean independientes al proyecto audit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ina y asigne responsables par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g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e ISO 10011, la cual provee lineamientos para auditar sistemas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e auditores que tengan experiencia en desarrollo de softwar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auditoría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cedimiento organizativ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 y 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é debe hacers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ién lo hará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uán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ónd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ocumentos que se utiliz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ateriales y equip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 se controla y regist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Gestión de programa de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Función independiente, por personas calificadas y con experi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stablecer procedimientos y salvaguardar la confidenci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alizarlas por requisito regulatorio, cambios en el SGC, control de cumplimiento y efectividad del SGC, verificar implantación de acciones correctivas, etc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4533840" cy="23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Auditorías extern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ip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Segund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cliente o alguien de otro grupo requiere una auditoría del proveedor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ercer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proveedor decide alcanzar el registro de satisfacción con los requisitos de ISO 9000 y encarga una auditoría para registro a una tercera parte (incluye las auditorías de seguimiento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 plan de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e los objetivos y alcances de la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el plan que el auditor seguirá durante el proceso, indican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iembros del equip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ech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nidades que serán audit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iempo estimado para las principales activ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ronograma de reuniones con personal de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erimientos de confidenci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tribución del reporte final y fecha de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define una muestra par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recomienda tomar de 3 a 7 muestras de documentos (no típicos) de cada clas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encuentre una desviación, tome muestras adicionales para comprobar si es algo genéric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probabilidad de encontrar desviaciones, sin considerar el número total de documentos en la empresa, considerando una tasa estimada de no conformidades del 50% e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64000" y="1905120"/>
          <a:ext cx="2705400" cy="4144680"/>
        </p:xfrm>
        <a:graphic>
          <a:graphicData uri="http://schemas.openxmlformats.org/drawingml/2006/table">
            <a:tbl>
              <a:tblPr/>
              <a:tblGrid>
                <a:gridCol w="1435320"/>
                <a:gridCol w="1270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uest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b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86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3,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6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8,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&gt; 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 es le proceso de rastre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Punto profund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seleccione un área aparentemente débi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Seguimient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comience al principio o al final del proceso, siga desde un documento dado hasta los asociados, o vaya desde los procedimientos a los reportes y de los reportes a los procedimien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la comprob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Control de proces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: revise los documentos para evaluar el cumplimiento con especificaciones, procedimientos e instruccion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siguen los pasos establecidos en el Manu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los documentos se completan como es debi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hacen las actualiza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mejorar continuamente la eficacia del SGC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lista de verificación para auditorí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503360" y="2284560"/>
            <a:ext cx="6138720" cy="228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Un defecto potencial de desempeño o en la documentación fue observado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contenido de reporte de no-conform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Número (y revisión, si es necesario)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ema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Organización / proceso audit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Quién fue contactado cuando se encontró una no-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cita del requerimiento de la ISO 9001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cómo el hallazgo fue determinado y ver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aracterísticas específicas del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dicadores de estado de cada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cción tomada cuando la no-conformidad es cerrad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a organización bajo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formar al personal sobre los objetivos y alcance d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ender los objetivos de la auditoría y con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signar personal para acompañar al auditor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acceso a las personas, documentos y evidencias obje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soporte logístico: salas, teléfono, impresora, fotocopiador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mprometer al grupo que va a trabaja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operar y no interferi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sponder a las no conformidades con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os auditor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anecer sensibles a los propósito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inimizar la des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vitar conflicto y debates, siendo verás y objetiv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de manera profesional, evitando juicios personales y comentarios no relevant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comple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blecer hechos, presentando no conformidades que demuestren desviaciones o irregularidades, particularmente las crític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comendar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las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grama calendari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 de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ista de cheque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 de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solicitud de acciones correctiv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s de auditorías de segu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ontrol de las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32" name="Text Box 4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7:29Z</dcterms:modified>
  <cp:revision>564</cp:revision>
  <dc:subject/>
  <dc:title>ISO 9000 aplicado a software</dc:title>
</cp:coreProperties>
</file>