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093D-E5F9-4283-9C8F-9005884BAA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58B3-A5BF-4D32-9166-3059E5194BF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9BFF-E633-46AD-847F-060BB65FB01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75B8-682B-41D4-B65E-F4A44422E92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B087-0012-46B5-B018-3FA10FFE473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7446-D105-4F7E-8930-4E44591CF60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93B4-DE00-4912-AE4F-4E5E0004834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FE92-57C0-4D2A-A027-C356FD5E031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B3E9-464A-4D1F-B025-11800C1DCA7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14B7-1B4E-4690-B86F-6E89A742D5F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26FE-358D-4D42-8F2B-A2EA97D4859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1D89-3553-4B34-A45E-AD0D4DD47F3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31CF-F092-4282-9942-E16A641D895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E706-E588-454E-95FD-F9A46B8ED0B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A2E0-5656-4F30-965B-6ADF524F847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B8BE-68BD-4C17-8003-88C897843CA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CE80-6F4F-47F8-9999-63F85A9442B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730-C077-46A9-AC84-9782DF70156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F86-6AB7-4989-9A97-E71C4F16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BBE-E2EA-4D46-8EF3-46A8A771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8DF-56BF-405E-9B27-78289A66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D4F-5A7F-4D62-A226-CD757686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A4C92-AF27-4E2A-A455-2CC90EA8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80EFA-1048-49B2-BC87-2AC16E16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48F07-E2B7-4C2E-8044-24D98A7B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838E0-E2BD-4266-A044-EB2ED0D8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EAA94-D82C-4525-8F00-E3AC8880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42ADE-EFA6-41D9-82F1-B3B8C605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FFEB6-C16E-4C9B-B42E-0E01CE80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85B-712D-4F5C-ADAE-16464697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B4811-3453-430E-B64C-2B493FE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BD7F1-C996-4F49-8F77-D02A745E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71F2B-3340-4DAA-9CEB-E6529B7D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32C99-4DCA-4CA5-B2B4-CBEF416A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1FB87-D38B-467F-B601-07A8F3F1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CFE-2595-4D5C-9A7A-6E016070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36B-9EC9-4031-AEDD-1DF34671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DE4-D633-4796-BA59-894FC472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B92-94E7-48B2-BFD3-5E078093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A58-8EA1-41FA-8B43-F8A6A47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E91-9E4C-4AA9-A7AD-BCF87CC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AEB-EAFD-4894-A771-6C2E7702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803C-5D47-458F-9070-C280959291B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AC81-8817-40E8-85D1-9A15D3BBABB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7853-B1BB-472C-896E-840A88ED4636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0F97-22E7-4F48-ABAF-0E31B37AC93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s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43" name="Oval 6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99"/>
                </a:gs>
              </a:gsLst>
              <a:lin ang="27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46" name="Oval 9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Text Box 10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8" name="Group 11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9" name="Oval 12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Text Box 13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14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52" name="Oval 15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Text Box 16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4" name="Line 17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Text Box 20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Text Box 22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4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Line 26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27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28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Text Box 30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especifica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Título incluyendo seguimiento o códi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F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ivel de rev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ignación de autoridad y responsabi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ista de distribu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ropósi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licabi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cripción del proce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uando sea apropiado: técnicas estadísticas a utilizar y factores ambient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Firma autoriz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quisitos de registro de calidad asoci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9: Desarrolle un procedimiento para la especifica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istema de gestión de la calidad: Requisi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900000" y="1341360"/>
            <a:ext cx="7272360" cy="49690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851000" y="1413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SG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1044720" y="1700280"/>
            <a:ext cx="7056360" cy="4464000"/>
          </a:xfrm>
          <a:prstGeom prst="ellipse">
            <a:avLst/>
          </a:prstGeom>
          <a:solidFill>
            <a:srgbClr val="008000">
              <a:alpha val="3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328560" y="227664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Medición, análisis y mej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1763640" y="292428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sponsabil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de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dir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Oval 11"/>
          <p:cNvSpPr/>
          <p:nvPr/>
        </p:nvSpPr>
        <p:spPr>
          <a:xfrm>
            <a:off x="3203640" y="400536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Gestión de 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cur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12"/>
          <p:cNvSpPr/>
          <p:nvPr/>
        </p:nvSpPr>
        <p:spPr>
          <a:xfrm>
            <a:off x="4211640" y="278136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alización d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Objetivo del diagnóstico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la conformidad o no conformidad del SGC con los requisitos especific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valuar la efectividad del SGC establecido para el logro de los objetivos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Verificar el cumplimiento del programa de calidad de acuerdo con las regulaciones establecid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ar al auditado la oportunidad de perfeccionar su SGC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xámenes sistemáticos e independientes que se planifican y ejecutan usando procedimientos escritos y listas de chequeo para determinar si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sigue el sistema de gestión de calidad plane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fectivamente se ha implementando el pla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han alcanzando los objetivos de calidad defini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ueden ser internas o extern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efinicion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Evidenci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gistros, declaraciones de hech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riterios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Conjunto de políticas, procedimientos o requisitos utilizados como referenci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Hallazgos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sultados de la evaluación de la evidencia de la auditoría recopilada rente a los criterios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onclusiones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sultado de una auditoría que proporciona el equipo auditor tras considerar los objetivos de la auditoría y todos los hallazg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onformidad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cumplimiento de un requisit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No conformidad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incumplimiento de un requisit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Defecto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incumplimiento de un requisito asociado a un uso previsto o especific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Inspección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evaluación de la conformidad por medio de observación y dictamen, acompañada cuando sea apropiado de medición, ensayo/prueba, comparación de patron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1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auditorías internas o de primera parte son auditorías que ocurren antes de la auditoría para registro y entre las auditorías de supervisión, usando a auditores de calidad entren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dos los elementos y procesos del SGC deben ser auditados y evaluados internamente de manera regular, considerand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gramar la auditorí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alizar la auditoría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or personal independiente a las actividades o áreas auditada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formar los result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plicar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2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r: documentos aplicable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nfirmar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aboración de documentos según códigos, normas, requisitos y especifica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probación, distribución, modificación, utilización y conservación de la document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Verificar y evalua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Fiabilidad e integridad de la inform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onformidad con la política general, planes, procedimientos y regula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tilización eficaz de los recurs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plicación y seguimiento de procedimientos e instruc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mplimiento de los objetivos y propósitos de calidad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fectividad del SG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3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requie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Hacerlas visi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lanificarlas con el jefe de proye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cluirlas en la planificación y el desarrollo del proyecto de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ignar auditores que sean independientes al proyecto audit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ina y asigne responsables para las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ga las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e ISO 10011, la cual provee lineamientos para auditar sistemas de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igne auditores que tengan experiencia en desarrollo de softwar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ocumentación de auditoría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cedimiento organizativ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 y 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é debe hacers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ién lo hará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uán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ónd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óm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ocumentos que se utiliza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Materiales y equip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ómo se controla y registr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Gestión de programa de auditorí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Función independiente, por personas calificadas y con experienci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stablecer procedimientos y salvaguardar la confidenci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alizarlas por requisito regulatorio, cambios en el SGC, control de cumplimiento y efectividad del SGC, verificar implantación de acciones correctivas, etc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4533840" cy="23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Auditorías extern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ip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Segunda part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: un cliente o alguien de otro grupo requiere una auditoría del proveedor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ercera part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: un proveedor decide alcanzar el registro de satisfacción con los requisitos de ISO 9000 y encarga una auditoría para registro a una tercera parte (incluye las auditorías de seguimiento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 plan de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e los objetivos y alcances de la auditorí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el plan que el auditor seguirá durante el proceso, indican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Miembros del equip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ech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nidades que serán audit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iempo estimado para las principales activ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ronograma de reuniones con personal de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erimientos de confidenci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tribución del reporte final y fecha de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hace define una muestra par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recomienda tomar de 3 a 7 muestras de documentos (no típicos) de cada clas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encuentre una desviación, tome muestras adicionales para comprobar si es algo genéric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probabilidad de encontrar desviaciones, sin considerar el número total de documentos en la empresa, considerando una tasa estimada de no conformidades del 50% e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64000" y="1905120"/>
          <a:ext cx="2705400" cy="4144680"/>
        </p:xfrm>
        <a:graphic>
          <a:graphicData uri="http://schemas.openxmlformats.org/drawingml/2006/table">
            <a:tbl>
              <a:tblPr/>
              <a:tblGrid>
                <a:gridCol w="1435320"/>
                <a:gridCol w="1270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uest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b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7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86,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3,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6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8,4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&gt; 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 es le proceso de rastre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rebuchet MS"/>
              </a:rPr>
              <a:t>Punto profundo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: seleccione un área aparentemente débi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rebuchet MS"/>
              </a:rPr>
              <a:t>Seguimiento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: comience al principio o al final del proceso, siga desde un documento dado hasta los asociados, o vaya desde los procedimientos a los reportes y de los reportes a los procedimien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hace la comprob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Control de proces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: revise los documentos para evaluar el cumplimiento con especificaciones, procedimientos e instruccion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Verifica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se siguen los pasos establecidos en el Manu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los documentos se completan como es debi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se hacen las actualiza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mejorar continuamente la eficacia del SGC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 de lista de verificación para auditorí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1503360" y="2284560"/>
            <a:ext cx="6138720" cy="228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Un defecto potencial de desempeño o en la documentación fue observado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 de contenido de reporte de no-conform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Número (y revisión, si es necesario)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ema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Organización / proceso audit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Quién fue contactado cuando se encontró una no-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cita del requerimiento de la ISO 9001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cómo el hallazgo fue determinado y verific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aracterísticas específicas del hallazg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ndicadores de estado de cada hallazg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Acción tomada cuando la no-conformidad es cerrad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responsabilidades de la organización bajo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nformar al personal sobre los objetivos y alcance d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ender los objetivos de la auditoría y con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signar personal para acompañar al auditor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oveer acceso a las personas, documentos y evidencias obje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oveer soporte logístico: salas, teléfono, impresora, fotocopiador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mprometer al grupo que va a trabajar con los 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operar y no interferir con los 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sponder a las no conformidades con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responsabilidades de los auditor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anecer sensibles a los propósito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inimizar la des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vitar conflicto y debates, siendo verás y objetiv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er el trabajo de manera profesional, evitando juicios personales y comentarios no relevant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er el trabajo comple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blecer hechos, presentando no conformidades que demuestren desviaciones o irregularidades, particularmente las crític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comendar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ocumentación de las auditorí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grama calendari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 de auditorí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ista de cheque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forme de 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lla de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lla de solicitud de acciones correctiv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formes de auditorías de segu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ontrol de las 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32" name="Text Box 4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5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7:29Z</dcterms:modified>
  <cp:revision>564</cp:revision>
  <dc:subject/>
  <dc:title>ISO 9000 aplicado a software</dc:title>
</cp:coreProperties>
</file>