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4A1-B1B4-4BD9-A291-0B8EFE23CF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A9F-737D-4637-8D8A-327A8AFE877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30E-285D-4968-BC9D-42E464D333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3D8A-5834-4B08-8AA0-C5559417E0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F78C-8CDD-4E29-A6F8-803B9A87E51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7A3-F80F-40D7-88B6-541A3244C93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1D0E-9324-4EE6-82F3-5A46782216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4392-694C-4B33-88AB-1FC356AD690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4B6-CC7B-4B22-9A32-7E2CC072D3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A03-93F5-4946-881C-AEEA456C42A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5CDA-B165-4E04-A89B-C74005CCB13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28D-DC8E-48ED-B989-E09D8E9DFE5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9EDE-258F-4590-BED2-EB675AFBB7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25E7-703B-44DB-B752-07F9DDF7678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3180-5878-4A83-A0BC-9DC5C9241A3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4F4B-2741-44E7-A419-40E8FF8FEB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847-2173-4299-9FA7-A4B29E01CB7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C07-2437-4C6A-AEF0-71524513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748-B6EC-4709-850C-E88EF2B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484-BD8A-4517-B8A5-E7F9868A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8BA-ACDC-442F-A211-A386A829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C3641-FB28-4EAD-B56B-1D016E3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8CC9D-6425-44D0-9FB6-99ED3F7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6780B-06BA-4C77-82ED-DF2CA01D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44B4-F54E-4C65-BF7B-C5CC9236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85174-31B2-4F02-94EB-2D67BB9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3F55D-F577-4D98-B320-71CB8CE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4AAE0-28EA-4E39-954F-15C362A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E1E-1C73-4B85-9153-09A8D96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2FB8-8F0D-41C2-8620-14A307A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BB5D-8B67-4C20-B528-25E2340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14420-A4C0-4DB6-9D6D-9ED1170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20781-ACE5-4BB4-A6D7-772D1144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86A0F-279B-4EF1-BF56-872C9EA3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6D0-08A6-46CC-BCCF-3A6526FC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BAA-C3C8-43DB-9874-E76B5904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A23-D6AC-47E5-A4EF-4BDCB28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6D7-40B5-41C1-8DEA-44BE2BE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227-F460-4A51-BC59-720FA43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D30-F7E9-4520-B56F-6093DE9F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59E-8670-4B2D-A2E5-73B474C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8DD-04D2-464C-AD65-1C9886EF40A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772F-B3DA-4F30-B4AB-09C6E6A07835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1DE-3002-4DFD-851F-1649612CAA38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DC6-CF7E-47CD-AF71-0DB36286167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on condiciones controlada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soldadura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locidad de descarga de páginas en un sitio web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sempeño para la entrega de resultados de consultas a una base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eza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4076640"/>
            <a:ext cx="7993080" cy="2016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00Z</dcterms:modified>
  <cp:revision>517</cp:revision>
  <dc:subject/>
  <dc:title>ISO 9000 aplicado a software</dc:title>
</cp:coreProperties>
</file>