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4234-A9DF-4AC8-BC14-CA869F75180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6AD9-F426-4D61-A458-52FBA490E6A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CB99-62CE-4871-B20B-E24C5B31B20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6674-3F05-42E4-8D4D-C5EBA83CBBA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DISCUSS the controlled conditions in light of the definitions given in the standar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2453-326F-4649-9EAA-D6CD5130FBC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81EF-430F-4B55-9291-050555D6E7A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BF93-57C8-4BF0-9F97-54CFE4EED59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6F52-C6BF-4C15-AE5C-2AFFC7F0E38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244C-8183-43A9-A177-155AF272633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998E-3B3A-4E5C-8AF4-6C738224C56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That this clause’s requirements are some of the easiest to aud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EB66-7ED4-44C2-AB6F-6A59579D11F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That this clause’s requirements are some of the easiest to aud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5DB2-B00E-407A-BE89-B446387F504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That this clause’s requirements are some of the easiest to aud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CA10-A4AA-4A69-9F5B-E242DE149D7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8556-9E50-49E4-BEAE-292D8E6291D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35BD-73C9-4910-B906-9F8653DA8FA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A2DF-B8DC-4CB0-88CB-D221AC54378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FE20-2425-4025-A27B-1E91C6A5B35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AB14-4A57-4EED-BF3B-12D69488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DFE2-D959-488E-972C-F543A7F2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38C1-D3C5-49AD-A2F9-A508BE7C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1C03-175E-4481-94D1-4C8AE321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D7085-31D3-4515-AE59-B0A57968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67900-BE0E-4291-BAC9-6751126C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F483D-080F-4BA4-ACDA-53A449A2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0C01E-B3FB-454F-8938-B05F7C76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26619-E9C9-4248-BD06-53704449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48B66-7207-4020-A5E0-EC60404B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36784-8020-4511-AC9A-2E1F5509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D176-3741-498F-BBC8-611B1E8A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60785-2796-474C-9F26-A8D73868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89780-8A06-48D4-9F18-32EA9B47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A1A25-8DA8-4610-989B-E2EAF4A6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63F87-4008-4539-8AF9-C666491D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A2DE8-2D4A-4587-975E-02D74281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EC85-1BD5-4599-BD4F-6DC79B5C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0290-67E4-4369-8EE2-C16902FE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BD89-674D-484B-ABBB-06A09B13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3A39-D07D-499E-99CA-0FA47358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2602-7C49-4749-8679-2E3F97DD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F757-0D8A-42A8-A932-5055BD74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AC19-BC02-49C0-B971-A3E065C7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F742-1F89-4E1F-88E6-181EA1CA9313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12B3-63B3-46EE-8F94-96D22AF2F0A9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88BE-1BB7-4A13-9686-3571AD44A1B9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4603-CC9A-4A0D-AED1-C98B77C17C2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4400"/>
            </a:br>
            <a:r>
              <a:rPr b="0" lang="es-ES_tradnl" sz="40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5) Producción y prestación del servici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Se requiere planificar y llevar a cabo la producción y la prestación del servicio bajo condiciones controlad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(7.5)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 ¿Qué son condiciones controladas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egún corresponda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formación que describa las características d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strucciones de trabaj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Uso del equipamiento apropia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isponibilidad y uso de dispositivos de seguimiento y medi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lementación del seguimiento y la medi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lementación de actividades de liberación, entrega y posteriores a la entreg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5)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Validación de los proces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validar los procesos donde los productos resultantes no puedan verificarse, incluyendo aquellos cuyas deficiencias se hacen aparentes únicamente después de que el producto está asiendo utilizado o se haya prestado el servicio.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mplos: soldadura, diseño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Sugerencias sobre el control de proces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todos los procesos que afectan la calidad del produc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 incluir los procesos (actividades en el plan)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 entradas, controles y criterios de salida para los procesos identific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lacione los procedimientos requeridos con los procesos defini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a y documente las instrucciones de trabajo, checklist, y formularios donde la ausencia de ellos pueda acarrear problemas de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Tipos de procesos aplicables a la producción de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nálisis de requerimient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rototip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Diseño 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mplementación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spección y pruebas: de unidad, funcional, de sistema, de usabilidad, etc.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26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ficación del proyect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ficac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stión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stión de configur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Mantenimient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Trazabil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uando sea apropiado, identifique el producto por medios adecuados a través de toda la realización del producto.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mplos: gestión de configuración incluyendo minutas, documentos (requisitos, diseño, pruebas), piezas de código, etc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uando la trazabilidad sea un requisito, la organización debe controlar y registrar la identificación única de product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sarrolle un sistema simple pero útil de identific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segure que la trazabilidad de los requisitos está claramente establecida en las especificaciones del client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ntrene a su personal en la identificación y trazabilidad de requerimien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Propiedad del client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a organización debe cuidar los bienes que son propiedad del cliente mientras estén bajo su control.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ntre los bienes de propiedad del cliente se debe considerar la propiedad intelectual.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e deben reportar pérdidas o daños de un producto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i no se verifica, el proveedor quedará vulnerable a tener que trabajar con un producto defectuoso o tratar de repararlo despué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i no es almacenado adecuadamente, el producto podría dañarse y afectar la relación con el cliente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Un producto que se usa y no es mantenido puede resultar dañado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i la pérdida, daño o desajuste del producto no es reportada al cliente, el proveedor se hace totalmente responsable por el estado del producto y deberá disponer de los recursos para solucionar la situación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Propiedad del client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e deben comunicar al cliente los problemas: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i el cliente no es comunicado sobre los defectos del producto facilitado, puede llegar a pensar que el proveedor acepta la responsabilidad sobre los daños previ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costos extra por uso de un producto en malas condiciones, aun provisto por el cliente, recaen en el proveedor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Conform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 organización debe preservar la conformidad del producto durante el proceso interno y la entrega al destino previsto: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i en las inspecciones y pruebas no se identifican la conformidad o disconformidad, el estado actual de la inspección o prueba nunca se conocerá realmente, y los problemas con el producto no serán suficientemente visibles como para tomar acciones correctivas de manera tempran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i no se mantiene el estatus con respecto a conformidad o disconformidad, el personal o los clientes pueden usar partes que no han sido suficientemente inspeccionadas o probadas, o para las cuales aún no se encuentra una solu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6) Control de los dispositivos de seguimiento y de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Organización debe determinar el seguimiento y medición a realizar, y los dispositivos de seguimiento y medición necesarios para </a:t>
            </a: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proporcionar la evidencia de la conformidad del producto con los requisitos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determinado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6) Control de los dispositivos de seguimiento y de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jemplos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Velocidad de descarga de páginas en un sitio web 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esempeño para la entrega de resultados de consultas a una base de dat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…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6) Control de los dispositivos de seguimiento y de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Cuando sea necesario, asegúrese de la validez de los resultados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Defina cómo se va a determinar la incerteza de las mediciones, cuando este factor sea relevante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Cuente con un medio independiente para calibrar a intervalos definidos todos los equipos identificados, y no utilice el equipamiento hasta calibrarlo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Mantenga registros de todas las revisiones, calibraciones y mantencione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Asegúrese de que el equipamiento sea utilizado por personal calificado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8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8. Medición, análisis y mejor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1 Generalidad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2 Seguimiento y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3 Control del producto no conform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4 Análisis de da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5 Mejor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1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Generalidad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La Organización debe planificar e implementar los procesos de seguimiento, medición, análisis y mejora necesarios para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Demostrar la conformidad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Asegurarse de la conformidad d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Mejorar continuamente la eficacia d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2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Seguimiento y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Realice el seguimiento de la información relativa a la percepción del cliente con respecto al cumplimiento de sus requisitos por parte de la Organización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A intervalos planificados, lleve a cabo auditorías internas para determinar si el SGC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Es conforme con el plan de 7.1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Cumple con la Norma y los requisitos establecidos en el SGC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Se ha implementado y se mantiene de manera eficaz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2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Seguimiento y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Aplique métodos apropiados para el seguimiento, y cuando sea aplicable, la medición de los procesos del SGC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Mida y haga un seguimiento de las características del producto para verificar que se cumplen los requisitos del mismo, en la etapas apropiadas, y según lo planificado en 7.1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3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Control del producto no conform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La Organización debe asegurarse de que el producto que no sea conforme con los requisitos, se identifica y se controla para prevenir su uso o entrega no intencional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¿Qué hacer con ellos?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liminar la no conformidad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utorizar su uso, liberación o aceptación (por el cliente o alguna autoridad pertinente)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edir su uso o aplicación original previst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4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nálisis de dat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La Organización debe analizar los datos producidos para demostrar la idoneidad y eficacia, y evaluar dónde puede realizarse la mejora continua de su SGC. El análisis debe proporcionar información sobr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satisfacción del client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conformidad con los requisitos d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s características y tendencias de los procesos y de los productos, incluyendo las oportunidades para llevar a cabo acciones preventiv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os proveedor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Mejora continu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Mejore continuamente la eficacia del SGC mediante la política, los objetivos, los resultados de las auditorías, el análisis de los datos, las acciones preventivas, correctivas, y las revisiones de la Direcció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Tome acciones para eliminar la causa de las no conformidades para que no vuelvan a ocurr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e acciones para eliminar las causas de no conformidades potenciales para prevenir su ocurrencia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Revisión de ISO 9001:2000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7 (continuación…)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755640" y="4076640"/>
            <a:ext cx="7993080" cy="2016360"/>
          </a:xfrm>
          <a:prstGeom prst="rect">
            <a:avLst/>
          </a:prstGeom>
          <a:noFill/>
          <a:ln w="76320">
            <a:solidFill>
              <a:srgbClr val="ff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Compr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¿Qué es un producto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Un producto puede incluir un servicio, hardware, materiales procesados, software, o una combinación de estos, y puede ser </a:t>
            </a: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tangible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 (ej.: CPU) o </a:t>
            </a: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intangible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 (ej.: consultoría experta), o una combinación de ambos [ISO 9001]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Compr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¿Qué es un proveedor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l individuo o grupo de quien se reciben productos, partes de productos a ser entregados a un cliente, o servicios incluidos en la producción del producto entregad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jemplo: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rebuchet MS"/>
              </a:rPr>
              <a:t>Alguien de fuera de la organización, a quien solicita la entrega de un producto o servicio, que eventualmente usted entregará a su cliente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Compr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l comprar se requiere una descripción del producto requerido, incluyendo los requisitos de aprob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los procedimientos para las compras indiqu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los subcontratistas son evaluados y selecciona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Qué controles ejercerá sobre los subcontratistas y bajo qué condi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establece y mantiene sus registros de subcontratistas aceptabl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Bajo qué circunstancias verificará las premisas del subcontratist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Finalmente, verifique que se adquirió el producto especifi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4) Tipos de controles en las compra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ínimo a ninguno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, donde el subcontratista ha consistente y repetitivamente demostrado capacidad y buen desempeño, o donde el producto comprado tiene un impacto bajo en la calidad del producto fi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Razonable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, donde el subcontratista requiere revisiones periódicas o evaluaciones de desempeño basadas en criterios de contro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áximo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, donde el subcontratista requiere procesos específicos y procedimientos a ser seguidos, o donde el producto comprado es crítico para la calidad del producto fi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Ejempl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Controles Mínimos a ninguno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Artículos de oficin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Controles Razonables:</a:t>
            </a:r>
            <a:r>
              <a:rPr b="0" i="1" lang="es-ES_tradnl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quipamiento computacional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Controles Máximo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tratación de mano de obra (outsourcing de servicios)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6:00Z</dcterms:modified>
  <cp:revision>517</cp:revision>
  <dc:subject/>
  <dc:title>ISO 9000 aplicado a software</dc:title>
</cp:coreProperties>
</file>