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71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98280" y="728280"/>
            <a:ext cx="4862520" cy="36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move the slid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7CD1F-EED9-4726-A01A-FA4C60CCC1D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05E5D-8268-4DF3-AEAB-E74362FF1827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D2679-923D-43F2-A3BF-09D17CFF0F5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2C0AE-F0E3-4A8E-9270-3B7BA7F69CC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DISCUSS the controlled conditions in light of the definitions given in the standar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09D5-5383-42A3-9299-0A5B7451E8A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8EDA-1284-427D-B7EB-F8ACDB550F4C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B3A2A-ED3D-4E6A-9F5B-A4D708894F83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5F331-7453-4EE5-8BDA-FF917ADF5E3D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43E2-35E7-4B76-9221-B5CFD22FDC9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Rectangle 2"/>
          <p:cNvSpPr/>
          <p:nvPr/>
        </p:nvSpPr>
        <p:spPr>
          <a:xfrm>
            <a:off x="388620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0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0"/>
            <a:ext cx="29718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008000" y="736560"/>
            <a:ext cx="4843440" cy="36324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1260A-CB45-4979-A7E7-F40F65FC2BA1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CC83-0970-4051-90BE-AABF3F7C1EC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0C2CE-E8FE-4A16-9629-1833C0287FE5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ahoma"/>
              </a:rPr>
              <a:t>NOTE: That this clause’s requirements are some of the easiest to audi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ldImg"/>
          </p:nvPr>
        </p:nvSpPr>
        <p:spPr>
          <a:xfrm>
            <a:off x="995400" y="727200"/>
            <a:ext cx="4865760" cy="36496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7539-B8FC-4CA3-8813-0B05A8D7E89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FFC68-49DE-4170-9C6E-FE2EAE35B6A2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B530-1449-4320-BFAA-EA8360F420CE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E4E3-99D7-4218-BBE1-9A866277AEB6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6200" y="9237600"/>
            <a:ext cx="297180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ADE3-A1F4-4553-A065-F92737510ACA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96840" y="72720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17720"/>
            <a:ext cx="5029200" cy="43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56D-67EE-449B-A39A-F8C1A54AB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1EF2-F724-419A-BD26-94C1B03B0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A611-1F7A-4C6A-961B-3AFCEA3DC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516E-4E8B-4F2B-BA42-3AB373C8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8B536-8075-4C02-9C61-8FCFBD377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FEC991-2238-4541-87BF-663D8406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B64B5D-13C4-435A-8759-9BA92717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89338-DAB8-464A-8AFB-D9504A586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9873B2-EE60-45CF-9131-9CBA9A2AE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9A398B-BDEA-4A9E-BC07-01BB3574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1E927-22E3-4844-B221-EF10510B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FFA3-C811-417B-861D-38A89A4A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40C469-9162-4DB0-AD25-31C64808C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E2418D-04DD-4672-A3DB-D03FCED5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7AF366-7B19-4E78-9977-C17B67CCB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BC77F-A4D8-42DC-B7A1-8BA26C485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867B9-693B-4ACA-82DF-05CE14EC0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8553-FA38-4F09-A41D-4525989D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E09-60AD-47B4-A07C-E691E2BF2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24F2-0498-47F2-BDD5-57376892C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4D35-DED8-407C-B11A-35AA2C93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1314-4AE3-4F03-AC50-E9065F81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CE79-4139-4F3E-83BF-938FE183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31DA-1560-4810-A96F-FEE3F33CF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F635-751C-48A8-AFDC-E2F7B75B45E8}" type="slidenum">
              <a:rPr b="1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0C49-43BC-4970-B7BD-B6F87CABA641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8229600" y="650700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3F73-E850-4E37-93C7-8CE5371743E6}" type="slidenum">
              <a:rPr b="1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40D7-B528-4207-B10C-3D82A94A1058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000066"/>
                </a:solidFill>
                <a:latin typeface="Trebuchet MS"/>
              </a:rPr>
              <a:t>ISO 9000</a:t>
            </a:r>
            <a:br>
              <a:rPr sz="4400"/>
            </a:br>
            <a:r>
              <a:rPr b="0" lang="es-ES_tradnl" sz="4000" spc="-1" strike="noStrike">
                <a:solidFill>
                  <a:srgbClr val="000066"/>
                </a:solidFill>
                <a:latin typeface="Trebuchet MS"/>
              </a:rPr>
              <a:t>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Julio Ariel Hurtado Alegría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iplomado en Gestión de Calidad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partamento de Ciencias de la Comput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Universidad de Chil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 Producción y prestación del servicio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Se requiere planificar y llevar a cabo la producción y la prestación del servicio bajo condiciones controladas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(7.5)</a:t>
            </a: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 ¿Qué son condiciones controladas?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gún corresponda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formación que describa las características del product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nstrucciones de trabaj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Uso del equipamiento apropiado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isponibilidad y uso de dispositivos de seguimiento y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lementación del seguimiento y la medición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13160" indent="-27432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lementación de actividades de liberación, entrega y posteriores a la entreg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5)</a:t>
            </a: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 Validación de los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Se deben validar los procesos donde los productos resultantes no puedan verificarse, incluyendo aquellos cuyas deficiencias se hacen aparentes únicamente después de que el producto está asiendo utilizado o se haya prestado el servicio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mplos: soldadura, diseño de software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Sugerencias sobre el control de proces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todos los procesos que afectan la calidad del product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Identificar e incluir los procesos (actividades en el plan)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ir entradas, controles y criterios de salida para los procesos identifica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Relacione los procedimientos requeridos con los procesos definidos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Defina y documente las instrucciones de trabajo, checklist, y formularios donde la ausencia de ellos pueda acarrear problemas de calidad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4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5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Tipos de procesos aplicables a la producción de softwar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nálisis de requerimiento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rototip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Diseño 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mplementación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spección y pruebas: de unidad, funcional, de sistema, de usabilidad, etc.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2640" y="1905120"/>
            <a:ext cx="403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ción del proyec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Planificac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stión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stión de configura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Mantenimiento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Trazabil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uando sea apropiado, identifique el producto por medios adecuados a través de toda la realización del producto.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jemplos: gestión de configuración incluyendo minutas, documentos (requisitos, diseño, pruebas), piezas de código, etc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Cuando la trazabilidad sea un requisito, la organización debe controlar y registrar la identificación única de producto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Desarrolle un sistema simple pero útil de identifica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Asegure que la trazabilidad de los requisitos está claramente establecida en las especificaciones de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Entrene a su personal en la identificación y trazabilidad de requerimient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Propiedad d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La organización debe cuidar los bienes que son propiedad del cliente mientras estén bajo su control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Entre los bienes de propiedad del cliente se debe considerar la propiedad intelectual.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Se deben reportar pérdidas o daños de un producto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no se verifica, el proveedor quedará vulnerable a tener que trabajar con un producto defectuoso o tratar de repararlo despué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no es almacenado adecuadamente, el producto podría dañarse y afectar la relación con el client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Un producto que se usa y no es mantenido puede resultar dañado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Si la pérdida, daño o desajuste del producto no es reportada al cliente, el proveedor se hace totalmente responsable por el estado del producto y deberá disponer de los recursos para solucionar la situación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Propiedad del cliente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e deben comunicar al cliente los problemas: 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Si el cliente no es comunicado sobre los defectos del producto facilitado, puede llegar a pensar que el proveedor acepta la responsabilidad sobre los daños previ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Los costos extra por uso de un producto en malas condiciones, aun provisto por el cliente, recaen en el proveedor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5) Conformidad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La organización debe preservar la conformidad del producto durante el proceso interno y la entrega al destino previsto: 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 en las inspecciones y pruebas no se identifican la conformidad o disconformidad, el estado actual de la inspección o prueba nunca se conocerá realmente, y los problemas con el producto no serán suficientemente visibles como para tomar acciones correctivas de manera tempran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Si no se mantiene el estatus con respecto a conformidad o disconformidad, el personal o los clientes pueden usar partes que no han sido suficientemente inspeccionadas o probadas, o para las cuales aún no se encuentra una solución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La Organización debe determinar el seguimiento y medición a realizar, y los dispositivos de seguimiento y medición necesarios para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proporcionar la evidencia de la conformidad del producto con los requisitos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determinados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De la clase anterior…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jemplos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Velocidad de descarga de páginas en un sitio web 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Desempeño para la entrega de resultados de consultas a una base de datos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…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6) Control de los dispositivos de seguimiento y de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00"/>
                </a:solidFill>
                <a:latin typeface="Trebuchet MS"/>
              </a:rPr>
              <a:t>Cuando sea necesario, asegúrese de la validez de los resultados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Defina cómo se va a determinar la incerteza de las mediciones, cuando este factor sea relevante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Cuente con un medio independiente para calibrar a intervalos definidos todos los equipos identificados, y no utilice el equipamiento hasta calibrarlo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Mantenga registros de todas las revisiones, calibraciones y mantenciones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00"/>
                </a:solidFill>
                <a:latin typeface="Trebuchet MS"/>
              </a:rPr>
              <a:t>Asegúrese de que el equipamiento sea utilizado por personal calificado</a:t>
            </a:r>
            <a:endParaRPr b="0" lang="en-US" sz="1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8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8. Medición, análisis y mejora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1 Generalidade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2 Seguimiento y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3 Control del producto no conform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4 Análisis de dato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8.5 Mejor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1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Generalidade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La Organización debe planificar e implementar los procesos de seguimiento, medición, análisis y mejora necesarios para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Demostrar la conformidad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Asegurarse de la conformidad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00"/>
                </a:solidFill>
                <a:latin typeface="Trebuchet MS"/>
              </a:rPr>
              <a:t>Mejorar continuamente la eficacia del SGC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Realice el seguimiento de la información relativa a la percepción del cliente con respecto al cumplimiento de sus requisitos por parte de la Organización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A intervalos planificados, lleve a cabo auditorías internas para determinar si el SGC: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Es conforme con el plan de 7.1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Cumple con la Norma y los requisitos establecidos en el SGC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00"/>
                </a:solidFill>
                <a:latin typeface="Trebuchet MS"/>
              </a:rPr>
              <a:t>Se ha implementado y se mantiene de manera eficaz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2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Seguimiento y medición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Aplique métodos apropiados para el seguimiento, y cuando sea aplicable, la medición de los procesos del SGC.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00"/>
                </a:solidFill>
                <a:latin typeface="Trebuchet MS"/>
              </a:rPr>
              <a:t>Mida y haga un seguimiento de las características del producto para verificar que se cumplen los requisitos del mismo, en la etapas apropiadas, y según lo planificado en 7.1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8.3) </a:t>
            </a:r>
            <a:r>
              <a:rPr b="1" lang="es-CL" sz="3200" spc="-1" strike="noStrike">
                <a:solidFill>
                  <a:srgbClr val="003300"/>
                </a:solidFill>
                <a:latin typeface="Trebuchet MS"/>
              </a:rPr>
              <a:t>Control del producto no conforme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La Organización debe asegurarse de que el producto que no sea conforme con los requisitos, se identifica y se controla para prevenir su uso o entrega no intencional.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3300"/>
                </a:solidFill>
                <a:latin typeface="Trebuchet MS"/>
              </a:rPr>
              <a:t>¿Qué hacer con ellos?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Eliminar la no conformidad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Autorizar su uso, liberación o aceptación (por el cliente o alguna autoridad pertinente)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00"/>
                </a:solidFill>
                <a:latin typeface="Trebuchet MS"/>
              </a:rPr>
              <a:t>Impedir su uso o aplicación original prevista</a:t>
            </a:r>
            <a:endParaRPr b="0" lang="en-US" sz="24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4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Análisis de dat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La Organización debe analizar los datos producidos para demostrar la idoneidad y eficacia, y evaluar dónde puede realizarse la mejora continua de su SGC. El análisis debe proporcionar información sobr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satisfacción del cliente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 conformidad con los requisitos del producto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as características y tendencias de los procesos y de los productos, incluyendo las oportunidades para llevar a cabo acciones preventiva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00"/>
                </a:solidFill>
                <a:latin typeface="Trebuchet MS"/>
              </a:rPr>
              <a:t>Los proveedor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8.5) </a:t>
            </a:r>
            <a:r>
              <a:rPr b="1" lang="es-CL" sz="3600" spc="-1" strike="noStrike">
                <a:solidFill>
                  <a:srgbClr val="003300"/>
                </a:solidFill>
                <a:latin typeface="Trebuchet MS"/>
              </a:rPr>
              <a:t>Mejora continua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Mejore continuamente la eficacia del SGC mediante la política, los objetivos, los resultados de las auditorías, el análisis de los datos, las acciones preventivas, correctivas, y las revisiones de la Dirección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Tome acciones para eliminar la causa de las no conformidades para que no vuelvan a ocurrir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3300"/>
                </a:solidFill>
                <a:latin typeface="Trebuchet MS"/>
              </a:rPr>
              <a:t>Determine acciones para eliminar las causas de no conformidades potenciales para prevenir su ocurrencia.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1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2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Autor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ulio Ariel Hurtado jhurtado@dcc.uchile.cl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Basado en el material previo de: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Verónica Achá Alvarez</a:t>
            </a:r>
            <a:endParaRPr b="0" lang="en-US" sz="20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primeras versiones de este material se basaron en el curso </a:t>
            </a:r>
            <a:r>
              <a:rPr b="0" i="1" lang="es-CL" sz="1400" spc="-1" strike="noStrike">
                <a:solidFill>
                  <a:srgbClr val="000000"/>
                </a:solidFill>
                <a:latin typeface="Trebuchet MS"/>
              </a:rPr>
              <a:t>ISO 9001 INTERPRETADO PARA ORGANIZACIONES DE SOFTWARE</a:t>
            </a: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 dictado en Chile por Ronald Radice (rradice@stt.com) en septiembre de 1998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rebuchet MS"/>
              </a:rPr>
              <a:t>Las versiones a partir de 2008 incluyen la experiencia ganada en la implementación de procesos en las PyMEs de software.</a:t>
            </a: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  <a:p>
            <a:pPr marL="2296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Trebuchet MS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900000" y="4435560"/>
            <a:ext cx="1117800" cy="5205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4"/>
          <p:cNvSpPr/>
          <p:nvPr/>
        </p:nvSpPr>
        <p:spPr>
          <a:xfrm>
            <a:off x="2190600" y="4003560"/>
            <a:ext cx="579780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sta presentación está bajo una licencia Creative Commons del tipo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“</a:t>
            </a:r>
            <a:r>
              <a:rPr b="1" lang="es-ES" sz="1200" spc="-1" strike="noStrike">
                <a:solidFill>
                  <a:srgbClr val="ffffff"/>
                </a:solidFill>
                <a:latin typeface="Trebuchet MS"/>
              </a:rPr>
              <a:t>Atribución-NoComercial-LicenciarIgual 2.0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”</a:t>
            </a: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, y por tanto algunos derechos están reservados. Para un resumen de la licencia visite la siguiente dirección: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http://www.creativecommons.cl/cc/deeds/by-nc-sa.html</a:t>
            </a:r>
            <a:r>
              <a:rPr b="1" lang="en-GB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rebuchet MS"/>
              </a:rPr>
              <a:t>En síntesis, usted es libre de copiar, distribuir, exhibir y ejecutar esta presentación, y de generar otras presentaciones basadas en ésta, siempre que se mantenga y muestre el nombre y email del autor, de manera explícita en cada reproducción u obra derivada, y no se remueva esta diapositiva de la presentación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3300"/>
                </a:solidFill>
                <a:latin typeface="Trebuchet MS"/>
              </a:rPr>
              <a:t>ISO 9000 Aplicaciones para Software</a:t>
            </a:r>
            <a:endParaRPr b="1" lang="en-US" sz="40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solidFill>
            <a:srgbClr val="010199"/>
          </a:solidFill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00"/>
                </a:solidFill>
                <a:latin typeface="Trebuchet MS"/>
              </a:rPr>
              <a:t>Programa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Introducción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Generalidades sobre ISO 9000:2000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Sistemas de Gestión de la Calidad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Trebuchet MS"/>
              </a:rPr>
              <a:t>Revisión de ISO 9001:2000</a:t>
            </a: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 con las recomendaciones de ISO 90003:2004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Auditorías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SzPct val="12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00"/>
                </a:solidFill>
                <a:latin typeface="Trebuchet MS"/>
              </a:rPr>
              <a:t>Estándar de productos: ISO/IEC 9126</a:t>
            </a:r>
            <a:endParaRPr b="0" lang="en-US" sz="28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Revisión del punto 7 (continuación…)</a:t>
            </a:r>
            <a:r>
              <a:rPr b="1" lang="es-ES" sz="3600" spc="-1" strike="noStrike">
                <a:solidFill>
                  <a:srgbClr val="003300"/>
                </a:solidFill>
                <a:latin typeface="Trebuchet MS"/>
              </a:rPr>
              <a:t> 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7. Realización del producto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1 Planificación de la realización del product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2 Procesos relacionados con el cliente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3 Diseño y desarroll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4 Compras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5 Producción y prestación del servici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05600" indent="-2714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00"/>
                </a:solidFill>
                <a:latin typeface="Trebuchet MS"/>
              </a:rPr>
              <a:t>7.6 Control de los dispositivos de seguimiento y de medición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755640" y="4076640"/>
            <a:ext cx="7993080" cy="2016360"/>
          </a:xfrm>
          <a:prstGeom prst="rect">
            <a:avLst/>
          </a:prstGeom>
          <a:noFill/>
          <a:ln w="76320">
            <a:solidFill>
              <a:srgbClr val="ff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es un producto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Un producto puede incluir un servicio, hardware, materiales procesados, software, o una combinación de estos, y puede ser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tangibl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(ej.: CPU) o </a:t>
            </a:r>
            <a:r>
              <a:rPr b="0" lang="es-ES_tradnl" sz="2800" spc="-1" strike="noStrike">
                <a:solidFill>
                  <a:srgbClr val="ffcc00"/>
                </a:solidFill>
                <a:latin typeface="Trebuchet MS"/>
              </a:rPr>
              <a:t>intangible</a:t>
            </a: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 (ej.: consultoría experta), o una combinación de ambos [ISO 9001]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00"/>
                </a:solidFill>
                <a:latin typeface="Trebuchet MS"/>
              </a:rPr>
              <a:t>¿Qué es un proveedor?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l individuo o grupo de quien se reciben productos, partes de productos a ser entregados a un cliente, o servicios incluidos en la producción del producto entregado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1" marL="727920" indent="-28008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jemplo: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lvl="2" marL="1119960" indent="-223920"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6633"/>
                </a:solidFill>
                <a:latin typeface="Trebuchet MS"/>
              </a:rPr>
              <a:t>Alguien de fuera de la organización, a quien solicita la entrega de un producto o servicio, que eventualmente usted entregará a su cliente</a:t>
            </a:r>
            <a:endParaRPr b="0" lang="en-US" sz="2400" spc="-1" strike="noStrike">
              <a:solidFill>
                <a:srgbClr val="996633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Compra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Al comprar se requiere una descripción del producto requerido, incluyendo los requisitos de aprobación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En los procedimientos para las compras indique: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los subcontratistas son evaluados y seleccionado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Qué controles ejercerá sobre los subcontratistas y bajo qué condicion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Cómo establece y mantiene sus registros de subcontratistas aceptables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00"/>
                </a:solidFill>
                <a:latin typeface="Trebuchet MS"/>
              </a:rPr>
              <a:t>Bajo qué circunstancias verificará las premisas del subcontratista</a:t>
            </a:r>
            <a:endParaRPr b="0" lang="en-US" sz="20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Finalmente, verifique que se adquirió el producto especificado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200"/>
            </a:br>
            <a:r>
              <a:rPr b="1" lang="es-ES_tradnl" sz="3200" spc="-1" strike="noStrike">
                <a:solidFill>
                  <a:srgbClr val="003300"/>
                </a:solidFill>
                <a:latin typeface="Trebuchet MS"/>
              </a:rPr>
              <a:t>(7.4) Tipos de controles en las compras</a:t>
            </a:r>
            <a:endParaRPr b="1" lang="en-US" sz="32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ínimo a ninguno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ha consistente y repetitivamente demostrado capacidad y buen desempeño, o donde el producto comprado tiene un impacto bajo en la calidad del producto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Razonable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requiere revisiones periódicas o evaluaciones de desempeño basadas en criterios de contro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Trebuchet MS"/>
              </a:rPr>
              <a:t>Máximo</a:t>
            </a:r>
            <a:r>
              <a:rPr b="0" lang="es-ES_tradnl" sz="2400" spc="-1" strike="noStrike">
                <a:solidFill>
                  <a:srgbClr val="003300"/>
                </a:solidFill>
                <a:latin typeface="Trebuchet MS"/>
              </a:rPr>
              <a:t>, donde el subcontratista requiere procesos específicos y procedimientos a ser seguidos, o donde el producto comprado es crítico para la calidad del producto final</a:t>
            </a:r>
            <a:endParaRPr b="0" lang="en-US" sz="2400" spc="-1" strike="noStrike">
              <a:solidFill>
                <a:srgbClr val="003300"/>
              </a:solidFill>
              <a:latin typeface="Trebuchet MS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Marcador de fecha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Departamento de Ciencias de la Computació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4 Marcador de pie de página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000066"/>
                </a:solidFill>
                <a:latin typeface="Arial"/>
              </a:rPr>
              <a:t>ISO 9000 Aplicaciones para Softwar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200" spc="-1" strike="noStrike">
                <a:solidFill>
                  <a:srgbClr val="000066"/>
                </a:solidFill>
                <a:latin typeface="Arial"/>
              </a:rPr>
              <a:t>Julio Ariel Hurtado Alegría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4.- Revisión de ISO 9001:2000 </a:t>
            </a:r>
            <a:br>
              <a:rPr sz="3600"/>
            </a:br>
            <a:r>
              <a:rPr b="1" lang="es-ES_tradnl" sz="3600" spc="-1" strike="noStrike">
                <a:solidFill>
                  <a:srgbClr val="003300"/>
                </a:solidFill>
                <a:latin typeface="Trebuchet MS"/>
              </a:rPr>
              <a:t>(7.4) Ejemplos</a:t>
            </a:r>
            <a:endParaRPr b="1" lang="en-US" sz="3600" spc="-1" strike="noStrike">
              <a:solidFill>
                <a:srgbClr val="0033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Mínimos a ninguno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Artículos de oficina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Razonables:</a:t>
            </a:r>
            <a:r>
              <a:rPr b="0" i="1" lang="es-ES_tradnl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Equipamiento computacional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000000"/>
                </a:solidFill>
                <a:latin typeface="Trebuchet MS"/>
              </a:rPr>
              <a:t>Controles Máximos:</a:t>
            </a:r>
            <a:endParaRPr b="0" lang="en-US" sz="3200" spc="-1" strike="noStrike">
              <a:solidFill>
                <a:srgbClr val="0033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33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00"/>
                </a:solidFill>
                <a:latin typeface="Trebuchet MS"/>
              </a:rPr>
              <a:t>Contratación de mano de obra (outsourcing de servicios)</a:t>
            </a:r>
            <a:endParaRPr b="0" lang="en-US" sz="2800" spc="-1" strike="noStrike">
              <a:solidFill>
                <a:srgbClr val="333300"/>
              </a:solidFill>
              <a:latin typeface="Trebuchet MS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8T21:56:17Z</dcterms:created>
  <dc:creator>Verónica Achá</dc:creator>
  <dc:description/>
  <dc:language>en-US</dc:language>
  <cp:lastModifiedBy>yordy</cp:lastModifiedBy>
  <dcterms:modified xsi:type="dcterms:W3CDTF">2008-09-23T16:36:00Z</dcterms:modified>
  <cp:revision>517</cp:revision>
  <dc:subject/>
  <dc:title>ISO 9000 aplicado a software</dc:title>
</cp:coreProperties>
</file>