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391D-EA56-48E4-B424-B306633FB6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D621-8CB3-4411-8748-9D5D5868A47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D402-884B-4FEB-B46F-4E8D194E2C8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CAC6-C4CD-4DFD-848D-50B00F9501E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7633-F91A-465A-BE98-FC38A322618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BF88-1D10-4220-89DE-CA394FD5FD1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19AF-881D-48DE-ACA9-F4C35BC5183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1258-8AFE-46DF-AA3A-671F65B8CF6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598D-CDFA-4E18-9979-43C505FAF34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F99E-0429-4750-86E8-B2F52D5F715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81A-32D9-4938-A2A8-509A2E8D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925-9CA1-4DA4-9F1C-14FACE9D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DCB-DEEF-4ED5-9801-FA9C8A7A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F19-8161-400C-AD42-6255A98F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0E4F1-BE9A-4ACA-B1F0-39456C4F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4E988-A430-4A47-A02D-74E271C3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117EA-1D13-4E5D-B95F-B86B56B0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51747-09E5-410D-BC0B-3492E0FA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E40A6-89BB-4154-A1ED-27844390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DFCAA-FCA0-438E-A956-FA633D5C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BD9F1-EACE-4E2C-9A55-8EA2EAD6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E12-E3C8-4BE5-9AC0-73B38DA0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5DD3F-78FD-4997-8E46-CB8BC48C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62DF1-FC21-4A44-B303-69464025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95F17-1D94-493C-8F5E-64BB9B80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11550-7D5B-483E-BB56-4BF372E3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83A42-6B50-470D-9783-9CF2A559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931-01DA-4498-A5A0-F80C301F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A7B-B801-4A2A-B62B-0A3DC468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89F-A775-4115-8A1B-9FF44063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946-35E8-4D3B-82B4-CBE5B0EE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CFE-CB62-476F-AF9E-0EC810CA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39A-5D9E-4816-A414-CBE43A64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B2D-F149-4A6C-8540-6FDD43A1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D247-5D57-48EC-9637-4FEA271426B9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9AEC-A95E-4B09-AF1F-B6B4C056A78F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D612-51FE-4946-9F24-A0D8805A1582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2B6F-938B-4D43-88A1-025AC65CF50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 </a:t>
            </a:r>
            <a:br>
              <a:rPr sz="6000"/>
            </a:br>
            <a:r>
              <a:rPr b="0" lang="es-ES_tradnl" sz="36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(7.2) … comunicación con 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necesario tener mecanismos de comunicación con el cliente, relativos 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nformación sobre 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sultas, contratos o atención de pedidos, incluyendo modific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Retroalimentación d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Diseño y desarroll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se entiende por diseño?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o el diseño y las 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de desarrollo que transforman la especificación de los requerimientos del cliente en un producto de softwar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diseño comienza con la salida de la revisión del contrato y evoluciona hasta transformarse en el producto a ser entregado al cliente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r y controlar el diseño y desarrollo del product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tap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visión, verificación y validación apropi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sponsabilidades y autor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los elementos de entrada para 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funcionales y de desempeñ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legales y reglamentar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de diseños previos similar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t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ntregar los resultados del diseño y desarroll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umpliendo requisitos de entrad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roporcionando información adecuada para la compra,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ener o hacer referencia a criterios de acept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specificar características esenciales para uso seguro y corre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las etapas adecuadas, revisar, verificar y validar el diseño y desarrollo según lo planific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r si se van a cumplir los requisi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dentificar problemas y proponer accion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y mantener registros de los cambios del diseño y desarroll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ambios deben revisarse, verificarse y validarse, y aprobarse antes de su implementación, evaluando el efecto en las partes constitutivas y en el producto ya entreg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539640" y="1812960"/>
            <a:ext cx="7777440" cy="4419720"/>
          </a:xfrm>
          <a:prstGeom prst="rect">
            <a:avLst/>
          </a:prstGeom>
          <a:solidFill>
            <a:srgbClr val="010199"/>
          </a:solidFill>
          <a:ln w="7632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..  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Diseño y desarrollo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04920" y="1906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lanific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control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2666880" y="2422440"/>
            <a:ext cx="2438640" cy="9144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emen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 entra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79880" y="2879640"/>
            <a:ext cx="234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Mecanismos de revisión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verificación y 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628000" y="3336840"/>
            <a:ext cx="187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Fun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Desempeñ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Leg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5796000" y="2968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724360" y="3882960"/>
            <a:ext cx="2705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mplimiento d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uisi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Información pa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mpra, prod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prestación del servi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riterios de acep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Formas de uso correc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segur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iberar una vez aproba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18960" y="4708440"/>
            <a:ext cx="244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uando corresp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o según p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erific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alid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640120" y="18273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ntrolar camb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ntradas para el diseño: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termine cómo las entradas deben ser definidas, documentadas, comunicadas y revisad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resolver las ambigüedades o conflic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administrar las actualizaciones y cambio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s salidas d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segúrese, a través de revisiones, que las sali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relacionan hacia atrás con los requerimien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atisfacen las entradas para las actividades de diseñ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n consistentes con los criterios de salida o acep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ontienen indicaciones para el uso seguro del product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umplen los requisitos regulator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Riesgo de no planificar y conducir revisiones formal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planifican revisiones formales, no ocurrirán cuando se necesite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llevan a cabo revisiones formales, los problemas serán visibles muy tarde en el ciclo de p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Verificaciones y validaciones del diseñ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ínalas y gestiónelas 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ones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n el pla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ben reflejar una visión independiente de aquella del diseña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inspecciones y pruebas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son aproximaciones a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ón y la Validación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s similar a la prueba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gístrelas incluyendo las medidas tomad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fec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aracterísticas de los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pletitud y efectividad de la salida cumpliendo con los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5. Responsabilidad de la dire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olítica y objetivos de la calidad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Trebuchet MS"/>
              </a:rPr>
              <a:t>Revisión de ISO 9001:2000 con las recome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55640" y="2492280"/>
            <a:ext cx="7993080" cy="158436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1)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eterminar cuando sea apropi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bjetivos de la calidad y requisit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ecesidad de establecer procesos, documentos y proporcionar recursos específic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 requeridas de verificación, validación, seguimiento, inspección y ensayo/prueba para el producto, y criterios de aceptación de los mism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gistros necesarios como evid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6: Planificación de procesos relevantes en nuevo SW de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36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a empresa va a llevar a desarrollar un nuevo SW a partir de la necesidad de controlar la alimentación de los salmones en los centros de engorda de uno de sus principales clientes: AquaChile. El SW se instalará en pontones de alimentación que reciben información de cámaras submarinas, y permiten controlar el expendio de alimen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WS va a planificar el desarrollo de est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¿Cuáles son los procesos más importantes para su desarroll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¿Es la planificación una actividad usual en el desarrollo de SW?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1) Actualización de la planifica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lanificación debe actualizarse. Si los planes no se actualizan durante el diseño y el desarrollo, los planes no representarán lo que es necesario hacer para satisfacer los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Si los planes no se actualiza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hay un plan real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2) Procesos relacionados con el client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los requisitos relacionados con el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pecificaciones del cliente: producto, entrega, otr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establecidos por el cliente pero necesar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egales y reglamentarios aplic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Otros determinados por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revisar los requisitos relacionados con el producto. Antes del compromiso, asegurar 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determinados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resueltas las difere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xisten las capacidades en la empres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7: Explotación del nuevo SW de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SWS-Feed está listo y va a ser ofrecido a un nuevo cliente: SalmonChile. Como su negocio son los salmones y no el SW, ellos no han entregado una declaración documentada de sus requisitos, pero se han tenido muchas reuniones de vent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debería hacer SWS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tipo de registros conviene usar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5:51Z</dcterms:modified>
  <cp:revision>507</cp:revision>
  <dc:subject/>
  <dc:title>ISO 9000 aplicado a software</dc:title>
</cp:coreProperties>
</file>