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CEE8-A4FA-46DE-AA7C-F3CE2DF7703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F212-E9C7-4FAB-B080-347FBA535BA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3B4D1-0B76-4612-A3A6-08623D11493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BC1A-639C-4722-8CAC-3EAAD682DB50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AF76-F653-4F43-80F3-392C5632EC1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Keyword is transfor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Inspection and Test activities are addressed in 4.10 and 4.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A980-0C88-491F-BE30-9B611D47EA5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C6CD-F624-4960-8F06-E68E4B4450A8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FA49-6E6F-47C5-9279-2D12B23E748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03E8-BA89-4573-A71B-980E1B5478C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05D2F-8EA9-439B-90E2-0B88F70AAEE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5F3-D4F9-499B-9630-C45A064D5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E832-0092-4C69-A1F2-24719CB12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6DF2-4769-4E74-87C1-7E85C0DD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D7E1-7481-4E46-A829-0E5BEB6BC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034E8-CD29-41FF-A0B7-98B6D72F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8B06D-67A7-4105-B6FE-AFA8E602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8A130-C943-418A-85C1-3917CE89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02CF03-CF71-4D31-A807-F31A4102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EFFE1-8E24-4FD0-8EBC-D6A7BB02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AA6C9-B2FE-4111-827F-B86ECCC5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6BCA7-059C-498F-B0A0-26F1869D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EAE0-A652-43F7-B99B-279C08DB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C7196-CC64-457F-9712-423A7302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C2748E-6E6B-4764-9CB6-5B9F9069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AEB97-2D96-4D24-A17C-5F734BEF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3A920-03B4-4EC0-902D-490CAD70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B459A-0EB3-463F-B866-94C2907D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A7DD-80B4-4853-B894-9391D7AE0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093F-AFC5-43E9-9955-FF28ACDF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2901-94FE-43A1-9556-20F8C4BF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5E47-B2BC-4348-BEA1-75368941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84D2-6D4A-4811-9D83-E9762DA3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71F8-F2D0-4497-B33E-F2F136FA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0EEE-FCE4-45F2-A882-0CF1C82F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5FFE-A307-4784-B2CC-3150A13E7501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351D-C984-43DE-9E30-3CB6399BD240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2A17-EC80-47B6-897D-EE8204BD6280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04B85-BA6F-4E37-B99D-C44DA8BC851F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 </a:t>
            </a:r>
            <a:br>
              <a:rPr sz="6000"/>
            </a:br>
            <a:r>
              <a:rPr b="0" lang="es-ES_tradnl" sz="36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42560" y="3933360"/>
            <a:ext cx="730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600"/>
            </a:b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(7.2) … comunicación con 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s necesario tener mecanismos de comunicación con el cliente, relativos 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Información sobre 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sultas, contratos o atención de pedidos, incluyendo modificacion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Retroalimentación d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Diseño y desarroll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se entiende por diseño?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Todo el diseño y las </a:t>
            </a: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de desarrollo que transforman la especificación de los requerimientos del cliente en un producto de softwar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l diseño comienza con la salida de la revisión del contrato y evoluciona hasta transformarse en el producto a ser entregado al cliente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r y controlar el diseño y desarrollo del product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tap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visión, verificación y validación apropi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sponsabilidades y autoridad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los elementos de entrada para 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funcionales y de desempeñ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quisitos legales y reglamentari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de diseños previos similar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tr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Entregar los resultados del diseño y desarrollo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umpliendo requisitos de entrad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roporcionando información adecuada para la compra,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tener o hacer referencia a criterios de acept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specificar características esenciales para uso seguro y corre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La organización debe…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n las etapas adecuadas, revisar, verificar y validar el diseño y desarrollo según lo planific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Ver si se van a cumplir los requisi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dentificar problemas y proponer accione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dentificar y mantener registros de los cambios del diseño y desarroll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cambios deben revisarse, verificarse y validarse, y aprobarse antes de su implementación, evaluando el efecto en las partes constitutivas y en el producto ya entreg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2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3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Rectangle 11"/>
          <p:cNvSpPr/>
          <p:nvPr/>
        </p:nvSpPr>
        <p:spPr>
          <a:xfrm>
            <a:off x="539640" y="1812960"/>
            <a:ext cx="7777440" cy="4419720"/>
          </a:xfrm>
          <a:prstGeom prst="rect">
            <a:avLst/>
          </a:prstGeom>
          <a:solidFill>
            <a:srgbClr val="010199"/>
          </a:solidFill>
          <a:ln w="76320">
            <a:solidFill>
              <a:srgbClr val="ffff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...    .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Diseño y desarrollo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304920" y="1906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Planific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controlar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2666880" y="2422440"/>
            <a:ext cx="2438640" cy="914400"/>
          </a:xfrm>
          <a:custGeom>
            <a:avLst/>
            <a:gdLst>
              <a:gd name="textAreaLeft" fmla="*/ 0 w 2438640"/>
              <a:gd name="textAreaRight" fmla="*/ 2438640 w 24386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Elementos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de entrad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79880" y="2879640"/>
            <a:ext cx="2349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Etapa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Mecanismos de revisión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verificación y validación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ahoma"/>
              </a:rPr>
              <a:t>Responsabilidad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628000" y="3336840"/>
            <a:ext cx="187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Funcion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Desempeñ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. Legal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5796000" y="2968560"/>
            <a:ext cx="2438280" cy="914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sultad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724360" y="3882960"/>
            <a:ext cx="2705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umplimiento de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requisi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Información pa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ompra, produc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prestación del servic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Criterios de acept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Formas de uso correct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y segur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Tahoma"/>
              </a:rPr>
              <a:t>Liberar una vez aproba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2118960" y="4708440"/>
            <a:ext cx="244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uando correspond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o según pla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Revis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erific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Valida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5640120" y="182736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ahoma"/>
              </a:rPr>
              <a:t>Controlar cambio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Las entradas para el diseño: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termine cómo las entradas deben ser definidas, documentadas, comunicadas y revisad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resolver las ambigüedades o conflic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Defina cómo administrar las actualizaciones y cambios 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Sugerencias a considerar con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s salidas del diseñ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segúrese, a través de revisiones, que las sali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e relacionan hacia atrás con los requerimient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atisfacen las entradas para las actividades de diseñ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Son consistentes con los criterios de salida o aceptación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ontienen indicaciones para el uso seguro del producto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6633"/>
                </a:solidFill>
                <a:latin typeface="Trebuchet MS"/>
              </a:rPr>
              <a:t>Cumplen los requisitos regulatorios</a:t>
            </a:r>
            <a:endParaRPr b="0" lang="en-US" sz="20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Riesgo de no planificar y conducir revisiones formal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planifican revisiones formales, no ocurrirán cuando se necesite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Si no se llevan a cabo revisiones formales, los problemas serán visibles muy tarde en el ciclo de produ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3) Verificaciones y validaciones del diseño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ínalas y gestiónelas 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ones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en el pla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ben reflejar una visión independiente de aquella del diseñador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s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inspecciones y pruebas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son aproximaciones a </a:t>
            </a:r>
            <a:r>
              <a:rPr b="0" lang="es-ES_tradnl" sz="2400" spc="-1" strike="noStrike">
                <a:solidFill>
                  <a:srgbClr val="008000"/>
                </a:solidFill>
                <a:latin typeface="Trebuchet MS"/>
              </a:rPr>
              <a:t>verificación y la Validación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 es similar a la prueba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gístrelas incluyendo las medidas tomada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fec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aracterísticas de los proces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ompletitud y efectividad de la salida cumpliendo con los requerimien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5. Responsabilidad de la dirección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Política y objetivos de la calidad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6. Gestión de los recurso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6600"/>
                </a:solidFill>
                <a:latin typeface="Trebuchet MS"/>
              </a:rPr>
              <a:t>Revisión de ISO 9001:2000 con las recome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55640" y="2492280"/>
            <a:ext cx="7993080" cy="1584360"/>
          </a:xfrm>
          <a:prstGeom prst="rect">
            <a:avLst/>
          </a:prstGeom>
          <a:noFill/>
          <a:ln w="763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1) Planificación de la realización del product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Trebuchet MS"/>
              </a:rPr>
              <a:t>La organización debe planificar y desarrollar los procesos necesarios para la realización del producto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eterminar cuando sea apropiado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Objetivos de la calidad y requisit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Necesidad de establecer procesos, documentos y proporcionar recursos específicos para 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ctividades requeridas de verificación, validación, seguimiento, inspección y ensayo/prueba para el producto, y criterios de aceptación de los mism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Registros necesarios como evidenci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rebuchet MS"/>
              </a:rPr>
              <a:t>Ejercicio 6: Planificación de procesos relevantes en nuevo SW de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36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La empresa va a llevar a desarrollar un nuevo SW a partir de la necesidad de controlar la alimentación de los salmones en los centros de engorda de uno de sus principales clientes: AquaChile. El SW se instalará en pontones de alimentación que reciben información de cámaras submarinas, y permiten controlar el expendio de alimento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SWS va a planificar el desarrollo de este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rebuchet MS"/>
              </a:rPr>
              <a:t>¿Cuáles son los procesos más importantes para su desarrollo?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rebuchet MS"/>
              </a:rPr>
              <a:t>¿Es la planificación una actividad usual en el desarrollo de SW?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1) Actualización de la planifica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planificación debe actualizarse. Si los planes no se actualizan durante el diseño y el desarrollo, los planes no representarán lo que es necesario hacer para satisfacer los requerimien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e pueden producir errores de interpretación acerca de las actividades; incluso éstas pueden ser olvidada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Si los planes no se actualizan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9900"/>
                </a:solidFill>
                <a:latin typeface="Trebuchet MS"/>
              </a:rPr>
              <a:t>¡no hay un plan real!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</a:t>
            </a: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003300"/>
                </a:solidFill>
                <a:latin typeface="Trebuchet MS"/>
              </a:rPr>
              <a:t>(7.2) Procesos relacionados con el client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determinar los requisitos relacionados con el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pecificaciones del cliente: producto, entrega, otr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No establecidos por el cliente pero necesari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Legales y reglamentarios aplica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Otros determinados por la organiz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revisar los requisitos relacionados con el producto. Antes del compromiso, asegurar qu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determinados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stán resueltas las diferenci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xisten las capacidades en la empres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rebuchet MS"/>
              </a:rPr>
              <a:t>Ejercicio 7: Explotación del nuevo SW de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r>
              <a:rPr b="1" i="1" lang="es-ES" sz="4000" spc="-1" strike="noStrike">
                <a:solidFill>
                  <a:srgbClr val="ff9900"/>
                </a:solidFill>
                <a:latin typeface="Trebuchet MS"/>
              </a:rPr>
              <a:t>Sea Wicker Store 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gradFill rotWithShape="0">
            <a:gsLst>
              <a:gs pos="0">
                <a:srgbClr val="182f47"/>
              </a:gs>
              <a:gs pos="100000">
                <a:srgbClr val="33669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rebuchet MS"/>
              </a:rPr>
              <a:t>SWS-Feed está listo y va a ser ofrecido a un nuevo cliente: SalmonChile. Como su negocio son los salmones y no el SW, ellos no han entregado una declaración documentada de sus requisitos, pero se han tenido muchas reuniones de venta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debería hacer SWS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rebuchet MS"/>
              </a:rPr>
              <a:t>¿Qué tipo de registros conviene usar?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5:51Z</dcterms:modified>
  <cp:revision>507</cp:revision>
  <dc:subject/>
  <dc:title>ISO 9000 aplicado a software</dc:title>
</cp:coreProperties>
</file>