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723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72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998280" y="728280"/>
            <a:ext cx="4862520" cy="36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Trebuchet MS"/>
              </a:rPr>
              <a:t>Click to move the slide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584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5112D-26BE-43DD-90D0-D27BE00E629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AFF4C-016E-472F-8F00-90CB8F23D5F6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NOTE: Keyword is transfor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Inspection and Test activities are addressed in 4.10 and 4.11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FB107-E651-4F51-B864-20C18B8C050A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NOTE: Keyword is transfor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Inspection and Test activities are addressed in 4.10 and 4.11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B0AF8-736C-4A43-BA1E-AE59501D2D12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NOTE: Keyword is transfor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Inspection and Test activities are addressed in 4.10 and 4.11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67262-BA9C-49DE-A2FE-A5C484C9633A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NOTE: Keyword is transfor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Inspection and Test activities are addressed in 4.10 and 4.11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909DD-6370-4DAA-B299-54AF23120C92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622BD-A623-4E89-83CA-B550141A272B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B4ABA-A7D5-469E-BCA7-877170F14373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522DD-4D6B-41EA-8918-AE552218EF8F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CFDAA-945B-4FC1-8E31-A0FFC96FADF8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C046-DD53-4235-B002-BBDEFE264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512B-DAE2-4542-A19A-5ACD72F56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246C-6BE5-425C-A71C-0BD5BDBE5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F66D-19C5-4853-97A4-B92C2D96B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5A2F1A-EE7E-4B21-996F-A235F41EB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ED2E06-325F-4661-9860-8C4B1BA9F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C430F9-F5E3-4744-8000-E3651FA5C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48E60D-9AED-4E53-B511-231FE9010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AEE7D4-07EF-4439-AF8F-93A63B299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B53852-F1A5-4BC8-8311-4C40842CF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EF0F89-5D67-440B-8518-9830DA03A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4730-AA6C-494C-85E4-A830741BD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B1FC19-C7C7-412C-9F67-2488ABD50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BD0B42-A57C-44CF-8241-7B0A7E4A3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776923-0987-4F81-A227-3EAF5B009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6457BE-9BFE-4E42-B73D-8FEB0969F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C63EA8-AA21-47AA-9553-9D64DCD8A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1366-8534-4162-854B-FE72C6285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0D6B-0BF3-479A-AD8F-AB2261531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8C86-AD11-4EAB-A8C6-3B5F87741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4BB7-0988-4584-BF73-E7612D688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2679-216B-4AF3-AE9E-A5FFEBAAF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0450-8CB8-4CFB-8ABA-E8FB92597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15BF-F3F5-44D7-BF83-738355C49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Trebuchet MS"/>
              </a:rPr>
              <a:t>Click to edit the title text format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35480" indent="-282960">
              <a:spcBef>
                <a:spcPts val="7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3" marL="1584000" indent="-226080">
              <a:spcBef>
                <a:spcPts val="799"/>
              </a:spcBef>
              <a:buClr>
                <a:srgbClr val="9966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4559F-38B6-422D-8FF3-26686DF88B10}" type="slidenum">
              <a:rPr b="1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8229600" y="650700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093C7-347A-41EF-8EE6-D3BC57EE13E6}" type="slidenum">
              <a:rPr b="1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Text Box 8"/>
          <p:cNvSpPr/>
          <p:nvPr/>
        </p:nvSpPr>
        <p:spPr>
          <a:xfrm>
            <a:off x="8229600" y="650700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5A6F9-6450-4EFC-AD1A-A20E8644608D}" type="slidenum">
              <a:rPr b="1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Trebuchet MS"/>
              </a:rPr>
              <a:t>Click to edit the title text format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35480" indent="-282960">
              <a:spcBef>
                <a:spcPts val="7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3" marL="1584000" indent="-226080">
              <a:spcBef>
                <a:spcPts val="799"/>
              </a:spcBef>
              <a:buClr>
                <a:srgbClr val="9966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489BB-54DE-4DC3-B575-C5F21010E413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000066"/>
                </a:solidFill>
                <a:latin typeface="Trebuchet MS"/>
              </a:rPr>
              <a:t>ISO 9000 </a:t>
            </a:r>
            <a:br>
              <a:rPr sz="6000"/>
            </a:br>
            <a:r>
              <a:rPr b="0" lang="es-ES_tradnl" sz="3600" spc="-1" strike="noStrike">
                <a:solidFill>
                  <a:srgbClr val="000066"/>
                </a:solidFill>
                <a:latin typeface="Trebuchet MS"/>
              </a:rPr>
              <a:t>Aplicaciones para Software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042560" y="3933360"/>
            <a:ext cx="73040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Julio Ariel Hurtado Alegría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iplomado en Gestión de Calidad de Software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epartamento de Ciencias de la Computación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Universidad de Chile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</a:t>
            </a:r>
            <a:r>
              <a:rPr b="1" lang="es-ES" sz="3600" spc="-1" strike="noStrike">
                <a:solidFill>
                  <a:srgbClr val="003300"/>
                </a:solidFill>
                <a:latin typeface="Trebuchet MS"/>
              </a:rPr>
              <a:t> </a:t>
            </a:r>
            <a:br>
              <a:rPr sz="3600"/>
            </a:br>
            <a:r>
              <a:rPr b="1" lang="es-ES" sz="3600" spc="-1" strike="noStrike">
                <a:solidFill>
                  <a:srgbClr val="003300"/>
                </a:solidFill>
                <a:latin typeface="Trebuchet MS"/>
              </a:rPr>
              <a:t>(7.2) … comunicación con el cliente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Es necesario tener mecanismos de comunicación con el cliente, relativos a: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Información sobre el producto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Consultas, contratos o atención de pedidos, incluyendo modificaciones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Retroalimentación del cliente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(7.3) Diseño y desarrollo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¿Qué se entiende por diseño? 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Todo el diseño y las </a:t>
            </a: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actividades</a:t>
            </a: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 de desarrollo que transforman la especificación de los requerimientos del cliente en un producto de software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El diseño comienza con la salida de la revisión del contrato y evoluciona hasta transformarse en el producto a ser entregado al cliente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(7.3) La organización debe…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Planificar y controlar el diseño y desarrollo del producto: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Etapa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Revisión, verificación y validación apropiada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Responsabilidades y autoridade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Identificar los elementos de entrada para el diseño: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Requisitos funcionales y de desempeño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Requisitos legales y reglamentario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Información de diseños previos similare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Otro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(7.3) La organización debe…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Entregar los resultados del diseño y desarrollo: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Cumpliendo requisitos de entrada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Proporcionando información adecuada para la compra, producción y prestación del servicio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Contener o hacer referencia a criterios de aceptación del producto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Especificar características esenciales para uso seguro y correcto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(7.3) La organización debe…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En las etapas adecuadas, revisar, verificar y validar el diseño y desarrollo según lo planificado: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Ver si se van a cumplir los requisito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Identificar problemas y proponer accione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Identificar y mantener registros de los cambios del diseño y desarrollo: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Los cambios deben revisarse, verificarse y validarse, y aprobarse antes de su implementación, evaluando el efecto en las partes constitutivas y en el producto ya entregado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2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3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Rectangle 11"/>
          <p:cNvSpPr/>
          <p:nvPr/>
        </p:nvSpPr>
        <p:spPr>
          <a:xfrm>
            <a:off x="539640" y="1812960"/>
            <a:ext cx="7777440" cy="4419720"/>
          </a:xfrm>
          <a:prstGeom prst="rect">
            <a:avLst/>
          </a:prstGeom>
          <a:solidFill>
            <a:srgbClr val="010199"/>
          </a:solidFill>
          <a:ln w="7632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...    ..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(7.3) </a:t>
            </a:r>
            <a:r>
              <a:rPr b="1" lang="es-CL" sz="3200" spc="-1" strike="noStrike">
                <a:solidFill>
                  <a:srgbClr val="003300"/>
                </a:solidFill>
                <a:latin typeface="Trebuchet MS"/>
              </a:rPr>
              <a:t>Diseño y desarrollo del producto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51" name="AutoShape 3"/>
          <p:cNvSpPr/>
          <p:nvPr/>
        </p:nvSpPr>
        <p:spPr>
          <a:xfrm>
            <a:off x="304920" y="1906560"/>
            <a:ext cx="2438280" cy="914400"/>
          </a:xfrm>
          <a:custGeom>
            <a:avLst/>
            <a:gdLst>
              <a:gd name="textAreaLeft" fmla="*/ 0 w 2438280"/>
              <a:gd name="textAreaRight" fmla="*/ 2438640 w 243828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Planificar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y controlar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AutoShape 5"/>
          <p:cNvSpPr/>
          <p:nvPr/>
        </p:nvSpPr>
        <p:spPr>
          <a:xfrm>
            <a:off x="2666880" y="2422440"/>
            <a:ext cx="2438640" cy="914400"/>
          </a:xfrm>
          <a:custGeom>
            <a:avLst/>
            <a:gdLst>
              <a:gd name="textAreaLeft" fmla="*/ 0 w 2438640"/>
              <a:gd name="textAreaRight" fmla="*/ 2438640 w 24386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Elementos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de entrada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Text Box 6"/>
          <p:cNvSpPr/>
          <p:nvPr/>
        </p:nvSpPr>
        <p:spPr>
          <a:xfrm>
            <a:off x="479880" y="2879640"/>
            <a:ext cx="2349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ahoma"/>
              </a:rPr>
              <a:t>Etapa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ahoma"/>
              </a:rPr>
              <a:t>Mecanismos de revisión,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ahoma"/>
              </a:rPr>
              <a:t>verificación y validación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ahoma"/>
              </a:rPr>
              <a:t>Responsabilidade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Text Box 7"/>
          <p:cNvSpPr/>
          <p:nvPr/>
        </p:nvSpPr>
        <p:spPr>
          <a:xfrm>
            <a:off x="2628000" y="3336840"/>
            <a:ext cx="1879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Req. Funcionale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Req. Desempeñ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Req. Legale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AutoShape 8"/>
          <p:cNvSpPr/>
          <p:nvPr/>
        </p:nvSpPr>
        <p:spPr>
          <a:xfrm>
            <a:off x="5796000" y="2968560"/>
            <a:ext cx="2438280" cy="914400"/>
          </a:xfrm>
          <a:custGeom>
            <a:avLst/>
            <a:gdLst>
              <a:gd name="textAreaLeft" fmla="*/ 0 w 2438280"/>
              <a:gd name="textAreaRight" fmla="*/ 2438640 w 243828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Resultado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Text Box 9"/>
          <p:cNvSpPr/>
          <p:nvPr/>
        </p:nvSpPr>
        <p:spPr>
          <a:xfrm>
            <a:off x="5724360" y="3882960"/>
            <a:ext cx="270576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Cumplimiento de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requisito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Información para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compra, producció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y prestación del servici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Criterios de aceptació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Formas de uso correcto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y segur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Liberar una vez aprobad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Text Box 10"/>
          <p:cNvSpPr/>
          <p:nvPr/>
        </p:nvSpPr>
        <p:spPr>
          <a:xfrm>
            <a:off x="2118960" y="4708440"/>
            <a:ext cx="2440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Cuando correspond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o según plan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Revision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Verificacion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Validacion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Text Box 12"/>
          <p:cNvSpPr/>
          <p:nvPr/>
        </p:nvSpPr>
        <p:spPr>
          <a:xfrm>
            <a:off x="5640120" y="1827360"/>
            <a:ext cx="222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Controlar cambio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(7.3) Sugerencias a considerar con…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Las entradas para el diseño: 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Determine cómo las entradas deben ser definidas, documentadas, comunicadas y revisadas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Defina cómo resolver las ambigüedades o conflictos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Defina cómo administrar las actualizaciones y cambios 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(7.3) Sugerencias a considerar con…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Las salidas del diseño: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Asegúrese, a través de revisiones, que las salida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6633"/>
                </a:solidFill>
                <a:latin typeface="Trebuchet MS"/>
              </a:rPr>
              <a:t>Se relacionan hacia atrás con los requerimientos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6633"/>
                </a:solidFill>
                <a:latin typeface="Trebuchet MS"/>
              </a:rPr>
              <a:t>Satisfacen las entradas para las actividades de diseño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6633"/>
                </a:solidFill>
                <a:latin typeface="Trebuchet MS"/>
              </a:rPr>
              <a:t>Son consistentes con los criterios de salida o aceptación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6633"/>
                </a:solidFill>
                <a:latin typeface="Trebuchet MS"/>
              </a:rPr>
              <a:t>Contienen indicaciones para el uso seguro del producto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6633"/>
                </a:solidFill>
                <a:latin typeface="Trebuchet MS"/>
              </a:rPr>
              <a:t>Cumplen los requisitos regulatorios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(7.3) Riesgo de no planificar y conducir revisiones formales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Si no se planifican revisiones formales, no ocurrirán cuando se necesiten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Si no se llevan a cabo revisiones formales, los problemas serán visibles muy tarde en el ciclo de producción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(7.3) Verificaciones y validaciones del diseño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efínalas y gestiónelas las </a:t>
            </a:r>
            <a:r>
              <a:rPr b="0" lang="es-ES_tradnl" sz="2400" spc="-1" strike="noStrike">
                <a:solidFill>
                  <a:srgbClr val="008000"/>
                </a:solidFill>
                <a:latin typeface="Trebuchet MS"/>
              </a:rPr>
              <a:t>verificaciones</a:t>
            </a: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 en el plan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eben reflejar una visión independiente de aquella del diseñador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Las </a:t>
            </a:r>
            <a:r>
              <a:rPr b="0" lang="es-ES_tradnl" sz="2400" spc="-1" strike="noStrike">
                <a:solidFill>
                  <a:srgbClr val="008000"/>
                </a:solidFill>
                <a:latin typeface="Trebuchet MS"/>
              </a:rPr>
              <a:t>inspecciones y pruebas</a:t>
            </a: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 son aproximaciones a </a:t>
            </a:r>
            <a:r>
              <a:rPr b="0" lang="es-ES_tradnl" sz="2400" spc="-1" strike="noStrike">
                <a:solidFill>
                  <a:srgbClr val="008000"/>
                </a:solidFill>
                <a:latin typeface="Trebuchet MS"/>
              </a:rPr>
              <a:t>verificación y la Validación</a:t>
            </a: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 es similar a la prueba final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Regístrelas incluyendo las medidas tomada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Defecto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Características de los proceso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Completitud y efectividad de la salida cumpliendo con los requerimiento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3300"/>
                </a:solidFill>
                <a:latin typeface="Trebuchet MS"/>
              </a:rPr>
              <a:t>De la clase anterior…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5. Responsabilidad de la dirección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Política y objetivos de la calidad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6. Gestión de los recursos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1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2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684360" y="126792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Autor: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Julio Ariel Hurtado jhurtado@dcc.uchile.cl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Basado en el material previo de: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Verónica Achá Alvarez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rebuchet MS"/>
              </a:rPr>
              <a:t>Las primeras versiones de este material se basaron en el curso </a:t>
            </a:r>
            <a:r>
              <a:rPr b="0" i="1" lang="es-CL" sz="1400" spc="-1" strike="noStrike">
                <a:solidFill>
                  <a:srgbClr val="000000"/>
                </a:solidFill>
                <a:latin typeface="Trebuchet MS"/>
              </a:rPr>
              <a:t>ISO 9001 INTERPRETADO PARA ORGANIZACIONES DE SOFTWARE</a:t>
            </a:r>
            <a:r>
              <a:rPr b="0" lang="es-CL" sz="1400" spc="-1" strike="noStrike">
                <a:solidFill>
                  <a:srgbClr val="000000"/>
                </a:solidFill>
                <a:latin typeface="Trebuchet MS"/>
              </a:rPr>
              <a:t> dictado en Chile por Ronald Radice (rradice@stt.com) en septiembre de 1998.</a:t>
            </a:r>
            <a:endParaRPr b="0" lang="en-US" sz="14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rebuchet MS"/>
              </a:rPr>
              <a:t>Las versiones a partir de 2008 incluyen la experiencia ganada en la implementación de procesos en las PyMEs de software.</a:t>
            </a:r>
            <a:endParaRPr b="0" lang="en-US" sz="14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rebuchet MS"/>
            </a:endParaRPr>
          </a:p>
        </p:txBody>
      </p:sp>
      <p:pic>
        <p:nvPicPr>
          <p:cNvPr id="178" name="Picture 3" descr=""/>
          <p:cNvPicPr/>
          <p:nvPr/>
        </p:nvPicPr>
        <p:blipFill>
          <a:blip r:embed="rId1"/>
          <a:stretch/>
        </p:blipFill>
        <p:spPr>
          <a:xfrm>
            <a:off x="900000" y="4435560"/>
            <a:ext cx="1117800" cy="52056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4"/>
          <p:cNvSpPr/>
          <p:nvPr/>
        </p:nvSpPr>
        <p:spPr>
          <a:xfrm>
            <a:off x="2190600" y="4003560"/>
            <a:ext cx="5797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rebuchet MS"/>
              </a:rPr>
              <a:t>Esta presentación está bajo una licencia Creative Commons del tipo</a:t>
            </a:r>
            <a:r>
              <a:rPr b="1" lang="en-GB" sz="1200" spc="-1" strike="noStrike">
                <a:solidFill>
                  <a:srgbClr val="000000"/>
                </a:solidFill>
                <a:latin typeface="Trebuchet MS"/>
              </a:rPr>
              <a:t> “</a:t>
            </a:r>
            <a:r>
              <a:rPr b="1" lang="es-ES" sz="1200" spc="-1" strike="noStrike">
                <a:solidFill>
                  <a:srgbClr val="ffffff"/>
                </a:solidFill>
                <a:latin typeface="Trebuchet MS"/>
              </a:rPr>
              <a:t>Atribución-NoComercial-LicenciarIgual 2.0</a:t>
            </a:r>
            <a:r>
              <a:rPr b="1" lang="en-GB" sz="1200" spc="-1" strike="noStrike">
                <a:solidFill>
                  <a:srgbClr val="000000"/>
                </a:solidFill>
                <a:latin typeface="Trebuchet MS"/>
              </a:rPr>
              <a:t>”</a:t>
            </a:r>
            <a:r>
              <a:rPr b="0" lang="en-GB" sz="1200" spc="-1" strike="noStrike">
                <a:solidFill>
                  <a:srgbClr val="000000"/>
                </a:solidFill>
                <a:latin typeface="Trebuchet MS"/>
              </a:rPr>
              <a:t>, y por tanto algunos derechos están reservados. Para un resumen de la licencia visite la siguiente dirección:</a:t>
            </a:r>
            <a:r>
              <a:rPr b="1" lang="en-GB" sz="1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rebuchet MS"/>
              </a:rPr>
              <a:t>http://www.creativecommons.cl/cc/deeds/by-nc-sa.html</a:t>
            </a:r>
            <a:r>
              <a:rPr b="1" lang="en-GB" sz="1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rebuchet MS"/>
              </a:rPr>
              <a:t>En síntesis, usted es libre de copiar, distribuir, exhibir y ejecutar esta presentación, y de generar otras presentaciones basadas en ésta, siempre que se mantenga y muestre el nombre y email del autor, de manera explícita en cada reproducción u obra derivada, y no se remueva esta diapositiva de la presentació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3300"/>
                </a:solidFill>
                <a:latin typeface="Trebuchet MS"/>
              </a:rPr>
              <a:t>ISO 9000 Aplicaciones para Software</a:t>
            </a:r>
            <a:endParaRPr b="1" lang="en-US" sz="40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solidFill>
            <a:srgbClr val="010199"/>
          </a:solidFill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00"/>
                </a:solidFill>
                <a:latin typeface="Trebuchet MS"/>
              </a:rPr>
              <a:t>Programa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Introducción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Generalidades sobre ISO 9000:2000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Sistemas de Gestión de la Calidad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6600"/>
                </a:solidFill>
                <a:latin typeface="Trebuchet MS"/>
              </a:rPr>
              <a:t>Revisión de ISO 9001:2000 con las recomedaciones de ISO 90003:2004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Auditorías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Estándar de productos: ISO/IEC 9126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Revisión del punto 7</a:t>
            </a:r>
            <a:r>
              <a:rPr b="1" lang="es-ES" sz="3600" spc="-1" strike="noStrike">
                <a:solidFill>
                  <a:srgbClr val="003300"/>
                </a:solidFill>
                <a:latin typeface="Trebuchet MS"/>
              </a:rPr>
              <a:t> 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7. Realización del producto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05600" indent="-2714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00"/>
                </a:solidFill>
                <a:latin typeface="Trebuchet MS"/>
              </a:rPr>
              <a:t>7.1 Planificación de la realización del producto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00"/>
                </a:solidFill>
                <a:latin typeface="Trebuchet MS"/>
              </a:rPr>
              <a:t>7.2 Procesos relacionados con el cliente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00"/>
                </a:solidFill>
                <a:latin typeface="Trebuchet MS"/>
              </a:rPr>
              <a:t>7.3 Diseño y desarrollo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00"/>
                </a:solidFill>
                <a:latin typeface="Trebuchet MS"/>
              </a:rPr>
              <a:t>7.4 Compras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00"/>
                </a:solidFill>
                <a:latin typeface="Trebuchet MS"/>
              </a:rPr>
              <a:t>7.5 Producción y prestación del servicio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00"/>
                </a:solidFill>
                <a:latin typeface="Trebuchet MS"/>
              </a:rPr>
              <a:t>7.6 Control de los dispositivos de seguimiento y de medición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755640" y="2492280"/>
            <a:ext cx="7993080" cy="1584360"/>
          </a:xfrm>
          <a:prstGeom prst="rect">
            <a:avLst/>
          </a:prstGeom>
          <a:noFill/>
          <a:ln w="76320">
            <a:solidFill>
              <a:srgbClr val="ff66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</a:t>
            </a:r>
            <a:r>
              <a:rPr b="1" lang="es-ES" sz="3200" spc="-1" strike="noStrike">
                <a:solidFill>
                  <a:srgbClr val="003300"/>
                </a:solidFill>
                <a:latin typeface="Trebuchet MS"/>
              </a:rPr>
              <a:t> </a:t>
            </a:r>
            <a:br>
              <a:rPr sz="3200"/>
            </a:br>
            <a:r>
              <a:rPr b="1" lang="es-ES" sz="3200" spc="-1" strike="noStrike">
                <a:solidFill>
                  <a:srgbClr val="003300"/>
                </a:solidFill>
                <a:latin typeface="Trebuchet MS"/>
              </a:rPr>
              <a:t>(7.1) Planificación de la realización del producto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00"/>
                </a:solidFill>
                <a:latin typeface="Trebuchet MS"/>
              </a:rPr>
              <a:t>La organización debe planificar y desarrollar los procesos necesarios para la realización del producto.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Determinar cuando sea apropiado: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Objetivos de la calidad y requisitos para el producto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Necesidad de establecer procesos, documentos y proporcionar recursos específicos para el producto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Actividades requeridas de verificación, validación, seguimiento, inspección y ensayo/prueba para el producto, y criterios de aceptación de los mismo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Registros necesarios como evidencia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gradFill rotWithShape="0">
            <a:gsLst>
              <a:gs pos="0">
                <a:srgbClr val="182f47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rebuchet MS"/>
              </a:rPr>
              <a:t>Ejercicio 6: Planificación de procesos relevantes en nuevo SW de</a:t>
            </a: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 </a:t>
            </a:r>
            <a:r>
              <a:rPr b="1" i="1" lang="es-ES" sz="3600" spc="-1" strike="noStrike">
                <a:solidFill>
                  <a:srgbClr val="ff9900"/>
                </a:solidFill>
                <a:latin typeface="Trebuchet MS"/>
              </a:rPr>
              <a:t>Sea Wicker Store 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gradFill rotWithShape="0">
            <a:gsLst>
              <a:gs pos="0">
                <a:srgbClr val="182f47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La empresa va a llevar a desarrollar un nuevo SW a partir de la necesidad de controlar la alimentación de los salmones en los centros de engorda de uno de sus principales clientes: AquaChile. El SW se instalará en pontones de alimentación que reciben información de cámaras submarinas, y permiten controlar el expendio de alimento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SWS va a planificar el desarrollo de este producto: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rebuchet MS"/>
              </a:rPr>
              <a:t>¿Cuáles son los procesos más importantes para su desarrollo?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¿Es la planificación una actividad usual en el desarrollo de SW?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(7.1) Actualización de la planificación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La planificación debe actualizarse. Si los planes no se actualizan durante el diseño y el desarrollo, los planes no representarán lo que es necesario hacer para satisfacer los requerimientos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Se pueden producir errores de interpretación acerca de las actividades; incluso éstas pueden ser olvidada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marL="33264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3264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9900"/>
                </a:solidFill>
                <a:latin typeface="Trebuchet MS"/>
              </a:rPr>
              <a:t>Si los planes no se actualizan 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3264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9900"/>
                </a:solidFill>
                <a:latin typeface="Trebuchet MS"/>
              </a:rPr>
              <a:t>¡no hay un plan real!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</a:t>
            </a:r>
            <a:r>
              <a:rPr b="1" lang="es-ES" sz="3200" spc="-1" strike="noStrike">
                <a:solidFill>
                  <a:srgbClr val="003300"/>
                </a:solidFill>
                <a:latin typeface="Trebuchet MS"/>
              </a:rPr>
              <a:t> </a:t>
            </a:r>
            <a:br>
              <a:rPr sz="3200"/>
            </a:br>
            <a:r>
              <a:rPr b="1" lang="es-ES" sz="3200" spc="-1" strike="noStrike">
                <a:solidFill>
                  <a:srgbClr val="003300"/>
                </a:solidFill>
                <a:latin typeface="Trebuchet MS"/>
              </a:rPr>
              <a:t>(7.2) Procesos relacionados con el cliente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Se deben determinar los requisitos relacionados con el producto: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Especificaciones del cliente: producto, entrega, otro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No establecidos por el cliente pero necesario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Legales y reglamentarios aplicable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Otros determinados por la organización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Se deben revisar los requisitos relacionados con el producto. Antes del compromiso, asegurar que: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Están determinados los requisitos del producto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Están resueltas las diferencia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Existen las capacidades en la empresa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gradFill rotWithShape="0">
            <a:gsLst>
              <a:gs pos="0">
                <a:srgbClr val="182f47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rebuchet MS"/>
              </a:rPr>
              <a:t>Ejercicio 7: Explotación del nuevo SW de</a:t>
            </a: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 </a:t>
            </a:r>
            <a:r>
              <a:rPr b="1" i="1" lang="es-ES" sz="4000" spc="-1" strike="noStrike">
                <a:solidFill>
                  <a:srgbClr val="ff9900"/>
                </a:solidFill>
                <a:latin typeface="Trebuchet MS"/>
              </a:rPr>
              <a:t>Sea Wicker Store </a:t>
            </a:r>
            <a:endParaRPr b="1" lang="en-US" sz="40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gradFill rotWithShape="0">
            <a:gsLst>
              <a:gs pos="0">
                <a:srgbClr val="182f47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rebuchet MS"/>
              </a:rPr>
              <a:t>SWS-Feed está listo y va a ser ofrecido a un nuevo cliente: SalmonChile. Como su negocio son los salmones y no el SW, ellos no han entregado una declaración documentada de sus requisitos, pero se han tenido muchas reuniones de venta.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¿Qué debería hacer SWS?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¿Qué tipo de registros conviene usar?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8T21:56:17Z</dcterms:created>
  <dc:creator>Verónica Achá</dc:creator>
  <dc:description/>
  <dc:language>en-US</dc:language>
  <cp:lastModifiedBy>yordy</cp:lastModifiedBy>
  <dcterms:modified xsi:type="dcterms:W3CDTF">2008-09-23T16:35:51Z</dcterms:modified>
  <cp:revision>507</cp:revision>
  <dc:subject/>
  <dc:title>ISO 9000 aplicado a software</dc:title>
</cp:coreProperties>
</file>