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FFB5-4405-4713-B77F-5115F1EA3A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ED1A-F472-469C-AF85-A9B01411880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B9E0-B871-413A-9068-59633646882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AC24-1BEB-465E-876E-A88C09E660C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D08B-5BD1-491D-BB20-0B9C736150B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E1F0-A121-4034-94F3-A7C37285FF8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3AAD-F5B5-4398-8C5F-21F4DDECBC2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9543-BD75-4D03-8AC9-274BDC2B720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BA99-7F3A-4889-9BC9-1D3A89A851C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9098-4CBD-42DE-A812-F80CF211B8A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985A-5A9D-4820-BEF0-A30F59E3A12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ISO 9004 gives additional guida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4502-472B-4A76-8FA7-5C68E24B8B5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E177-A90D-44B4-9DC0-828973CB551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NOTE: items a-e with the participa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MM: SPE (b-e), DP (a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30F0-B437-4109-893C-4241479B7BC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7AD3-CF1C-487B-9B96-0498F9A3564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4987-FC60-4585-AF04-C20112D1F4B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Later we will define a policy stat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CAED-CE4D-4DFD-A6A2-45EE792E41F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87C-BD15-4586-A1B9-7A36E8D9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ED52-D4C5-4AFA-87C5-80AF19F3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9AF1-7E19-4CCB-A176-0B77CD45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6C4-3EA0-4C49-AE3C-D414B931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742B8-571F-4126-8898-FDE6748C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472F2-76C0-4EA2-9533-F6D9B2B9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744F8-0EA4-4135-A2D2-59FD72C3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0C3B0-E56A-4DD3-AB27-613647E8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2A095-BA3B-4556-97E8-DA02DB44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37176-3F65-446F-915C-BCDEA8AB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47B32-3660-49C2-A2F4-9D096831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32A-B111-497F-A093-28F4B834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00690-72D9-483D-BEDD-65B95CCA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31F01-409D-42A2-A8EB-226A8453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6C422-88EE-43BE-8B62-F160B3B2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1BF0A-3FB6-40A9-9121-97FF3D26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C6EFB-3743-4530-9628-187C235B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26B3-0686-4CC4-B276-BBADD258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343-0C0B-4462-919E-A13EC24D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5D36-7DB0-4903-BC0A-2F843130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791E-BC89-4E7D-B14E-7332C87C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CE98-0639-4519-ADF2-55DF3ED6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796-337C-455B-90C7-543E4552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E3A-7DF1-49E8-BD78-E43D9E92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8E36-C8C6-48CA-837E-86C83AA11F3F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A16D-2D64-43F2-A2F2-F20EB8D0D64E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41E5-E6F7-4372-B91F-2150A8E830C6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9906-C090-47F9-BF04-39F9547DD7FD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5400"/>
            </a:br>
            <a:r>
              <a:rPr b="1" lang="es-ES_tradnl" sz="48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03280" y="501300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Sugerencias para definir una política de calidad (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2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trene y oriente a todo el personal para asegurarse de que la política es entendid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vite a la discus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Busque el compromiso de tod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cluya la política en todo los documentos y entrenamientos clav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se la política como una línea de base de referencia para las revisiones de la gest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a estratégico y agresiv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AQSOF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QSOFT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Nosotros satisfacemos las expectativas de todos nuestros clientes, cada vez – sin importar si es un cliente de AQSOFT o un cliente interno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l objetivo de AQSOFT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s implementar procedimientos para evitar defectos durante el proceso de diseño y desarrollo, más que detectarlos y corregirlos después de la implementación. </a:t>
            </a: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AQSOFT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está comprometida además con el concepto de mejora continua de la calidad, con el objeto de alcanzar mayor calidad durante la fase de desarrollo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Dybox (1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En Dybox nuestro fin es lograr un posicionamiento como proveedor de soluciones de calidad, a la vanguardia en tecnología, en base al crecimiento sustentable de la empresa y nuestro principal activo, las personas.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rebuchet MS"/>
              </a:rPr>
              <a:t>Entregamos valor al cliente, satisfaciendo sus requerimientos explícitos e implícitos, analizando su problema desde donde se origina para entregar una solución integral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Dybox (2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8218440" cy="461952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Para lograr esto, se definen los siguientes puntos: 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1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Abrir espacios para la investigación de nuevas tecnologías, técnicas, métodos y herramientas de desarrollo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2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Integrar al cliente como un participante activo en el proceso productivo e identificar adecuadamente su problema, definiendo en conjunto la mejor solución posible que satisfaga sus requerimientos y expectativas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3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Asegurar la excelencia profesional de las personas de Dybox, por la vía del desarrollo y gestión de sus competencias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4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Permitir la creación de vías de comunicación abiertas, que hagan partícipe a las personas de Dybox en la mejora de procesos, aprovechando sus capacidades y creatividad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5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Incentivar un ambiente laboral agradable, en un clima de respeto, compromiso y cooperación mutua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6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Velar por el mejoramiento y correcto funcionamiento del Sistema de Gestión de la Calidad, reflejando este interés hacia nuestros clientes y la industria. 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7.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rebuchet MS"/>
              </a:rPr>
              <a:t>Mejorar de forma continua nuestro proceso de producción, entregando productos y servicios de excelencia.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13842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mplo: Política de calidad de la empresa KEPLER Technology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656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KEPLER Technology se compromete con la mejora continua y el esfuerzo conjunto de todo su personal para la satisfacción de las necesidades y expectativas de sus clientes relacionadas con el logro de proyectos exitos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amos proyectos cuya calidad supera la media de mercado, implantando en todos ellos prácticas de calidad y observando siempre los principios de la empresa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3: Política y objetivos de la calidad de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Redacte una Política de la Calidad para la empresa Sea Wicker Store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decuada al propósito de la empres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Con compromiso de cumplir los requisitos y mejorar continuamente 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Que sirva como marco de referencia para los objetivos de la calidad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6. Gestión de los recur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1 Provisión de recurs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2 Recursos human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Generalidades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Competencia, toma de conciencia y formación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3 Infraestructu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6.4 Ambiente de trabaj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Las personas: ¿Cómo determinar la calificación necesaria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1. Identificar habilidades necesarias en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2. Identificar habilidades disponibl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3. Determinar la diferencia entre lo necesario y lo dispon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4. Acortar esa brech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 Evaluar los efectos de dichas acc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o las organizaciones y los clientes tienen necesidades cambiantes, la educación continua se transforma en una actividad para la organización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os planes de entrenamiento se deben revisar periódicamente para asegurar que van en la línea de las necesidades del negoci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Tipos de entrenamiento para el personal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Dominio funcional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ce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ultura y valor del negoci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…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¿Por qué podría haber un déficit de ciertas habilidades en la Organización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nuevo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es asignado a nuevas actividades en la organiz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ersonal no ha desarrollado satisfactoriamente sus actividades actual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proceso definido ha sido actualizad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Nuevas herramientas y métodos están siendo usad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 Sistema de gestión de la calidad (SGC) incluye todas las fases en el ciclo de vida de un producto y sus proceso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 estructura a partir de la definición de las responsabilidades y autoridades, organización, recursos, el desarrollo y mantención de procedimientos de oper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ocumentació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Manual de calidad – para la organiz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cedimientos – para las person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Instrucciones de trabajo – para los detalles requeri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os – evidencia y memori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La infraestructura y el ambiente de trabaj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La organización debe determinar, proporcionar y mantener la infraestructura necesaria para lograr la conformidad con los requisitos del product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Trebuchet MS"/>
              </a:rPr>
              <a:t>Igualmente, debe determinar y gestionar el ambiente de trabaj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Sugerencias a considerar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tablecer y mantener procedimientos para identificar necesidades de entrenamiento, infraestructura y ambiente de trabaj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Proveer entrenamiento para todo el personal que realiza actividades que afectan la calidad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4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La empresa está dividida en tre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 es el perfil que debe tener el personal en términos de educación, formación, habilidades y experiencia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5: Recursos necesarios para operar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otro tipo de recursos son necesarios en términos de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infraestructura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ambiente de trabaj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6: Procesos relevantes en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Cuáles son los procesos más importantes para el trabajo de la empresa, vista desde cada una de sus área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Relación con client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Oper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7.1 Planificación de la realización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La Organización debe planificar y desarrollar los procesos necesarios para la realización del produc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plan de un nuevo proyecto debería inclu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oles, responsabilidades y califica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iseño y desarrollo de actividades a desarrollar, incluyendo revisiones, verificaciones y valida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cursos requeri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Ventanas de tiempo para comienzos y cumplimiento de hi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ndiciones bajo las cuales el plan es actualizad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Actualización de la planifica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os cambios no pueden preverse pero deben ser manejados; si no lo son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El diseño y el desarrollo se transforman en vulnerables al desempeño del personal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Puede ser imposible rastrear qué cambios han sido aceptados o implementad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i los planes no se actualizan durante el diseño y el desarrollo, los planes pueden no representar lo que es necesario hacer para satisfacer los requerimiento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e pueden producir errores de interpretación acerca de las actividades; incluso éstas pueden ser olvidada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Trebuchet MS"/>
              </a:rPr>
              <a:t>¡Si los planes no se actualizan no hay un plan real!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5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5.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sponsabilidad de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1 Compromiso de la direc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2 Enfoque a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3 Política de la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4 Planif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Objetivos de la calidad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Planificación del SGC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5 Responsabilidad, autoridad y comun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sponsabilidad y autoridad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presentante de la direcc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Comunicación interna 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5.6 Revisión por la direc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Generalidades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Información para la revis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6633"/>
                </a:solidFill>
                <a:latin typeface="Trebuchet MS"/>
              </a:rPr>
              <a:t>Resultados de la revisión</a:t>
            </a:r>
            <a:endParaRPr b="0" lang="en-US" sz="18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L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poya la iniciativ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 apoyo visib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e y documenta la polític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segura que la política es entendida en todos los niveles de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e autoridades y responsabilidad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signa personal entrenado y califi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mbra el representante de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ovee los recursos necesari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cuta revisiones de la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iesgo de no tener revisiones de la Dirección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Dirección puede ser vista com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 preocupada realmente por la calidad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Problema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</a:t>
            </a: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n 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SGC quedan ocultos a la Direc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as acciones correctivas se toman (demasiado) tard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iesgo potencial de perder diner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los niveles directivos correctos no están en las revision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uede ocurrir erosión de la moral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 puede desintegrar el SGC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¿Qué es una política de la calidad?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a definición documentada de los objetivos y compromisos de la Gerencia para alcanzar la calidad en la organización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política es el marco de referencia, los objetivos se establecen en coherencia con ese marc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Proporcionan un punto de referencia para dirigir la organiz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an los resultados dese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Ayudan a dirigir el uso de recurs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Política y objetivos de la ca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política de calidad debería ser relevante para las metas de la organización, y las expectativas y necesidades de los cliente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a política documentada es necesaria pero no suficiente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conocida, entendida y valorad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practicad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be ser integral a la organiza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Sugerencias para definir una política de calidad (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1/2)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Mantenga la política breve pero clar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stablezca los compromisos de la Gerenci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Provea un conjunto de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objetivo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cluya una mención de cómo la organización intenta alcanzar esos objetiv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 hay múltiples mensajes sobre la calidad, asegúrese de que son consistentes entre si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cluya la política en el manual de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l nivel gerencial más alto debe firmar la polític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5:19Z</dcterms:modified>
  <cp:revision>480</cp:revision>
  <dc:subject/>
  <dc:title>ISO 9000 aplicado a software</dc:title>
</cp:coreProperties>
</file>