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3DF9-D4B3-4AA6-B965-6FC36777F0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6445-EC68-4CB7-A3F5-62A3179FF0A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7941-79CA-404C-8439-C9BC02B6FD0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7AD4-3655-46B2-A733-FCAC938E581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D4C8-A87D-424A-BD30-BE2F01EA769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CA56-D2F7-4096-8743-7936D3E32D0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E291-061A-4330-842B-12CE8170F20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8801-9619-45A4-BDD1-4F8AFD38C5E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DC1A-813D-45E9-B305-F801F1C7F16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51A4-16AC-49ED-A053-E067FC03C6E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CA60-4DAB-4516-AD36-274A415E439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E03A-4E0F-44A8-977B-7DAF9C542A4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24B2-8A73-42EB-9C65-FE14140CBD5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3451-1183-4467-B735-6838D555E1B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995F-3666-4C71-8640-FE0FC51B9E2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44C7-879B-4198-943E-A660DA52729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Later we will define a policy stat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BA60-D1EE-4313-80C2-EF041A34F21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D8E-F40A-4349-8868-7D12EE95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B02-89B6-4220-8005-BC5BC517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FBB-6F61-463C-AA57-C9E86490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166-1303-43F4-B50C-AA3B66F7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5D54A-B2B5-456E-936B-C67D660C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1BA1F-23A9-4A1C-89FB-6FB5ED1D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50B70-F02D-4205-9972-F6E51E9D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89D55-0513-42DE-9A16-2F3EE477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184A5-3E39-48E3-A0C9-6D4E8001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7C3D9-C732-440A-94EC-CED5C336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247A0-824C-4828-96B2-1B3E6541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0E7-DA0F-4591-AE0E-3007C62C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22A87-F3D0-4461-90BA-076A8D8F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EC936-39ED-44D7-96A9-1E5E944F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C6C03-0C65-47DA-BDFB-22031919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B867A-0863-4723-B108-6B487B96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4DF71-0397-472B-B530-096EC0B5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5CD-FC8F-4619-8F55-D9C36F9E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D0A-4936-42A1-A2E4-FE490CFD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FC8-9BC6-47E5-9B7E-31964A90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085-9CB6-45A5-B0A0-B55CCFF0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140-2FF6-426C-824F-B1CD5A80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372-C765-4D00-BA2D-12E160E5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495-DF1B-4DC7-A70A-87BCC6F0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575A-2312-4A73-AF66-4A5238EABE55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1A9B-816F-454D-A976-6A1B1B8EBAA6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A0BA-4C9B-4D48-BFCF-2FDB4C19E74B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7D8A-AED4-48C0-A593-718017FF679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trene y oriente a todo el personal para asegurarse de que la política es entendid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vite a la discus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Busque el compromiso de to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todo los documentos y entrenamientos clav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se la política como una línea de base de referencia para las revisiones de la gest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a estratégico y agresiv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AQSOF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QSOF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osotros satisfacemos las expectativas de todos nuestros clientes, cada vez – sin importar si es un cliente de AQSOFT o un cliente intern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objetivo de AQSOFT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implementar procedimientos para evitar defectos durante el proceso de diseño y desarrollo, más que detectarlos y corregirlos después de la implementación.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AQSOFT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está comprometida además con el concepto de mejora continua de la calidad, con el objeto de alcanzar mayor calidad durante la fase de desarroll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 Dybox nuestro fin es lograr un posicionamiento como proveedor de soluciones de calidad, a la vanguardia en tecnología, en base al crecimiento sustentable de la empresa y nuestro principal activo, las personas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tregamos valor al cliente, satisfaciendo sus requerimientos explícitos e implícitos, analizando su problema desde donde se origina para entregar una solución integral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18440" cy="461952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ara lograr esto, se definen los siguientes puntos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1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brir espacios para la investigación de nuevas tecnologías, técnicas, métodos y herramientas de desarrollo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2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tegrar al cliente como un participante activo en el proceso productivo e identificar adecuadamente su problema, definiendo en conjunto la mejor solución posible que satisfaga sus requerimientos y expectativ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3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segurar la excelencia profesional de las personas de Dybox, por la vía del desarrollo y gestión de sus competenci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4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ermitir la creación de vías de comunicación abiertas, que hagan partícipe a las personas de Dybox en la mejora de procesos, aprovechando sus capacidades y creatividad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5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centivar un ambiente laboral agradable, en un clima de respeto, compromiso y cooperación mutu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6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Velar por el mejoramiento y correcto funcionamiento del Sistema de Gestión de la Calidad, reflejando este interés hacia nuestros clientes y la industri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7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Mejorar de forma continua nuestro proceso de producción, entregando productos y servicios de excelenci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3842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KEPLER Technology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KEPLER Technology se compromete con la mejora continua y el esfuerzo conjunto de todo su personal para la satisfacción de las necesidades y expectativas de sus clientes relacionadas con el logro de proyectos exitos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amos proyectos cuya calidad supera la media de mercado, implantando en todos ellos prácticas de calidad y observando siempre los principios de la empres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3: Política y objetivos de la calidad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Redacte una Política de la Calidad para la empresa Sea Wicker Stor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decuada al propósito de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on compromiso de cumplir los requisitos y mejorar continuamente 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Que sirva como marco de referencia para los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1 Provisión de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Competencia, toma de conciencia y formación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3 Infraestructu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4 Ambiente de trabaj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 Sistema de gestión de la calidad (SGC) incluye todas las fases en el ciclo de vida de un producto y sus proce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estructura a partir de la definición de las responsabilidades y autoridades, organización, recursos, el desarrollo y mantención de procedimientos de oper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Manual de calidad – para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cedimientos – para las person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strucciones de trabajo – para los detalle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os – evidencia y memori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a empresa está dividida en tre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 es el perfil que debe tener el personal en términos de educación, formación, habilidades y experiencia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otro tipo de recursos son necesarios en términos d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fraestructura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mbiente de trabaj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Procesos relevantes en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7.1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plan de un nuevo proyecto debería inclu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oles, responsabilidades y califica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iseño y desarrollo de actividades a desarrollar, incluyendo revisiones, verificaciones y valida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curso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entanas de tiempo para comienzos y cumplimiento de hi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ndiciones bajo las cuales el plan es actualiz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Actualización de la planific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os cambios no pueden preverse pero deben ser manejados; si no lo son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 diseño y el desarrollo se transforman en vulnerables al desempeño del personal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Puede ser imposible rastrear qué cambios han sido aceptados o implementad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os planes no se actualizan durante el diseño y el desarrollo, los planes pueden no representar lo que es necesario hacer para satisfacer los requerimient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rebuchet MS"/>
              </a:rPr>
              <a:t>¡Si los planes no se actualizan no hay un plan real!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5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sponsabilidad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1 Compromiso de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2 Enfoque a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3 Política de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4 Plan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Objetivos de la cal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lanificación del SGC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5 Responsabilidad, autoridad y comun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ponsabilidad y autor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presentante de la direcc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unicación interna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6 Revisión por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Información para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ultados de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poya la iniciativ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apoyo vis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y documenta la polític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egura que la política es entendida en todos los nivele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autoridade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igna personal entrenado y cal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mbra el representante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los recursos necesar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a revisione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iesgo de no tener revisiones de 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Dirección puede ser vista com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preocupada realmente por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Problema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SGC quedan ocultos a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as acciones correctivas se toman (demasiado) tard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iesgo potencial de perder dine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os niveles directivos correctos no están en las revis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uede ocurrir erosión de la moral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puede desintegrar el SGC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a política de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a definición documentada de los objetivos y compromisos de la Gerencia para alcanzar la calidad en la organización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política es el marco de referencia, los objetivos se establecen en coherencia con ese marc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roporcionan un punto de referencia para dirigir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 los resultados des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yudan a dirigir el uso de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olítica y objetivos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olítica de calidad debería ser relevante para las metas de la organización, y las expectativas y necesidades de los client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a política documentada es necesaria pero no suficiente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conocida, entendida y valor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practic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integral a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ga la política breve pero cla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stablezca los compromisos de la Ger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Provea un conjunto de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objetivo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cluya una mención de cómo la organización intenta alcanzar esos objetiv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 hay múltiples mensajes sobre la calidad, asegúrese de que son consistentes entre si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el manual de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nivel gerencial más alto debe firmar la polític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19Z</dcterms:modified>
  <cp:revision>480</cp:revision>
  <dc:subject/>
  <dc:title>ISO 9000 aplicado a software</dc:title>
</cp:coreProperties>
</file>