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1F0-2AD4-4C7F-B263-D228DB1D9C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1634-A556-4A5A-A246-02CF6C6B966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07B-7C12-49AE-B427-512EE3D648E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ther examples of ISO work includ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SO film speed rat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13E8-490F-4086-808E-76F3228112C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5B06-F36E-419C-B7AE-BD17B44A0E3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8EA-2A43-41DE-8A3B-99E697BAF74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3F98-1334-4F81-AAE9-930494AEAE5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CAA7-A08D-4437-A96B-C831B58071E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5208-EF11-46E8-AA38-4DAE2BC3370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18BD-5D75-4DDB-A255-5F3006A2953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Is quality like “beauty”; is it in the eyes of the behold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LL: Quality is like oats stor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ow the French book on Quality artifacts in the US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do they have other examples to offer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EEE5-1C6E-4A80-B927-A9283978132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Which do you us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Relate these to clauses in ISO 9001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1=Design Control (4.5), Purchasing (4.6) Control of customer-supplied product (4.7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2=Inspection and testing (4.10),(4.1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3=Corrective and preventative action (4.14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4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5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CCC-41EE-400D-8211-49F67EBC4C9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CMM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GIVE: ISO defin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3471-C8BB-4929-B383-782D853FBB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3CC-8FA5-4C45-AE7F-95E081B5DCB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2CAE-0204-462A-97DC-29A8E6E8896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A8D2-3834-4125-8FF7-E95CDFBE941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Can anyone offer a positive result achieved from bad quality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custom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-for the suppli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DA9F-6E4A-45E5-82A1-9456E989A5B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SK: Just in case the discussion didn’t shake it out: “What specific issues do you have or anticipate in getting to registration?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C82E-39BC-46CC-B80C-E9D998F8AC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11240" y="72864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600080"/>
            <a:ext cx="502920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5E2-4C5B-4BAC-9BA7-F55AAACD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DA4-3032-4094-8FDF-458204C8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43B-F10C-4763-8962-40EBE618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FFC-752D-42BE-8D9D-C0B096FF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FF864-7F55-44C2-83AE-D177D64A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314E7-38F2-4BCB-950B-3061E0E9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FA830-2737-42C8-A832-9D703B76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5E2CF-4718-427E-B303-00702DB2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81A59-3CC9-4CD5-A759-C7F7105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9567A-98D1-4BAD-9531-3341A370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79017-B57F-492B-8A74-57D7008D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A1E-2138-400E-8711-FA60CCEC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58A68-5147-4A36-97CE-5940E2B7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EAD9D-2DAD-4FF2-833D-50C2932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6256D-13EE-467E-91F5-99282A4A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F85AA-775E-47D4-8DE4-37BC391E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C6EE4-1797-4034-BAD5-B88BA86E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2F4-F675-48CF-B1BD-DE440237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504-99A0-41B0-B15C-DCBE622A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1B3-1BFB-42E4-BC89-8D77188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7D5-A7AC-4A6C-BF26-20F660B4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24E-F3D2-4840-991F-A58438F4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930-ACFF-451C-A4DD-7451E03C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FD3-305E-4684-837E-E89DC1B7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71BD-335B-43A7-B4D8-0C1990A0BD6B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218A-7047-47F3-8F76-05BB12E2DBBF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77BF-DD71-4A73-B1CB-FC5D3087714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n.cl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tándares o modelos usar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xigencias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Volunt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Obligatoriedad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lcance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Toda la organiz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ólo una part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Foco: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duc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roces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Persona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Ámbito de la organización: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ftware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rvic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lectrónic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Etc.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ISO?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- International Organization for Standardizatio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Fundada en 1946, es una federación mundial de cuerpos de estandarización nacionale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u misión es proveer estandarización internacional para facilitar el intercambio mundial de bienes y servici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RL -&gt; http://www.iso.org/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uáles son los principios que guían a ISO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Consens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e toman en cuenta los puntos de vista de todos los interesados: fabricantes, vendedores y usuarios, grupos de consumidores, laboratorios de prueba, gobiernos, organizaciones de investigación y profesionales de la ingeniería.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Toda la industria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Soluciones globales para satisfacer industrias y consumidores de todo el mundo. 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Trebuchet MS"/>
              </a:rPr>
              <a:t>Voluntario</a:t>
            </a:r>
            <a:br>
              <a:rPr sz="2000"/>
            </a:b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La estandardización internacional es del mercado y por lo tanto basada en la implicación voluntaria de todos los intereses en el mercado.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1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32000" y="1682640"/>
            <a:ext cx="6164280" cy="4337280"/>
          </a:xfrm>
          <a:prstGeom prst="rect">
            <a:avLst/>
          </a:prstGeom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2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Muchos estándares requieren revisión periódica por muchos factore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volución técnic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métodos y materia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Nuevos requerimientos de seguridad y cal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ISO estableció la regla general de revisar los estándares a intervalos de a lo más 5 añ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A la fecha el trabajo de ISO ha resultado en alrededor de 12.000 estándares internacionales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3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Para temas de Tecnologías de Información ISO trabaja en conjunto con IEC (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International Electrotechnical Commission - http://www.iec.ch/).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instancia se conoce como JTC1- </a:t>
            </a: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Joint Technical Committee 1, Information Technology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Sus estándares se reconocen por el prefijo ISO/IEC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Cómo opera la estandarización ISO? (4/4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representante de Chile ante ISO es el Instituto Nacional de Normal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cc00"/>
                </a:solidFill>
                <a:uFillTx/>
                <a:latin typeface="Trebuchet MS"/>
                <a:hlinkClick r:id="rId1"/>
              </a:rPr>
              <a:t>http://www.inn.cl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Chile es miembro Observador, por lo que puede abstenerse de participar en las votaciones, pero va a pasar a ser miembro Participante en </a:t>
            </a:r>
            <a:r>
              <a:rPr b="1" lang="es-ES" sz="2800" spc="-1" strike="noStrike">
                <a:solidFill>
                  <a:srgbClr val="003300"/>
                </a:solidFill>
                <a:latin typeface="Trebuchet MS"/>
              </a:rPr>
              <a:t>JTC 1/SC 34 - Document Description and Processing Languages (http://www.jtc1sc34.org/#wg1)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Ejemplos en Chil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00"/>
                </a:solidFill>
                <a:latin typeface="Trebuchet MS"/>
              </a:rPr>
              <a:t>Homologación ISO 9000:2000 como NCh ISO 9000:2001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9126-1 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812-1 Ingeniería de software - Calidad de producto - Parte 1: Modelo de cal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Homologación idéntica de estándar ISO/IEC 17799 a norma chilena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NCh 2777 Tecnología de la información - Código de práctica para la gestión de seguridad de la informa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Estándar voluntario para la mayoría de las instituciones pero obligatorio para empresas que prestan servicios de certificación electrónica. 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es ISO 9000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Un conjunto de normas aprobadas y editadas por primera vez en 1987, y reeditadas en 1994 y 2000 por el Comité Técnico 176 para la 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Gestión de la Calidad</a:t>
            </a: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Generalidades sobre ISO 9000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Metodolog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xposición y lectur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rebuchet MS"/>
              </a:rPr>
              <a:t>Evalu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trol al final del cur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¿Por qué se habla de certific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0 9000:2000 tiene 3 parte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0: Fundamentos y vocabular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1: Requisi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SO 9004: Directrices para la mejora del desempeñ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SO 9001:2000 es un estándar cuyo cumplimiento en una organización es certificable por terceras partes de confianz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certificación es para el Sistema de Gestión de la Calidad (SGC), con los alcances definidos para la organiz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a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Solamente algunos proce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se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SGC describe las formas de operar de una organización para alcanzar la calidad de sus produc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ff9900"/>
                </a:solidFill>
                <a:latin typeface="Trebuchet MS"/>
              </a:rPr>
              <a:t>Por eso, como ISO 9001:2000 tiene requisitos para procesos,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certifica personas ni productos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pasa con los servicio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ISO 90001:2000, cuando se habla de productos también se entiende que se refiere a servicios, si correspond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é beneficios conlleva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control de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so de la norma como herramienta promoci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ejor percepción de los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Mayor facilidad para eliminar los problemas de procedimi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efica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nservación de los clientes actua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satisfacción d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yuda a captar nuevos trabajador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umento de la presencia en 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mpresas auditoras reconocidas para realizar dicha labor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reconocimiento internacional de las certificaciones depende del reconocimiento de la empresa que otorga el certific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Chile son acreditadas por el IN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N acredita empresas auditoras para realizar las inspecciones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mpresas auditoras inspeccionan empresas para verificar el SGC y entregar certific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Quién certifica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mpresas acreditadas por INN para certificar ISO 9001 en Chil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CESMEC Ltda., División Certificación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GS ICS Chil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nstituto Colombiano de Normas Técnicas y Certificación, ICONTEC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IRAM (Argentina),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B.V.Q.I. Chile -&gt; Ha certificado varias empresas de software y TI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AENOR (España), División de Certificación de Sistem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GAI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LATU Sistemas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Quality Management Institute, QMI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TÜV Rheinland Chile S.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SILOB Chile Ltd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00"/>
                </a:solidFill>
                <a:latin typeface="Trebuchet MS"/>
              </a:rPr>
              <a:t>Det Norske Verit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Una vez certificado, qué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SGC debe ser seguido y mantenid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mpresas auditoras realizan inspecciones de verificación y de re certificación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La certificación se puede perder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1" name="Picture 161" descr=""/>
          <p:cNvPicPr/>
          <p:nvPr/>
        </p:nvPicPr>
        <p:blipFill>
          <a:blip r:embed="rId1"/>
          <a:stretch/>
        </p:blipFill>
        <p:spPr>
          <a:xfrm>
            <a:off x="252360" y="2637000"/>
            <a:ext cx="8712360" cy="117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Datos sobre Chile y el Mundo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1042920" y="1693800"/>
            <a:ext cx="7058160" cy="4819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1258920" y="249228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Chi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ahoma"/>
              </a:rPr>
              <a:t>1.124 empresas, 0.14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su guía ISO 90003:2004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 Subsidios para llevar a cabo el proye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63440" y="3755880"/>
          <a:ext cx="8815320" cy="157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3755880"/>
                    <a:ext cx="88153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5"/>
          <p:cNvSpPr/>
          <p:nvPr/>
        </p:nvSpPr>
        <p:spPr>
          <a:xfrm>
            <a:off x="838080" y="2300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sto de un PROFO para ISO 9000 y CM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Valores p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r empresa</a:t>
            </a: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en UF y cofinanciamiento   60% - 40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Agente operador: TECNOPYME (ACT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2.- Generalidades sobre ISO 9000:2000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 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  <a:ea typeface="Times New Roman"/>
              </a:rPr>
              <a:t>Costos estimados por consultores en Chil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00"/>
                </a:solidFill>
                <a:latin typeface="Trebuchet MS"/>
              </a:rPr>
              <a:t>*, **: Precio base para empresas PyME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154080" y="2136600"/>
          <a:ext cx="8704080" cy="20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136600"/>
                    <a:ext cx="8704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rebuchet MS"/>
              </a:rPr>
              <a:t>Sistemas de Gestión de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visión de ISO 9001:2000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603360" indent="-60336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es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3200" spc="-1" strike="noStrike">
                <a:solidFill>
                  <a:srgbClr val="000066"/>
                </a:solidFill>
                <a:latin typeface="Trebuchet MS"/>
              </a:rPr>
              <a:t>ISO 8402 define calidad como la totalidad de las características de un producto o servicio para satisfacer las necesidades explícitas e implícita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podemos alcanzar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las cosas bien al primer inten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no hacemos las cosas bien la primera vez, removiendo los defectos de manera temprana en el ciclo de produ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eviniendo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Haciendo que los individuos se hagan responsables por su propi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o puede requerir que pensemos de una manera diferente sobre lo que hacemos y cómo lo hacem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bando esto en 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igiendo la mejor forma de hacer las co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Satisfacción de las necesidades explícitas e implícit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cliente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Trebuchet MS"/>
              </a:rPr>
              <a:t>¡Su negocio!</a:t>
            </a:r>
            <a:endParaRPr b="0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95280" y="2062080"/>
            <a:ext cx="469116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omprador ex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vee recur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cepta 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 intern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l próximo en el proces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60960" indent="-2541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quipo de marketing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mer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ivos en la compañ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 la misma organización en cuanto a generar valor y optimizar recur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Qué requiere su cliente en términos de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lientes extern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alor por el dinero que ga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se logren los objetivos plante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mpl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ago jus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Trabajo segu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uando ellos son clientes internos: un buen producto del trabaj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Gana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egocios de largo plaz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cie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uena ética de negoc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e los requerimientos legales y sociales se cumpl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¿Cómo entregamos un producto satisfactorio a nuestro cliente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tendiendo los requerimien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dquiriendo un compromis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sarrollando el producto a través de pasos y enlaces en nuestro propio proceso de negoci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 el tiemp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 través de clientes intern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Usando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do conciencia de que la calidad y satisfacción del cliente es potencialmente afectada por todas las actividades, pasos, enlaces y proces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rebuchet MS"/>
              </a:rPr>
              <a:t>	</a:t>
            </a:r>
            <a:r>
              <a:rPr b="1" lang="es-ES_tradnl" sz="2000" spc="-1" strike="noStrike">
                <a:solidFill>
                  <a:srgbClr val="ff9900"/>
                </a:solidFill>
                <a:latin typeface="Trebuchet MS"/>
              </a:rPr>
              <a:t>¡La calidad del productos es altamente determinada por la calidad del proceso utilizado para construirlo!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1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Que nuestro cliente externo piense que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nos preocup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masiado ca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despreocupa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rrespons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o entendemos sus neces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poco confiabl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omos inconsistent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..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e quiere evitar con este enfoque? (2/2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Y que a nivel intern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erdamos dinero, tiempo y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Vivamos estresad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ausemos problemas a otras personas de manera innecesari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Bajemos la moral del equipo ante los fracasos, demoras y sobre trabaj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Motiv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uzzle3"/>
          <p:cNvSpPr/>
          <p:nvPr/>
        </p:nvSpPr>
        <p:spPr>
          <a:xfrm rot="5277600">
            <a:off x="5950080" y="2964960"/>
            <a:ext cx="2433600" cy="3595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ert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de 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                    </a:t>
            </a: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uzzle2"/>
          <p:cNvSpPr/>
          <p:nvPr/>
        </p:nvSpPr>
        <p:spPr>
          <a:xfrm rot="5277600">
            <a:off x="2766600" y="3228840"/>
            <a:ext cx="3886200" cy="327636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Mejora de los Proce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uzzle4"/>
          <p:cNvSpPr/>
          <p:nvPr/>
        </p:nvSpPr>
        <p:spPr>
          <a:xfrm rot="5277600">
            <a:off x="3041280" y="514440"/>
            <a:ext cx="2341800" cy="41893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Calidad de l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uzzle1"/>
          <p:cNvSpPr/>
          <p:nvPr/>
        </p:nvSpPr>
        <p:spPr>
          <a:xfrm rot="5277600">
            <a:off x="4581720" y="1267560"/>
            <a:ext cx="3933720" cy="24973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ac6600"/>
                </a:solidFill>
                <a:latin typeface="Arial"/>
              </a:rPr>
              <a:t>Orientación al Val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j0149481"/>
          <p:cNvPicPr/>
          <p:nvPr/>
        </p:nvPicPr>
        <p:blipFill>
          <a:blip r:embed="rId1"/>
          <a:stretch/>
        </p:blipFill>
        <p:spPr>
          <a:xfrm>
            <a:off x="4383000" y="2608200"/>
            <a:ext cx="2144880" cy="2179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8"/>
          <p:cNvSpPr/>
          <p:nvPr/>
        </p:nvSpPr>
        <p:spPr>
          <a:xfrm>
            <a:off x="782640" y="3257640"/>
            <a:ext cx="2160720" cy="1079280"/>
          </a:xfrm>
          <a:prstGeom prst="wedgeRoundRectCallout">
            <a:avLst>
              <a:gd name="adj1" fmla="val 175421"/>
              <a:gd name="adj2" fmla="val -17060"/>
              <a:gd name="adj3" fmla="val 16667"/>
            </a:avLst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Competitivida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c6600"/>
                </a:solidFill>
                <a:latin typeface="Arial"/>
              </a:rPr>
              <a:t>¿Mercado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200"/>
            </a:b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¿Cuáles son los Principios para la Gestión de la Calidad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nfoque a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iderazg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articipación del perso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rabajo basado en proce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Sistema para la gest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anejo de hechos para la toma de decis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Relaciones mutuamente beneficiosas con el provee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¿Cómo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necesidades y expecta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política y objetivo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proceso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y proporcionando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métodos para medi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plicando esas medidas para determinar eficacia y eficienci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do medidas para prevenir no conformidades y eliminar sus caus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Estableciendo y aplicando un proceso de mejora continu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Barreras comunes para este enfoqu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tiemp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No hay suficiente diner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sólo otra iniciativa en torno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Realmente no conduce a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Burocratiza las tare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¿Cómo empezamos entonce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Obteniendo un firme compromiso </a:t>
            </a: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Manejándolo como un proyecto en sí mismo, con responsables, presupuesto, metas y plaz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Tomando conciencia de que va a requerir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Adecuar los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proces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Capacitar al personal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Elegir un estándar o modelo</a:t>
            </a: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 para medir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3.- Sistemas de Gestión de la Calidad</a:t>
            </a:r>
            <a:br>
              <a:rPr sz="3600"/>
            </a:b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apel de la alt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Liderazgo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+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cciones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= 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9900"/>
                </a:solidFill>
                <a:latin typeface="Trebuchet MS"/>
              </a:rPr>
              <a:t>Ambiente adecuado para operar eficazmente</a:t>
            </a: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El proceso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14" name="Picture 3" descr="bd06929_"/>
          <p:cNvPicPr/>
          <p:nvPr/>
        </p:nvPicPr>
        <p:blipFill>
          <a:blip r:embed="rId1"/>
          <a:stretch/>
        </p:blipFill>
        <p:spPr>
          <a:xfrm>
            <a:off x="179280" y="5013360"/>
            <a:ext cx="3313080" cy="955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j0231444"/>
          <p:cNvPicPr/>
          <p:nvPr/>
        </p:nvPicPr>
        <p:blipFill>
          <a:blip r:embed="rId2"/>
          <a:stretch/>
        </p:blipFill>
        <p:spPr>
          <a:xfrm>
            <a:off x="4067280" y="3645000"/>
            <a:ext cx="2395440" cy="208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37945"/>
          <p:cNvPicPr/>
          <p:nvPr/>
        </p:nvPicPr>
        <p:blipFill>
          <a:blip r:embed="rId3"/>
          <a:stretch/>
        </p:blipFill>
        <p:spPr>
          <a:xfrm>
            <a:off x="2556000" y="1628640"/>
            <a:ext cx="1511280" cy="125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97275"/>
          <p:cNvPicPr/>
          <p:nvPr/>
        </p:nvPicPr>
        <p:blipFill>
          <a:blip r:embed="rId4"/>
          <a:stretch/>
        </p:blipFill>
        <p:spPr>
          <a:xfrm>
            <a:off x="7164360" y="479736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j0238060"/>
          <p:cNvPicPr/>
          <p:nvPr/>
        </p:nvPicPr>
        <p:blipFill>
          <a:blip r:embed="rId5"/>
          <a:stretch/>
        </p:blipFill>
        <p:spPr>
          <a:xfrm>
            <a:off x="6012000" y="1413000"/>
            <a:ext cx="1657080" cy="145548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 flipH="1">
            <a:off x="5940000" y="292428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24000" y="3789360"/>
            <a:ext cx="201636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V="1">
            <a:off x="3706920" y="5589720"/>
            <a:ext cx="433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6588000" y="5156280"/>
            <a:ext cx="5032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307280" y="5948280"/>
            <a:ext cx="103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ercados y Domini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859280" y="580536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 Softw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5" descr="j0197662"/>
          <p:cNvPicPr/>
          <p:nvPr/>
        </p:nvPicPr>
        <p:blipFill>
          <a:blip r:embed="rId6"/>
          <a:stretch/>
        </p:blipFill>
        <p:spPr>
          <a:xfrm>
            <a:off x="7307280" y="3068640"/>
            <a:ext cx="1031760" cy="1039680"/>
          </a:xfrm>
          <a:prstGeom prst="rect">
            <a:avLst/>
          </a:prstGeom>
          <a:ln w="0">
            <a:noFill/>
          </a:ln>
        </p:spPr>
      </p:pic>
      <p:sp>
        <p:nvSpPr>
          <p:cNvPr id="127" name="Line 16"/>
          <p:cNvSpPr/>
          <p:nvPr/>
        </p:nvSpPr>
        <p:spPr>
          <a:xfrm flipH="1">
            <a:off x="6587640" y="3860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380360" y="414828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Talento Human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18" descr="j0082287"/>
          <p:cNvPicPr/>
          <p:nvPr/>
        </p:nvPicPr>
        <p:blipFill>
          <a:blip r:embed="rId7"/>
          <a:stretch/>
        </p:blipFill>
        <p:spPr>
          <a:xfrm>
            <a:off x="755640" y="2924280"/>
            <a:ext cx="1195560" cy="12081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9"/>
          <p:cNvSpPr/>
          <p:nvPr/>
        </p:nvSpPr>
        <p:spPr>
          <a:xfrm>
            <a:off x="466560" y="1773360"/>
            <a:ext cx="1824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959520" y="765000"/>
            <a:ext cx="1824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Modelos de Referencia de Proce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O Estánda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611280" y="45086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ac6600"/>
                </a:solidFill>
                <a:latin typeface="Arial"/>
              </a:rPr>
              <a:t>Procesos Organizacional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Software Process Improvement (SPI)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362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00"/>
                </a:solidFill>
                <a:latin typeface="Trebuchet MS"/>
              </a:rPr>
              <a:t>Software Process Improvemen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Trebuchet MS"/>
              </a:rPr>
              <a:t>Enfoque contínuo hacia la mejora del proceso como estrategia clave para la competitividad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37" name="Picture 4" descr="mejora1"/>
          <p:cNvPicPr/>
          <p:nvPr/>
        </p:nvPicPr>
        <p:blipFill>
          <a:blip r:embed="rId1"/>
          <a:stretch/>
        </p:blipFill>
        <p:spPr>
          <a:xfrm>
            <a:off x="900000" y="2127240"/>
            <a:ext cx="7489800" cy="22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Componentes principales de una iniciativa SPI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7199280" y="4437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roceso Software Mejorad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0" y="1844640"/>
            <a:ext cx="8686800" cy="381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1.- Introducción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la estandarización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s la actividad que tiene por objeto establecer, ante problemas reales o potenciales, disposiciones destinadas a usos comunes y repetidos, con el fin de obtener un nivel de ordenamiento óptimo en un contexto dado, que puede ser tecnológico, político o económic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normalización persigue fundamentalmente tres </a:t>
            </a:r>
            <a:r>
              <a:rPr b="0" lang="es-ES" sz="2400" spc="-1" strike="noStrike">
                <a:solidFill>
                  <a:srgbClr val="ffcc66"/>
                </a:solidFill>
                <a:latin typeface="Trebuchet MS"/>
              </a:rPr>
              <a:t>objetivo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Simpl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trata de reducir los modelos quedándose únicamente con los más necesarios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Un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Para permitir el intercambio a nivel internacional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66"/>
                </a:solidFill>
                <a:latin typeface="Trebuchet MS"/>
              </a:rPr>
              <a:t>Especificación</a:t>
            </a: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: Se persigue evitar errores de identificación creando un lenguaje claro y preciso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80280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utilizar estándares o modelos en el mundo del software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on indispensables cuando muchas personas, productos y herramientas deben coexist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ferenciadores de mercad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ermiten la comunicación entre los desarrollador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implementación de los procesos de desarrollo y mantenimiento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acilitan la capacitación del personal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n una base para evaluar los diferentes procesos y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4:00Z</dcterms:modified>
  <cp:revision>572</cp:revision>
  <dc:subject/>
  <dc:title>ISO 9000 aplicado a software</dc:title>
</cp:coreProperties>
</file>