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CB6A-B09C-434C-B553-22AA29B5A8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816E-2FFF-4E4D-A659-848612F1DA8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DEC7-0677-4999-899E-D81BCE9D5C3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EC9E-854E-43E7-BB8D-0387C3C265E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647A-914C-466A-89F0-A03760E9742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842A-0394-43D4-8DDA-E803E3C45CD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7BE0-55EF-4910-8C23-49255CCDFEB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BEE0-6CF8-4410-9EAC-016D2576AA1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40B2-415A-4817-85B5-C0BF7495735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1AFB-59AC-4B76-80E0-55DE75BFE61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Is quality like “beauty”; is it in the eyes of the behold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ELL: Quality is like oats sto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how the French book on Quality artifacts in the US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do they have other examples to off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B903-FE27-4746-9CC9-81518FB486D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Which do you us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late these to clauses in ISO 9001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1=Design Control (4.5), Purchasing (4.6) Control of customer-supplied product (4.7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2=Inspection and testing (4.10),(4.1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3=Corrective and preventative action (4.14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4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5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B0E0-6700-4E13-BA42-6F26F8444B4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CMM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ISO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42A6-6447-48FB-A278-23A7FE52F1F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9B34-181F-493B-BD2C-E73B09FFBD4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8486-D1EA-48D3-9632-70F4448B8F1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90EA-C3DA-4042-9D09-B2031F219AA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Can anyone offer a positive result achieved from bad quality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custom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suppli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4896-FD02-432D-917B-179263AC0C2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Just in case the discussion didn’t shake it out: “What specific issues do you have or anticipate in getting to registration?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0E08-890C-4B91-B249-161F18A3A22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11240" y="72864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600080"/>
            <a:ext cx="502920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D5D-11DF-438F-93A9-45E732B8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8AC-3BBC-49CB-ADA0-F1FBA6E0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92A-CF44-4DED-BCFC-43FA88BD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FFB-5638-475E-ABB0-446F0449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F0851-4EC1-4634-8573-29216A46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AEDC5-6F87-4703-9F73-918792B8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FB89D-0694-4258-ADD5-6A92F61D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B46A8-6D52-45E6-A7FF-D271979F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6AEEC-FBB9-4B62-B249-066F4727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65428-1841-4F8F-BAF8-2ACEED51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23792-C3B9-4C42-863E-E983C0D2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6B7-1097-4E51-A049-3EA946EF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C7915-CF41-49CD-9F09-EDB4E4B9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65A99-0D1D-40E1-AAED-13616DA9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F6BD5-4323-4256-9806-3BF6D927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4DEB5-4849-444A-BB56-F23BBBA6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3329F-6D43-42B4-BC02-6C391041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485-B1B0-488D-8490-5C8EF140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411-6C65-493A-B846-77F58F0A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011-E792-477C-BB0A-E37C9345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083-B88A-479F-B7A7-703ABE7E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F6C-5E70-49B6-9FC5-F05DA703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33C-5887-4906-8996-29131AD3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257-025F-4A20-9441-2CF4F941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EE08-CA46-432A-B07B-1AB708772EF0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A23C-FA4E-477D-8721-F30E31D92B9D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A275-5EC3-439B-B1C6-C0AE30CC339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nn.cl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 </a:t>
            </a:r>
            <a:br>
              <a:rPr sz="6000"/>
            </a:br>
            <a:r>
              <a:rPr b="0" lang="es-ES_tradnl" sz="36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tándares o modelos usar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xigencias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Volunt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Obligatoried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lcanc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Toda la organiz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ólo una part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Foco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duc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ces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ersona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Ámbito de la organización: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ftwar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rvic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lectrónic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tc.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ISO?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- International Organization for Standardizatio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Fundada en 1946, es una federación mundial de cuerpos de estandarización nacionale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u misión es proveer estandarización internacional para facilitar el intercambio mundial de bienes y servici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RL -&gt; http://www.iso.org/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uáles son los principios que guían a ISO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Consens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e toman en cuenta los puntos de vista de todos los interesados: fabricantes, vendedores y usuarios, grupos de consumidores, laboratorios de prueba, gobiernos, organizaciones de investigación y profesionales de la ingeniería.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Toda la industria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oluciones globales para satisfacer industrias y consumidores de todo el mundo.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Voluntari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La estandardización internacional es del mercado y por lo tanto basada en la implicación voluntaria de todos los intereses en el mercado.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1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32000" y="1682640"/>
            <a:ext cx="6164280" cy="4337280"/>
          </a:xfrm>
          <a:prstGeom prst="rect">
            <a:avLst/>
          </a:prstGeom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2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Muchos estándares requieren revisión periódica por muchos factore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volución técnic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métodos y materia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requerimientos de seguridad y cal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ISO estableció la regla general de revisar los estándares a intervalos de a lo más 5 añ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A la fecha el trabajo de ISO ha resultado en alrededor de 12.000 estándares internacionales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3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Para temas de Tecnologías de Información ISO trabaja en conjunto con IEC (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International Electrotechnical Commission - http://www.iec.ch/).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instancia se conoce como JTC1- 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Joint Technical Committee 1, Information Technology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Sus estándares se reconocen por el prefijo ISO/IEC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4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representante de Chile ante ISO es el Instituto Nacional de Normal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cc00"/>
                </a:solidFill>
                <a:uFillTx/>
                <a:latin typeface="Trebuchet MS"/>
                <a:hlinkClick r:id="rId1"/>
              </a:rPr>
              <a:t>http://www.inn.cl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Chile es miembro Observador, por lo que puede abstenerse de participar en las votaciones, pero va a pasar a ser miembro Participante en 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JTC 1/SC 34 - Document Description and Processing Languages (http://www.jtc1sc34.org/#wg1)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s en Chil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00"/>
                </a:solidFill>
                <a:latin typeface="Trebuchet MS"/>
              </a:rPr>
              <a:t>Homologación ISO 9000:2000 como NCh ISO 9000:2001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9126-1 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812-1 Ingeniería de software - Calidad de producto - Parte 1: Modelo de cal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17799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777 Tecnología de la información - Código de práctica para la gestión de seguridad de la informa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 para la mayoría de las instituciones pero obligatorio para empresas que prestan servicios de certificación electrónica. 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es ISO 9000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Un conjunto de normas aprobadas y editadas por primera vez en 1987, y reeditadas en 1994 y 2000 por el Comité Técnico 176 para la 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stión de la Calidad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Generalidades sobre ISO 9000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Metodolog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xposición y lectur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Evalu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trol al final del cur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¿Por qué se habla de certific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0 9000:2000 tiene 3 parte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0: Fundamentos y vocabular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1: Requisi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4: Directrices para la mejora del desempeñ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9001:2000 es un estándar cuyo cumplimiento en una organización es certificable por terceras partes de confianz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certificación es para el Sistema de Gestión de la Calidad (SGC), con los alcances definidos para la organiz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a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olamente algunos proce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SGC describe las formas de operar de una organización para alcanzar la calidad de sus produc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Por eso, como ISO 9001:2000 tiene requisitos para procesos,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certifica personas ni productos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pasa con los servicios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ISO 90001:2000, cuando se habla de productos también se entiende que se refiere a servicios, si correspond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beneficios conlleva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control de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so de la norma como herramienta promoci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ayor facilidad para eliminar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efica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servación de los clientes actua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satisfacción d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yuda a captar nuevos trabajador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presencia en 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mpresas auditoras reconocidas para realizar dicha labor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reconocimiento internacional de las certificaciones depende del reconocimiento de la empresa que otorga el certific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Chile son acreditadas por el IN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N acredita empresas auditoras para realizar las inspecciones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mpresas auditoras inspeccionan empresas para verificar el SGC y entregar certific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mpresas acreditadas por INN para certificar ISO 9001 en Chil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CESMEC Ltda., División Certificación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GS ICS Chil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nstituto Colombiano de Normas Técnicas y Certificación, ICONTEC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RAM (Argentina),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B.V.Q.I. Chile -&gt; Ha certificado varias empresas de software y TI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AENOR (España), División de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GAI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ATU Sistemas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Quality Management Institute, QMI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TÜV Rheinland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ILOB Chile Ltd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Det Norske Verit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Una vez certificado, qué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SGC debe ser seguido y mantenid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mpresas auditoras realizan inspecciones de verificación y de re certific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La certificación se puede perder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1" name="Picture 161" descr=""/>
          <p:cNvPicPr/>
          <p:nvPr/>
        </p:nvPicPr>
        <p:blipFill>
          <a:blip r:embed="rId1"/>
          <a:stretch/>
        </p:blipFill>
        <p:spPr>
          <a:xfrm>
            <a:off x="252360" y="2637000"/>
            <a:ext cx="8712360" cy="117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042920" y="1693800"/>
            <a:ext cx="7058160" cy="48196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1258920" y="2492280"/>
            <a:ext cx="19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Chi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1.124 empresas, 0.14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su guía ISO 90003:2004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 Subsidios para llevar a cabo el proye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63440" y="3755880"/>
          <a:ext cx="8815320" cy="157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3755880"/>
                    <a:ext cx="8815320" cy="15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5"/>
          <p:cNvSpPr/>
          <p:nvPr/>
        </p:nvSpPr>
        <p:spPr>
          <a:xfrm>
            <a:off x="838080" y="2300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osto de un PROFO para ISO 9000 y CM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Valores p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or empresa</a:t>
            </a: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en UF y cofinanciamiento   60% - 40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Agente operador: TECNOPYME (ACT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 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Costos estimados por consultores en Chil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00"/>
                </a:solidFill>
                <a:latin typeface="Trebuchet MS"/>
              </a:rPr>
              <a:t>*, **: Precio base para empresas PyME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154080" y="2136600"/>
          <a:ext cx="8704080" cy="20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2136600"/>
                    <a:ext cx="87040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es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000066"/>
                </a:solidFill>
                <a:latin typeface="Trebuchet MS"/>
              </a:rPr>
              <a:t>ISO 8402 define calidad como la totalidad de las características de un producto o servicio para satisfacer las necesidades explícitas e implícita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podemos alcanzar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las cosas bien al primer int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no hacemos las cosas bien la primera vez, removiendo los defectos de manera temprana en el ciclo de p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eviniendo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que los individuos se hagan responsables por su propi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o puede requerir que pensemos de una manera diferente sobre lo que hacemos y cómo lo hacem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bando esto en 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igiendo la mejor forma de hacer las co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Satisfacción de las necesidades explícitas e implícit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cliente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negocio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95280" y="2062080"/>
            <a:ext cx="469116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mprador ex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vee recur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cepta 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 in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l próximo en el proces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quipo de marketing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ivos en la compañ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 la misma organización en cuanto a generar valor y optimizar recur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requiere su cliente en términos de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s extern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alor por el dinero que ga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se logren los objetivos plante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mpl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ago jus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Trabajo segu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uando ellos son clientes internos: un buen producto del trabaj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Gana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egocios de largo plaz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e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uena ética de negoc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los requerimientos legales y sociales se cumpl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entregamos un producto satisfactorio a nuestro cliente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tendiendo los requerimien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dquiriendo un compromi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sarrollando el producto a través de pasos y enlaces en nuestro propio proceso de negoci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 el tiemp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 través de clientes intern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Usando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do conciencia de que la calidad y satisfacción del cliente es potencialmente afectada por todas las actividades, pasos, enlaces y proces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Trebuchet MS"/>
              </a:rPr>
              <a:t>¡La calidad del productos es altamente determinada por la calidad del proceso utilizado para construirlo!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Que nuestro cliente externo piense que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nos preocup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masiado ca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spreocupa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rrespons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entendemos sus neces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poco confi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nconsistent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..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Y que a nivel intern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erdamos dinero, tiempo y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Vivamos estresad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ausemos problemas a otras personas de manera innecesari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Bajemos la moral del equipo ante los fracasos, demoras y sobre trabaj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Motiv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uzzle3"/>
          <p:cNvSpPr/>
          <p:nvPr/>
        </p:nvSpPr>
        <p:spPr>
          <a:xfrm rot="5277600">
            <a:off x="5950080" y="2964960"/>
            <a:ext cx="2433600" cy="359568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ert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de l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uzzle2"/>
          <p:cNvSpPr/>
          <p:nvPr/>
        </p:nvSpPr>
        <p:spPr>
          <a:xfrm rot="5277600">
            <a:off x="2766600" y="3228840"/>
            <a:ext cx="3886200" cy="32763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Mejora de los Proce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uzzle4"/>
          <p:cNvSpPr/>
          <p:nvPr/>
        </p:nvSpPr>
        <p:spPr>
          <a:xfrm rot="5277600">
            <a:off x="3041280" y="514440"/>
            <a:ext cx="2341800" cy="41893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alidad de los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uzzle1"/>
          <p:cNvSpPr/>
          <p:nvPr/>
        </p:nvSpPr>
        <p:spPr>
          <a:xfrm rot="5277600">
            <a:off x="4581720" y="1267560"/>
            <a:ext cx="3933720" cy="249732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Orientación al Val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j0149481"/>
          <p:cNvPicPr/>
          <p:nvPr/>
        </p:nvPicPr>
        <p:blipFill>
          <a:blip r:embed="rId1"/>
          <a:stretch/>
        </p:blipFill>
        <p:spPr>
          <a:xfrm>
            <a:off x="4383000" y="2608200"/>
            <a:ext cx="2144880" cy="21798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8"/>
          <p:cNvSpPr/>
          <p:nvPr/>
        </p:nvSpPr>
        <p:spPr>
          <a:xfrm>
            <a:off x="782640" y="3257640"/>
            <a:ext cx="2160720" cy="1079280"/>
          </a:xfrm>
          <a:prstGeom prst="wedgeRoundRectCallout">
            <a:avLst>
              <a:gd name="adj1" fmla="val 175421"/>
              <a:gd name="adj2" fmla="val -17060"/>
              <a:gd name="adj3" fmla="val 16667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Competitividad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Mercado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¿Cuáles son los Principios para la Gestión de la Calidad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nfoque a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iderazg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articipación del pers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rabajo basado en proce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Sistema para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anejo de hechos para la toma de decis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Relaciones mutuamente beneficiosas con el provee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¿Cómo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necesidades y expecta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política y objetivo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proceso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y proporcionando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métodos para medi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plicando esas medidas para determina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medidas para prevenir no conformidades y eliminar sus cau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y aplicando un proceso de 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Barreras comunes para este enfoqu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tiemp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diner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sólo otra iniciativa en torno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almente no conduce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Burocratiza las tare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¿Cómo empezamos entonce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Obteniendo un firme compromiso </a:t>
            </a: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Manejándolo como un proyecto en sí mismo, con responsables, presupuesto, metas y plaz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Tomando conciencia de que va a requerir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Adecuar los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proces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Capacitar al personal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legir un estándar o modelo</a:t>
            </a: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 para medir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apel de la alt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Liderazgo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+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cciones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=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mbiente adecuado para operar eficazmente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l proceso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14" name="Picture 3" descr="bd06929_"/>
          <p:cNvPicPr/>
          <p:nvPr/>
        </p:nvPicPr>
        <p:blipFill>
          <a:blip r:embed="rId1"/>
          <a:stretch/>
        </p:blipFill>
        <p:spPr>
          <a:xfrm>
            <a:off x="179280" y="5013360"/>
            <a:ext cx="3313080" cy="95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j0231444"/>
          <p:cNvPicPr/>
          <p:nvPr/>
        </p:nvPicPr>
        <p:blipFill>
          <a:blip r:embed="rId2"/>
          <a:stretch/>
        </p:blipFill>
        <p:spPr>
          <a:xfrm>
            <a:off x="4067280" y="3645000"/>
            <a:ext cx="2395440" cy="20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237945"/>
          <p:cNvPicPr/>
          <p:nvPr/>
        </p:nvPicPr>
        <p:blipFill>
          <a:blip r:embed="rId3"/>
          <a:stretch/>
        </p:blipFill>
        <p:spPr>
          <a:xfrm>
            <a:off x="2556000" y="1628640"/>
            <a:ext cx="1511280" cy="125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97275"/>
          <p:cNvPicPr/>
          <p:nvPr/>
        </p:nvPicPr>
        <p:blipFill>
          <a:blip r:embed="rId4"/>
          <a:stretch/>
        </p:blipFill>
        <p:spPr>
          <a:xfrm>
            <a:off x="7164360" y="479736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j0238060"/>
          <p:cNvPicPr/>
          <p:nvPr/>
        </p:nvPicPr>
        <p:blipFill>
          <a:blip r:embed="rId5"/>
          <a:stretch/>
        </p:blipFill>
        <p:spPr>
          <a:xfrm>
            <a:off x="6012000" y="1413000"/>
            <a:ext cx="1657080" cy="145548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5940000" y="2924280"/>
            <a:ext cx="57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851280" y="2997360"/>
            <a:ext cx="936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24000" y="3789360"/>
            <a:ext cx="201636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1"/>
          <p:cNvSpPr/>
          <p:nvPr/>
        </p:nvSpPr>
        <p:spPr>
          <a:xfrm flipV="1">
            <a:off x="3706920" y="5589720"/>
            <a:ext cx="433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6588000" y="5156280"/>
            <a:ext cx="5032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307280" y="5948280"/>
            <a:ext cx="103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ercados y Domini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859280" y="580536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 Softw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5" descr="j0197662"/>
          <p:cNvPicPr/>
          <p:nvPr/>
        </p:nvPicPr>
        <p:blipFill>
          <a:blip r:embed="rId6"/>
          <a:stretch/>
        </p:blipFill>
        <p:spPr>
          <a:xfrm>
            <a:off x="7307280" y="3068640"/>
            <a:ext cx="1031760" cy="1039680"/>
          </a:xfrm>
          <a:prstGeom prst="rect">
            <a:avLst/>
          </a:prstGeom>
          <a:ln w="0">
            <a:noFill/>
          </a:ln>
        </p:spPr>
      </p:pic>
      <p:sp>
        <p:nvSpPr>
          <p:cNvPr id="127" name="Line 16"/>
          <p:cNvSpPr/>
          <p:nvPr/>
        </p:nvSpPr>
        <p:spPr>
          <a:xfrm flipH="1">
            <a:off x="6587640" y="3860640"/>
            <a:ext cx="576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7380360" y="414828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Talento Human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18" descr="j0082287"/>
          <p:cNvPicPr/>
          <p:nvPr/>
        </p:nvPicPr>
        <p:blipFill>
          <a:blip r:embed="rId7"/>
          <a:stretch/>
        </p:blipFill>
        <p:spPr>
          <a:xfrm>
            <a:off x="755640" y="2924280"/>
            <a:ext cx="119556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466560" y="1773360"/>
            <a:ext cx="1824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959520" y="765000"/>
            <a:ext cx="1824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Referencia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O Estándar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611280" y="450864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 Organizaciona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Software Process Improvement (SPI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362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00"/>
                </a:solidFill>
                <a:latin typeface="Trebuchet MS"/>
              </a:rPr>
              <a:t>Software Process Improvemen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00"/>
                </a:solidFill>
                <a:latin typeface="Trebuchet MS"/>
              </a:rPr>
              <a:t>Enfoque contínuo hacia la mejora del proceso como estrategia clave para la competitividad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37" name="Picture 4" descr="mejora1"/>
          <p:cNvPicPr/>
          <p:nvPr/>
        </p:nvPicPr>
        <p:blipFill>
          <a:blip r:embed="rId1"/>
          <a:stretch/>
        </p:blipFill>
        <p:spPr>
          <a:xfrm>
            <a:off x="900000" y="2127240"/>
            <a:ext cx="7489800" cy="22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Componentes principales de una iniciativa SPI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199280" y="4437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roceso Software Mejorad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0" y="1844640"/>
            <a:ext cx="8686800" cy="381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la estandarización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s la actividad que tiene por objeto establecer, ante problemas reales o potenciales, disposiciones destinadas a usos comunes y repetidos, con el fin de obtener un nivel de ordenamiento óptimo en un contexto dado, que puede ser tecnológico, político o económic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normalización persigue fundamentalmente tres </a:t>
            </a:r>
            <a:r>
              <a:rPr b="0" lang="es-ES" sz="2400" spc="-1" strike="noStrike">
                <a:solidFill>
                  <a:srgbClr val="ffcc66"/>
                </a:solidFill>
                <a:latin typeface="Trebuchet MS"/>
              </a:rPr>
              <a:t>objetivo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Simpl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trata de reducir los modelos quedándose únicamente con los más necesarios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Un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Para permitir el intercambio a nivel internacional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Espec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persigue evitar errores de identificación creando un lenguaje claro y preciso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80280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utilizar estándares o modelos en el mundo del software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n indispensables cuando muchas personas, productos y herramientas deben coexist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ferenciadores de mercad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ermiten la comunicación entre los desarrollador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implementación de los procesos de desarrollo y mantenimiento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capacitación del personal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n una base para evaluar los diferentes procesos y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4:00Z</dcterms:modified>
  <cp:revision>572</cp:revision>
  <dc:subject/>
  <dc:title>ISO 9000 aplicado a software</dc:title>
</cp:coreProperties>
</file>