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68A6-C2A8-4C94-B856-D782F4B26B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F58-DC9D-4E4C-AEFB-07F03C543B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D7BF-14A5-44CD-9124-1AD6D9C359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1F43-3900-45FD-B39F-73B9B67969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8608-0667-4CC5-90B7-87D64D5432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775A-DE2D-4070-8AAA-A985544162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960-02A8-4EE0-A50C-6F0051769F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B647-54BC-4951-AAF8-BC05BCFD12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2DC0-B136-476A-B06B-461B51E2FA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0765-A16A-4FC6-B101-73955AA27C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4BD2-8A89-4403-A603-93974FE3BF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56CE-99E4-426E-9F2B-FE7F951E40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FDB9-F5DD-41C6-9C10-B0B9D5C47C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B648-8835-44E5-8C1E-4DEF8392F3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E21E-9149-439D-80EB-0E2596F229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FBC9-1B5B-4597-AC97-995AD0759E9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30CB-5904-4992-8FE9-F6AC107CAA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E782-397E-483C-AF27-DB44BE10C4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36D0-4066-4DA7-868F-FC9581EB6B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46D7-85ED-45B8-83E8-D8F2C35F9A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DAE-79CD-4402-8AB4-194B50B974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1BEC-F242-4CD8-BB84-65644A30EE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9CCB-AA09-4654-AEE6-7B54EF8F846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4AC4-EE2C-4ABF-919D-5CC6297C2C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C686-8018-4A8D-872C-F858917E99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3194-F69D-4267-88E7-A517B85169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40B-9322-46EB-8B5A-D47FB1DD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366-6287-484B-B7BA-E2EC2256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B24-3D30-4BF9-9F23-0D94F8DD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228-BB54-4791-81A5-350E5EED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73209-5919-4442-BC7B-01E0A878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A3A62-01D8-41B7-9C0E-9EECC3F5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C5DFE-4629-4E6A-8A36-B52C937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963D-33BA-4231-8DB9-DAF781D3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74FA4-81D5-4DF4-9022-21833CEA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21D3B-F6F3-442F-B089-B294DE09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0334A-BE50-4277-B68D-E3B84C9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0D0-965D-4036-9F58-C156E542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B84FC-948F-409E-8F8C-E8873C1B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BD9EB-5E1B-4E57-AD2A-EF84B2F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A0C2-047A-4334-8894-D78E867D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B7444-F335-4985-A03E-E1FD55AA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5118F-3236-4A7D-B96B-CE93BF34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3BD-A04F-4124-8C59-5A796217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590-6847-41F4-B554-A1AF87D2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D6B-F5D0-4232-9F32-512092D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222-6355-463A-8590-E09A3FAB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008-5EFC-4E67-887A-C7F4FC9C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D87-078B-4FC7-B2C6-FBB70D9D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5D5-884A-4851-A8C2-5112596B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194-6836-41DC-B3EF-B53E326DFDA6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00F7-B04A-47B6-8FE0-13E1666169DA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A88E-54A4-4480-ABBC-1437E33A8F85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3E47-0EEB-4B42-9D55-35C54135B1F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, revisiones y testing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828720" y="2133720"/>
            <a:ext cx="6264000" cy="4247640"/>
            <a:chOff x="828720" y="2133720"/>
            <a:chExt cx="6264000" cy="424764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7117" t="5223" r="5579" b="0"/>
            <a:stretch/>
          </p:blipFill>
          <p:spPr>
            <a:xfrm>
              <a:off x="828720" y="2133720"/>
              <a:ext cx="6264000" cy="42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585760" y="3929760"/>
              <a:ext cx="1506600" cy="102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92360" y="1413000"/>
            <a:ext cx="5651280" cy="5255640"/>
            <a:chOff x="3492360" y="1413000"/>
            <a:chExt cx="5651280" cy="5255640"/>
          </a:xfrm>
        </p:grpSpPr>
        <p:sp>
          <p:nvSpPr>
            <p:cNvPr id="184" name=""/>
            <p:cNvSpPr/>
            <p:nvPr/>
          </p:nvSpPr>
          <p:spPr>
            <a:xfrm>
              <a:off x="3492360" y="1413000"/>
              <a:ext cx="5651280" cy="52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3"/>
            <a:srcRect l="17069" t="0" r="18601" b="0"/>
            <a:stretch/>
          </p:blipFill>
          <p:spPr>
            <a:xfrm>
              <a:off x="3735720" y="1499040"/>
              <a:ext cx="5407920" cy="497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Ejemplo 5 – Actividades del desarrollo de los requeimientos en el Tutelkán Reference Proces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jercicio 6. Definiendo procesos 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scriba las actividades principales del proceso de diseño en su empresa ejempl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00"/>
                </a:solidFill>
                <a:latin typeface="Trebuchet MS"/>
              </a:rPr>
              <a:t>Detalle una de ella en un flujo de trabajo que incluya actividades, roles y productos de trabajo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4508640"/>
            <a:ext cx="7993080" cy="208908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9640" y="0"/>
            <a:ext cx="4824360" cy="6121440"/>
          </a:xfrm>
          <a:prstGeom prst="wedgeRoundRectCallout">
            <a:avLst>
              <a:gd name="adj1" fmla="val -77046"/>
              <a:gd name="adj2" fmla="val 4014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1. Proceso de compras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1) Productos a comprar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COTS, software libre, shareware, customized, subcontratos, actividades delegadas por outsourcing, herramientas, hardware, documentación, material de entrenamient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2) Control de la compra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contatos, gestionar el acuerdo con el proveedor, gestión del riesgo, evaluación y selección del proveed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7.4.2. Información de compra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querimientos o procedimientos para identificarlos, identificación del producto a comprar, estándares, ambiente de operación, requerimientos del personal, requerimientos del SG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04972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06" name=""/>
          <p:cNvCxnSpPr>
            <a:stCxn id="199" idx="3"/>
            <a:endCxn id="200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0" idx="3"/>
            <a:endCxn id="201" idx="1"/>
          </p:cNvCxnSpPr>
          <p:nvPr/>
        </p:nvCxnSpPr>
        <p:spPr>
          <a:xfrm>
            <a:off x="4276440" y="3365280"/>
            <a:ext cx="77364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45940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3" name=""/>
          <p:cNvCxnSpPr>
            <a:stCxn id="199" idx="2"/>
            <a:endCxn id="202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02" idx="3"/>
            <a:endCxn id="201" idx="2"/>
          </p:cNvCxnSpPr>
          <p:nvPr/>
        </p:nvCxnSpPr>
        <p:spPr>
          <a:xfrm flipV="1">
            <a:off x="4368960" y="3630600"/>
            <a:ext cx="1567440" cy="209268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33" name=""/>
          <p:cNvCxnSpPr>
            <a:endCxn id="208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34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2565360"/>
            <a:ext cx="2521080" cy="3456000"/>
          </a:xfrm>
          <a:prstGeom prst="wedgeRectCallout">
            <a:avLst>
              <a:gd name="adj1" fmla="val 114356"/>
              <a:gd name="adj2" fmla="val 61759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4.3. Verificación del producto compr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ueba de aceptación, métodos de V&amp;V del subcontratado, aplicar el V&amp;V de la organización, En contratación de personal la evaluación de capacidades, habilidades y experi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87240" y="3100320"/>
            <a:ext cx="177192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Análisis de 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5049720" y="2997360"/>
            <a:ext cx="177192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roducción y prestac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61" name=""/>
          <p:cNvCxnSpPr>
            <a:stCxn id="254" idx="3"/>
            <a:endCxn id="255" idx="1"/>
          </p:cNvCxnSpPr>
          <p:nvPr/>
        </p:nvCxnSpPr>
        <p:spPr>
          <a:xfrm>
            <a:off x="2458800" y="3365280"/>
            <a:ext cx="456120" cy="10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18908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21640" y="3327480"/>
            <a:ext cx="16365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77" name=""/>
          <p:cNvCxnSpPr>
            <a:stCxn id="254" idx="2"/>
            <a:endCxn id="257" idx="1"/>
          </p:cNvCxnSpPr>
          <p:nvPr/>
        </p:nvCxnSpPr>
        <p:spPr>
          <a:xfrm flipH="1" rot="16200000">
            <a:off x="1105560" y="4097160"/>
            <a:ext cx="2092680" cy="115956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57" idx="3"/>
            <a:endCxn id="256" idx="2"/>
          </p:cNvCxnSpPr>
          <p:nvPr/>
        </p:nvCxnSpPr>
        <p:spPr>
          <a:xfrm flipV="1">
            <a:off x="4368960" y="3630240"/>
            <a:ext cx="1567440" cy="20916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095480" y="3639600"/>
            <a:ext cx="0" cy="8067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7" name=""/>
          <p:cNvCxnSpPr>
            <a:endCxn id="262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288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89" name=""/>
          <p:cNvCxnSpPr>
            <a:endCxn id="256" idx="1"/>
          </p:cNvCxnSpPr>
          <p:nvPr/>
        </p:nvCxnSpPr>
        <p:spPr>
          <a:xfrm flipV="1">
            <a:off x="4284360" y="3314160"/>
            <a:ext cx="765720" cy="11484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50920" y="1628640"/>
            <a:ext cx="3241440" cy="5229360"/>
          </a:xfrm>
          <a:prstGeom prst="wedgeRoundRectCallout">
            <a:avLst>
              <a:gd name="adj1" fmla="val 147356"/>
              <a:gd name="adj2" fmla="val -22708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Producción =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Liberables, entregables y operación y manten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alidación del procesos de Producción =&gt; orientado a la prevención y pronó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dentificación y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opiedad d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reservación del 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trol de dispositivos de monitoreo y medi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Control de produ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2492280"/>
            <a:ext cx="7993080" cy="194472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requerimientos del software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 en la industria de software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estimación y registro de esfuerz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écnicas de detección, ubicación y corrección de defec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Herramientas y técnicas de Test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usada en los Test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idumbre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Realización del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roduct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3413160" y="5985000"/>
            <a:ext cx="1090440" cy="50472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959280" y="3639600"/>
            <a:ext cx="0" cy="419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141720" y="3639600"/>
            <a:ext cx="0" cy="12574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914480" y="3639600"/>
            <a:ext cx="0" cy="7542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276960" y="3639960"/>
            <a:ext cx="544680" cy="754200"/>
          </a:xfrm>
          <a:custGeom>
            <a:avLst/>
            <a:gdLst/>
            <a:ahLst/>
            <a:rect l="l" t="t" r="r" b="b"/>
            <a:pathLst>
              <a:path w="96" h="336">
                <a:moveTo>
                  <a:pt x="9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068640"/>
            <a:ext cx="2208240" cy="61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2. Procesos relacionados con 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914560" y="3100320"/>
            <a:ext cx="1362240" cy="530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3. Diseño y Desarroll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5076720" y="3068640"/>
            <a:ext cx="1898640" cy="633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5. Producción y provisión del servi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732040" y="5457960"/>
            <a:ext cx="1636920" cy="52704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7.4. Comp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641600" y="4309920"/>
            <a:ext cx="1220760" cy="454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22840" y="397512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/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550200" y="4143240"/>
            <a:ext cx="12985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13" name=""/>
          <p:cNvCxnSpPr>
            <a:stCxn id="106" idx="3"/>
            <a:endCxn id="107" idx="1"/>
          </p:cNvCxnSpPr>
          <p:nvPr/>
        </p:nvCxnSpPr>
        <p:spPr>
          <a:xfrm flipV="1">
            <a:off x="2458800" y="3365280"/>
            <a:ext cx="456120" cy="1152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7" idx="3"/>
            <a:endCxn id="108" idx="1"/>
          </p:cNvCxnSpPr>
          <p:nvPr/>
        </p:nvCxnSpPr>
        <p:spPr>
          <a:xfrm>
            <a:off x="4276800" y="3365280"/>
            <a:ext cx="800640" cy="2088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824040" y="2063880"/>
            <a:ext cx="6643440" cy="40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Medición, Análisis, Acción Correcti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189080" y="2496960"/>
            <a:ext cx="0" cy="50040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2496960"/>
            <a:ext cx="0" cy="18129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3629160"/>
            <a:ext cx="0" cy="1184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03600" y="2496960"/>
            <a:ext cx="0" cy="147816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3327480"/>
            <a:ext cx="15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068960" y="2496960"/>
            <a:ext cx="0" cy="164628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278160" y="2496960"/>
            <a:ext cx="0" cy="60336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459400" y="2496960"/>
            <a:ext cx="0" cy="42732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184760" y="258444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6304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5555160" y="25272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Accion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correctiv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639840" y="27468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51008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Requerimient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093880" y="35323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0" name=""/>
          <p:cNvCxnSpPr>
            <a:stCxn id="106" idx="2"/>
            <a:endCxn id="109" idx="1"/>
          </p:cNvCxnSpPr>
          <p:nvPr/>
        </p:nvCxnSpPr>
        <p:spPr>
          <a:xfrm flipH="1" rot="16200000">
            <a:off x="1024560" y="4014720"/>
            <a:ext cx="2037600" cy="137700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9" idx="3"/>
            <a:endCxn id="108" idx="2"/>
          </p:cNvCxnSpPr>
          <p:nvPr/>
        </p:nvCxnSpPr>
        <p:spPr>
          <a:xfrm flipV="1">
            <a:off x="4368600" y="3701520"/>
            <a:ext cx="1657800" cy="2020320"/>
          </a:xfrm>
          <a:prstGeom prst="bentConnector2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3822840" y="6202440"/>
            <a:ext cx="1363680" cy="45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776840" y="5735520"/>
            <a:ext cx="0" cy="45576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24040" y="1628640"/>
            <a:ext cx="6643440" cy="43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7.1. Planificación de la Realiz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7476840" y="1779480"/>
            <a:ext cx="114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Satisfac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10199"/>
                </a:solidFill>
                <a:latin typeface="Arial"/>
              </a:rPr>
              <a:t>del cli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68480" y="4813200"/>
            <a:ext cx="1220760" cy="453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Revis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048920" y="2756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18600" y="2757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10199"/>
                </a:solidFill>
                <a:latin typeface="Arial"/>
              </a:rPr>
              <a:t>medicion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95480" y="3715920"/>
            <a:ext cx="0" cy="7304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0" name=""/>
          <p:cNvCxnSpPr>
            <a:endCxn id="115" idx="3"/>
          </p:cNvCxnSpPr>
          <p:nvPr/>
        </p:nvCxnSpPr>
        <p:spPr>
          <a:xfrm flipV="1" rot="16200000">
            <a:off x="7104240" y="2627280"/>
            <a:ext cx="1035720" cy="310320"/>
          </a:xfrm>
          <a:prstGeom prst="bentConnector4">
            <a:avLst>
              <a:gd name="adj1" fmla="val 24687"/>
              <a:gd name="adj2" fmla="val -464"/>
            </a:avLst>
          </a:prstGeom>
          <a:ln cap="sq" w="12600">
            <a:solidFill>
              <a:srgbClr val="008000"/>
            </a:solidFill>
            <a:miter/>
            <a:tailEnd len="sm" type="triangle" w="sm"/>
          </a:ln>
        </p:spPr>
      </p:cxnSp>
      <p:sp>
        <p:nvSpPr>
          <p:cNvPr id="141" name=""/>
          <p:cNvSpPr/>
          <p:nvPr/>
        </p:nvSpPr>
        <p:spPr>
          <a:xfrm>
            <a:off x="6019920" y="5264280"/>
            <a:ext cx="3124080" cy="1468440"/>
          </a:xfrm>
          <a:prstGeom prst="ellipse">
            <a:avLst/>
          </a:prstGeom>
          <a:solidFill>
            <a:srgbClr val="33cccc"/>
          </a:solidFill>
          <a:ln cap="sq"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Vista de Proces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nteracciones entre sec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15920"/>
            <a:ext cx="4319640" cy="2665440"/>
          </a:xfrm>
          <a:prstGeom prst="wedgeRoundRectCallout">
            <a:avLst>
              <a:gd name="adj1" fmla="val -106819"/>
              <a:gd name="adj2" fmla="val 64949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 para desarrollar los requisi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para gestionar el cambio de los requerimientos, evaluar prototipos y de registro de 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volucrar a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ablecer un método de traza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étodos de revi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municación con el clien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3500280"/>
            <a:ext cx="4643640" cy="1440000"/>
          </a:xfrm>
          <a:prstGeom prst="wedgeRoundRectCallout">
            <a:avLst>
              <a:gd name="adj1" fmla="val 3981"/>
              <a:gd name="adj2" fmla="val -175027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iclo de Vida del Softw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esenci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gest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lanificación de las actividades de cal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Gestionar el ries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852640"/>
            <a:ext cx="4572000" cy="3743280"/>
          </a:xfrm>
          <a:prstGeom prst="wedgeRoundRectCallout">
            <a:avLst>
              <a:gd name="adj1" fmla="val -82986"/>
              <a:gd name="adj2" fmla="val -32486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1. Planeación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Etapas de diseño y desarroll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Secuencia de actividades (in, out, review_a, management_a, support_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éto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criterios de aceptación para CO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2. Entra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requisitos funcionales y de desempeño; regulaciones, derivada de diseños previos, otros requeri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Tahoma"/>
              </a:rPr>
              <a:t>7.3.3. Salida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=&gt; modelos de datos, arquitectura, diseños detallados, código fuente, manuales, proto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60280"/>
            <a:ext cx="3348000" cy="6193080"/>
          </a:xfrm>
          <a:prstGeom prst="wedgeRoundRectCallout">
            <a:avLst>
              <a:gd name="adj1" fmla="val 69439"/>
              <a:gd name="adj2" fmla="val 13523"/>
              <a:gd name="adj3" fmla="val 16667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7.3.4. </a:t>
            </a: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Revisión de diseño  y desarroll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visiones técnicas, recorridos, inspecciones, pruebas formales, demostr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erific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diseño e implementación e implementación es conforme a los requerimientos de entrada = revisión + te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Validación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producto conforme a la intención de uso (probar el sistema bajo condiciones similares al ambiente de producción) tests de acep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ffffff"/>
                </a:solidFill>
                <a:uFillTx/>
                <a:latin typeface="Tahoma"/>
              </a:rPr>
              <a:t>Control de cambio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=&gt; Gestión de la config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1T21:54:44Z</dcterms:modified>
  <cp:revision>521</cp:revision>
  <dc:subject/>
  <dc:title>ISO 9000 aplicado a software</dc:title>
</cp:coreProperties>
</file>