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0243-7159-4496-8B1A-61C5D0E837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41E-69CE-4FAD-874C-26431E1205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D4D7-888E-423C-A510-D9BFC7F357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2C07-3E15-42A4-AD2A-B15BA361DA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272-BFFB-4845-9192-62D7AD1BD4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ED8-8D19-4134-8D12-8B5B4B3E78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D2D-D3E4-4DAC-8B6B-2BC0DE30D9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D29-7C15-4B3C-B02C-A68FB3434E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C13-6330-40FB-99DA-8F705BD157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0EF4-73D8-4D53-9995-DC7248E403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EFC-FCB3-42D9-84A5-D5C099BD63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59F5-9FDD-4D16-9A22-02AD7358E3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FEA-7104-49AC-A5D7-19674CFFCF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AA6-0A77-4254-8588-A5635C006C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54E9-AFCB-4873-80AF-A7026DDD7A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B33-159B-4EE6-B2DF-C61AB71F72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3D00-8917-468D-B1E5-F238003D67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02F0-1263-4B97-B23E-73F1495049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6EA9-9B48-4CF5-A657-0286A7137F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B3AD-205F-4EF0-BEF5-85FC738299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410-F185-416E-8259-9116092AB9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096-5903-4427-AFCD-C5CEC3C4E8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91A9-C8B8-4F4C-9791-8AF9E505F6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2060-4A34-4FE4-B7AF-6BB19E0D52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E689-9F70-489D-80CF-81D2F64271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2015-136E-49E2-B46F-BEC35A72A0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D0B-8964-486B-B949-880A68B3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814-A1EC-4BC9-B894-FD0BE7F5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BE9-43BF-4C6D-A1BC-E81094D4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782-8B03-4F55-A7A2-D1AB33B0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DE2D8-7E31-4FE7-955E-1B80052A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2AE70-70C1-4883-AE4B-ECC50E05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4265-C5CE-44CC-8E08-83C96808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C150F-8969-49AC-9CA1-2F766B16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06452-C69B-4143-A586-61B8036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A1266-3B73-43B0-992D-7A313561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6EF49-605E-4F3F-9749-2896D29A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76C-197B-4C64-8DE8-819D769C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4E344-9A74-4450-B364-94827A7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5D51B-7729-4C91-9C9B-CB6166C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CC422-CFC6-476E-8A95-0A53370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87A2F-CC9D-4F4C-AA88-7D81C37F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730E9-8C07-40B7-BB05-5A5820FB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AA5-61EC-4B22-B0C5-B1C0C09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169-AE23-4A06-9799-AA18504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1A1-E7F5-4DAC-986E-1DBBCE6C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578-6541-489F-9A81-3F376FF9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323-C0FD-482D-9E17-D51A0DE0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13D-F84F-4FF1-8822-D7B23660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A5B-228A-4817-A321-5C0DD5A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F8D2-A9FB-478D-9EAC-262AB85D5CEB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7A0B-A454-460E-B7DB-5DFCAB06272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ED05-9BE8-4CE9-AC5B-56498E90359A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397-DE7C-45A2-A675-A7CC596F1BB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, revisiones y testing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828720" y="2133720"/>
            <a:ext cx="6264000" cy="4247640"/>
            <a:chOff x="828720" y="2133720"/>
            <a:chExt cx="6264000" cy="42476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7117" t="5223" r="5579" b="0"/>
            <a:stretch/>
          </p:blipFill>
          <p:spPr>
            <a:xfrm>
              <a:off x="828720" y="2133720"/>
              <a:ext cx="6264000" cy="42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585760" y="3929760"/>
              <a:ext cx="1506600" cy="102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2360" y="1413000"/>
            <a:ext cx="5651280" cy="5255640"/>
            <a:chOff x="3492360" y="1413000"/>
            <a:chExt cx="5651280" cy="5255640"/>
          </a:xfrm>
        </p:grpSpPr>
        <p:sp>
          <p:nvSpPr>
            <p:cNvPr id="184" name=""/>
            <p:cNvSpPr/>
            <p:nvPr/>
          </p:nvSpPr>
          <p:spPr>
            <a:xfrm>
              <a:off x="3492360" y="1413000"/>
              <a:ext cx="5651280" cy="52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3"/>
            <a:srcRect l="17069" t="0" r="18601" b="0"/>
            <a:stretch/>
          </p:blipFill>
          <p:spPr>
            <a:xfrm>
              <a:off x="3735720" y="1499040"/>
              <a:ext cx="5407920" cy="497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Ejemplo 5 – Actividades del desarrollo de los requeimientos en el Tutelkán Reference Proces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jercicio 6. Definiendo procesos 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scriba las actividades principales del proceso de diseño en su empresa ejempl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talle una de ella en un flujo de trabajo que incluya actividades, roles y productos de trabajo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4508640"/>
            <a:ext cx="7993080" cy="208908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9640" y="0"/>
            <a:ext cx="4824360" cy="6121440"/>
          </a:xfrm>
          <a:prstGeom prst="wedgeRoundRectCallout">
            <a:avLst>
              <a:gd name="adj1" fmla="val -77046"/>
              <a:gd name="adj2" fmla="val 4014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1. Proceso de compras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1) Productos a comprar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COTS, software libre, shareware, customized, subcontratos, actividades delegadas por outsourcing, herramientas, hardware, documentación, material de entrenamient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2) Control de la compr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contatos, gestionar el acuerdo con el proveedor, gestión del riesgo, evaluación y selección del proveed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2. Información de compra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querimientos o procedimientos para identificarlos, identificación del producto a comprar, estándares, ambiente de operación, requerimientos del personal, requerimientos del SG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04972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6" name=""/>
          <p:cNvCxnSpPr>
            <a:stCxn id="199" idx="3"/>
            <a:endCxn id="200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201" idx="1"/>
          </p:cNvCxnSpPr>
          <p:nvPr/>
        </p:nvCxnSpPr>
        <p:spPr>
          <a:xfrm>
            <a:off x="4276440" y="3365280"/>
            <a:ext cx="77364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45940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3" name=""/>
          <p:cNvCxnSpPr>
            <a:stCxn id="199" idx="2"/>
            <a:endCxn id="202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02" idx="3"/>
            <a:endCxn id="201" idx="2"/>
          </p:cNvCxnSpPr>
          <p:nvPr/>
        </p:nvCxnSpPr>
        <p:spPr>
          <a:xfrm flipV="1">
            <a:off x="4368960" y="3630600"/>
            <a:ext cx="1567440" cy="209268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33" name=""/>
          <p:cNvCxnSpPr>
            <a:endCxn id="208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34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2565360"/>
            <a:ext cx="2521080" cy="3456000"/>
          </a:xfrm>
          <a:prstGeom prst="wedgeRectCallout">
            <a:avLst>
              <a:gd name="adj1" fmla="val 114356"/>
              <a:gd name="adj2" fmla="val 61759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4.3. Verificación del producto compr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ueba de aceptación, métodos de V&amp;V del subcontratado, aplicar el V&amp;V de la organización, En contratación de personal la evaluación de capacidades, habilidades y experi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049720" y="2997360"/>
            <a:ext cx="177192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1" name=""/>
          <p:cNvCxnSpPr>
            <a:stCxn id="254" idx="3"/>
            <a:endCxn id="255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7" name=""/>
          <p:cNvCxnSpPr>
            <a:stCxn id="254" idx="2"/>
            <a:endCxn id="257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7" idx="3"/>
            <a:endCxn id="256" idx="2"/>
          </p:cNvCxnSpPr>
          <p:nvPr/>
        </p:nvCxnSpPr>
        <p:spPr>
          <a:xfrm flipV="1">
            <a:off x="4368960" y="3630240"/>
            <a:ext cx="1567440" cy="20916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7" name=""/>
          <p:cNvCxnSpPr>
            <a:endCxn id="262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88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9" name=""/>
          <p:cNvCxnSpPr>
            <a:endCxn id="256" idx="1"/>
          </p:cNvCxnSpPr>
          <p:nvPr/>
        </p:nvCxnSpPr>
        <p:spPr>
          <a:xfrm flipV="1">
            <a:off x="4284360" y="3314160"/>
            <a:ext cx="765720" cy="11484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50920" y="1628640"/>
            <a:ext cx="3241440" cy="5229360"/>
          </a:xfrm>
          <a:prstGeom prst="wedgeRoundRectCallout">
            <a:avLst>
              <a:gd name="adj1" fmla="val 147356"/>
              <a:gd name="adj2" fmla="val -22708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Producción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iberables, entregables y operación y manten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alidación del procesos de Producción =&gt; orientado a la prevención y pronó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dentificación y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opiedad d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eservación del 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dispositivos de monitoreo y medi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Control de produ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492280"/>
            <a:ext cx="7993080" cy="194472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requerimientos del software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 en la industria de software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estimación y registro de esfuerz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detección, ubicación y corrección de defec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Herramientas y técnicas de Test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usada en los Test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idumbre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2208240" cy="61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2. Procesos relacionados con 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3. 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068640"/>
            <a:ext cx="189864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5. Producción y provis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3" name=""/>
          <p:cNvCxnSpPr>
            <a:stCxn id="106" idx="3"/>
            <a:endCxn id="107" idx="1"/>
          </p:cNvCxnSpPr>
          <p:nvPr/>
        </p:nvCxnSpPr>
        <p:spPr>
          <a:xfrm flipV="1">
            <a:off x="2458800" y="3365280"/>
            <a:ext cx="456120" cy="11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3"/>
            <a:endCxn id="108" idx="1"/>
          </p:cNvCxnSpPr>
          <p:nvPr/>
        </p:nvCxnSpPr>
        <p:spPr>
          <a:xfrm>
            <a:off x="4276800" y="3365280"/>
            <a:ext cx="800640" cy="208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89080" y="2496960"/>
            <a:ext cx="0" cy="500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327480"/>
            <a:ext cx="15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0" name=""/>
          <p:cNvCxnSpPr>
            <a:stCxn id="106" idx="2"/>
            <a:endCxn id="109" idx="1"/>
          </p:cNvCxnSpPr>
          <p:nvPr/>
        </p:nvCxnSpPr>
        <p:spPr>
          <a:xfrm flipH="1" rot="16200000">
            <a:off x="1024560" y="4014720"/>
            <a:ext cx="2037600" cy="13770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9" idx="3"/>
            <a:endCxn id="108" idx="2"/>
          </p:cNvCxnSpPr>
          <p:nvPr/>
        </p:nvCxnSpPr>
        <p:spPr>
          <a:xfrm flipV="1">
            <a:off x="4368600" y="3701520"/>
            <a:ext cx="1657800" cy="202032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95480" y="3715920"/>
            <a:ext cx="0" cy="7304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0" name=""/>
          <p:cNvCxnSpPr>
            <a:endCxn id="115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15920"/>
            <a:ext cx="4319640" cy="2665440"/>
          </a:xfrm>
          <a:prstGeom prst="wedgeRoundRectCallout">
            <a:avLst>
              <a:gd name="adj1" fmla="val -106819"/>
              <a:gd name="adj2" fmla="val 64949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 para desarrollar los requisi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para gestionar el cambio de los requerimientos, evaluar prototipos y de registro de 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olucrar a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ablecer un método de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de re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municación con 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500280"/>
            <a:ext cx="4643640" cy="1440000"/>
          </a:xfrm>
          <a:prstGeom prst="wedgeRoundRectCallout">
            <a:avLst>
              <a:gd name="adj1" fmla="val 3981"/>
              <a:gd name="adj2" fmla="val -17502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iclo de Vida del Soft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esen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gest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cal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Gestionar el ries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852640"/>
            <a:ext cx="4572000" cy="3743280"/>
          </a:xfrm>
          <a:prstGeom prst="wedgeRoundRectCallout">
            <a:avLst>
              <a:gd name="adj1" fmla="val -82986"/>
              <a:gd name="adj2" fmla="val -32486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1. Planeación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Etapas de diseño y desarrol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Secuencia de actividades (in, out, review_a, management_a, support_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riterios de aceptación para CO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2. Entra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requisitos funcionales y de desempeño; regulaciones, derivada de diseños previos, otros requer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3. Sali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modelos de datos, arquitectura, diseños detallados, código fuente, manuales, proto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0280"/>
            <a:ext cx="3348000" cy="6193080"/>
          </a:xfrm>
          <a:prstGeom prst="wedgeRoundRectCallout">
            <a:avLst>
              <a:gd name="adj1" fmla="val 69439"/>
              <a:gd name="adj2" fmla="val 1352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3.4.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Revisión de diseño  y desarroll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ones técnicas, recorridos, inspecciones, pruebas formales, demostr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erific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diseño e implementación e implementación es conforme a los requerimientos de entrada = revisión + te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alid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producto conforme a la intención de uso (probar el sistema bajo condiciones similares al ambiente de producción) tests de acep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Control de cambi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Gestión de la config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1T21:54:44Z</dcterms:modified>
  <cp:revision>521</cp:revision>
  <dc:subject/>
  <dc:title>ISO 9000 aplicado a software</dc:title>
</cp:coreProperties>
</file>