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1E50-D43F-41E4-932F-CDE7AE9B43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AA8D-DD64-4462-8C06-642AE42C47C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CADE-18DE-46B3-BDE7-14B2542532D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0D65-8834-4E28-95D5-852EE58EA57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B18E-B29C-443C-9008-D9B17A92474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6ECF-267C-4167-83F3-843DE1FFE8E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2CA1-82A6-443D-AEF4-84E59E1A310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5007-5461-4B9F-9622-3AA4304A796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82B8-5A9C-4075-93BB-BE2304B4CCD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9FBC-90E4-4B56-BF6E-7A5D198C8E4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8B2D-A150-4CB9-A2B2-18B7F054B88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BC1C-5676-40B4-BB65-1DD8AD18DC4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1E97-4969-4A27-A6E2-BEA9F4D1CA0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66BA-D1A1-415C-BEFB-A0135E8C373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FDD3-9C03-409D-A1FA-549DE4E02CC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3B21-E406-4C74-8079-2442FC829F0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3E3B-791F-4598-BCCD-FA44067D37B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6054-C365-4D13-AAA4-D5D6477EFEC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F084-9164-468F-A57D-40DA698866E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6E48-DC54-4DC9-AEF2-A60C5713E2E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0576-043F-4C65-AF52-E2434C957BF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76C1-EB45-4CEA-98AC-961C1443499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189-51DB-4327-A02A-607C933B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59B-00E9-4874-A9F3-4612E41A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493-01B9-4007-9B36-3A381C99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28B-4F77-4671-B058-12D977CE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DBF3F-7F69-4E2C-85C1-60DACA8B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2E230-E6E0-41D8-B033-78CE08D4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C8E9A-5803-46A4-BFE4-A7D541C9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C95EF-4229-4206-A017-FD1A713C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08C8D-61D8-4BAE-B480-2F17498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F5FC8-2FFC-4AC8-92E7-8781392E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9D727-D2F6-4899-B399-8C84940E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10A-F4A0-4A1D-B4C3-4CB1A971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F9D54-B973-4A28-ACBA-BE75F56C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AEABD-2084-4255-A17B-2560481B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2DED7-D22B-4ABA-A3FE-8033600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14574-81A3-4F9A-8735-15437174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A367C-846C-4C1A-A7A3-696C37B4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A35-AC5F-4E04-9539-FF10FAB6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B32-EAD6-4833-BE5A-C53D965D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539-9212-4F81-80D0-DCF8149F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EFF-586E-4550-9CBE-C6633429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45B-1306-4E68-8309-5D32FE2E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8E6-E1DC-4E7B-9780-C73352A5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DEA-4739-47E3-9B51-246DC873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316D-7789-4E78-A8A4-130F0A5FD17D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BE52-714A-404D-9EBB-8FBAB7C68E50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0A5C-68CA-4B12-B869-6D800BA85C0F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FCDF-FD13-4ACA-AAA2-CD7E199D624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WS va a desarrollar un software para control de asistencia del personal de plantas de proceso de empresas salmoner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software no es muy sofisticado así que será usado por lo(a)s operario(a)s cada vez ingresen o salgan de la sala de proceso, donde deberán marcar su entrada o salid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atributos / subatributos son los más relevantes desde el punto de vista de ello(a)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aptabilidad a la platafor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tal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observó un defecto potencial de desempeño o en la documentación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40Z</dcterms:modified>
  <cp:revision>460</cp:revision>
  <dc:subject/>
  <dc:title>ISO 9000 aplicado a software</dc:title>
</cp:coreProperties>
</file>