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2EC-5B67-4C2B-80CB-1C1F830146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9EAF-A14F-45AC-964A-F9FC2ADA89C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705F-0ED7-4518-AF63-F0847344A10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04A-DD6A-45A5-82A5-71627FE6AFF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60FA-3018-4504-BFF8-779BA6201FA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5B4-9B5F-4EC5-8754-47233966315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C5BB-6381-49B4-870E-37C2ABDAE60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B77B-4BF4-4F66-9E9C-AC60EF18160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8DA4-5944-495E-AE08-C846CE3ACE2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CF2D-D284-4390-8CC7-345B11A6CD5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10EF-38BF-4815-9A43-DE05D63D9F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AD8B-3FF7-4589-AAB1-CB639005CE2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27D7-835A-4D59-A243-13642CA308B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B66C-145A-4E4D-AB82-EB5E3FDBDB6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F2EF-0AE0-4058-B313-8512FF4E80A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3498-52E5-48B7-8247-28E529691D7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FB27-4740-42EB-B5FB-C6595E6C932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5396-DFB9-4B37-A483-247F4CE25FA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62F1-5725-4938-AECD-7E1500DC449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1308-2DED-410E-95B7-224B2BDA480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456F-4FFA-43DD-832A-73189D8F33D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925E-8A27-4C60-93F0-0350F7196DA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9E9-75A1-481B-9F0E-9E8ABA17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1EF-6ACC-4B45-A898-DB81951E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CB5-F5C3-45EE-8416-583E7B5A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996-A557-4078-A42E-CAFFE04B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FA656-A961-4804-B06B-010E2077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821EB-F88C-4D9F-AE4E-AC05723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4B3B1-CDF3-4828-9EC5-CE1F5CC5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872AA-CD2C-4A1C-AB8D-DFD6538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4B9CC-A7DE-4908-A8E0-80EFD3F2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F3B0F-2525-43AF-A69B-12A3357E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AF597-D4AD-4AFC-9E64-1F65C9B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B11-8C7D-4DD1-A5C2-8B36A36A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7B92E-DC41-4359-A803-6BBEC3D1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2A1CA-72A6-4190-B5B1-CE825C7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9FD7-EEBB-43EB-8F22-C19D4F93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15883-C053-4194-8EEF-7FCBE74A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2DE4A-85F7-4F37-A3E5-FF891823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8F9-E14A-4106-9C6B-B67B4ABF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B3C-D3DE-4566-8338-7A3D62E5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A10-C734-4303-8CDA-7672EA1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13E-9E27-478E-BC38-A7C4C100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6F5-1F59-4F53-AA28-36D13672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31C-C72E-4AA4-AFD7-13DE7277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F34-0875-464F-A5EC-2D11DB8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DFF7-0B33-467D-A047-220A36AE0140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C5FE-6035-414B-A680-AC62A445B87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869E-FD40-4FD8-A599-A0BA30277101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44DA-A80E-49F7-A657-4BC4C58FF9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WS va a desarrollar un software para control de asistencia del personal de plantas de proceso de empresas salmoner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software no es muy sofisticado así que será usado por lo(a)s operario(a)s cada vez ingresen o salgan de la sala de proceso, donde deberán marcar su entrada o salid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atributos / subatributos son los más relevantes desde el punto de vista de ello(a)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aptabilidad a la platafor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al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observó un defecto potencial de desempeño o en la documentación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40Z</dcterms:modified>
  <cp:revision>460</cp:revision>
  <dc:subject/>
  <dc:title>ISO 9000 aplicado a software</dc:title>
</cp:coreProperties>
</file>