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6EA-FCDF-4E1D-B90D-12BE268451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FB6-E681-4A44-A012-BA927E7A754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CF6-FD0D-42CB-8259-A8F88261065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2E7D-EE5F-4D98-8535-BAD764AED8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D82-EFC7-40EF-9904-86082359A0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A6F-F749-4733-B4CE-EBD12BB30B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66D9-AEEF-4878-A5C9-0DF59D3283C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1F5-8725-4CB4-8972-29055E1B12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585E-361A-41FB-9452-04DC322C146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FDB8-71AA-4446-A893-550B3B33F0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F62F-50F9-4E0F-9BF5-317C1568ECF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385-46B7-4C6B-B615-B9BA13C7C2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8BF3-E343-4A73-AC5E-25B3E7E7A3B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D62-2E50-4104-A800-4F5F0B0DA9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6E53-E43A-4EDC-88AD-3C38F9F3775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43ED-B719-4BC8-A013-F7BE97CC04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806-C0E4-472D-A794-2987BD46B09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0C1-EAC0-4166-98CC-26622B3D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764-13DE-437E-B4C9-EDC1366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D07-0806-4D4B-ADE1-D32E928F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089-467B-44CC-875E-AABF5356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42173-F1EC-4AEE-BB4F-FEDF463B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0B967-F953-49D1-B39F-9F6B1DAC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6BD5C-07B7-40E7-AF52-EDEB3B6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E362B-EADE-420B-A5E0-C6C60F7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5E25-85E9-4893-9E5A-D36FE3C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8AB2A-A7A7-44C7-88B0-028156C6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5690-3747-4E80-9D93-CB9BFE1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85B-830D-46F9-A90E-6B9DF91F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91F4E-F5C4-4220-8CEC-A7DEF0B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B9070-0BB6-4D7B-A958-E8F0480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25CBB-3553-4AF9-8B81-23F69A72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9A08B-4C65-42F5-881A-AF76EBA6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41B7-E669-4CC3-872A-C43AFEA6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7F5-D751-4FF2-9E59-C3BEE9B8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BA5-4B6E-4663-B076-68BC7D8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128-77B9-4281-86ED-7E265464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27B-DE73-495D-B832-08F61D62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3C7-9CF5-4A78-8072-D7F66DC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A83-210C-4EED-9915-32DD8AA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F38-7BF4-4743-9BFB-FDB5646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93D5-C4AE-468D-93F7-0AF60CD5463E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624-088C-4205-9401-C523E0D3FCE5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9EC0-05C0-4B1A-9B01-9A8D4B00F67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319-93BA-4502-A213-502D546D60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on condiciones controlada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soldadura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locidad de descarga de páginas en un sitio web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sempeño para la entrega de resultados de consultas a una base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eza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4076640"/>
            <a:ext cx="7993080" cy="2016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00Z</dcterms:modified>
  <cp:revision>517</cp:revision>
  <dc:subject/>
  <dc:title>ISO 9000 aplicado a software</dc:title>
</cp:coreProperties>
</file>