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1492-AFD7-49EB-A086-BF514068106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E676-37EF-4814-A17D-DABBCC03A17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D892-7DFE-4774-B471-83D5514AE9D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16A2-3EEB-4B02-AF68-EB85FBEBBEF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8175-CF5D-4BE9-83C4-AD3451EDC1A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69F8-E9A0-4887-8A28-52B858DFD88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735A-E0C9-4FEB-9AE0-3C219C47E80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1BCD-DCA1-45D8-B8EE-570EEEB9343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727A-AC11-4565-87E1-E0BBDBB5980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20DC-5C6C-4D83-99BB-D311ED5F279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724-2A78-4CB4-9638-8606A018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401B-3D9B-4FD8-8592-A3346505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42D-63EB-44FC-B6E8-5A073F3D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7AAA-0BBF-46AB-83BE-6EF2A199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B7A2A-94BF-436A-BA54-69033B9A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97017-2DBB-47E3-BC3D-46A96EBA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84802-8CC9-4E4F-ADB6-6999861D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1A73E-C227-4EE2-A6EC-7CD38EC3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0B734-B458-4096-9C39-9779DC5C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306F8-ADC5-4400-B81D-6057358D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8D56D-9537-40A6-928B-FCB8A8DA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FA99-3830-4659-B55F-D30106C2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6FF9F-44A5-4E49-B54E-BA438B54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EFB15-004B-4F4A-80DF-02D106EE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08C17-3881-4A39-BF95-CFF6BC39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7B20A-E15A-4156-9056-C57E1A4B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D7322-8B9B-4622-8DD5-153AE82C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F4F-DE41-4E01-9B19-ABF57B53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C6DE-2DC3-477E-AF0E-D07B5433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6DDB-6A0C-4749-913F-07BBF05C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9E1-9A32-4890-A7CA-00339704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CAE-59AA-4725-A312-580E73D8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521D-6D1B-4DE4-AAE5-6541D481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659-A892-463B-A6D0-1EEBF588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5CE3-4BB4-44BB-A76E-2BA48CDF23E2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4D7C-BC1C-4A78-9E6E-B3C7255BC49A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E747-F56B-43FC-BBCC-DBAA7C28BD51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F4A5-5491-4099-A4A8-67F3B1D1C73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 </a:t>
            </a:r>
            <a:br>
              <a:rPr sz="6000"/>
            </a:br>
            <a:r>
              <a:rPr b="0" lang="es-ES_tradnl" sz="36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730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600"/>
            </a:b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(7.2) … comunicación con 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necesario tener mecanismos de comunicación con el cliente, relativos 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nformación sobre 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sultas, contratos o atención de pedidos, incluyendo modific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Retroalimentación d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Diseño y desarroll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se entiende por diseño?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Todo el diseño y las 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de desarrollo que transforman la especificación de los requerimientos del cliente en un producto de softwar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l diseño comienza con la salida de la revisión del contrato y evoluciona hasta transformarse en el producto a ser entregado al cliente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r y controlar el diseño y desarrollo del product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tap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visión, verificación y validación apropi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sponsabilidades y autor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los elementos de entrada para 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funcionales y de desempeñ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legales y reglamentari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de diseños previos similar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tr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ntregar los resultados del diseño y desarrollo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umpliendo requisitos de entrad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roporcionando información adecuada para la compra,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tener o hacer referencia a criterios de acept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specificar características esenciales para uso seguro y corre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las etapas adecuadas, revisar, verificar y validar el diseño y desarrollo según lo planific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Ver si se van a cumplir los requisi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dentificar problemas y proponer accion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y mantener registros de los cambios del diseño y desarroll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cambios deben revisarse, verificarse y validarse, y aprobarse antes de su implementación, evaluando el efecto en las partes constitutivas y en el producto ya entreg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2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539640" y="1812960"/>
            <a:ext cx="7777440" cy="4419720"/>
          </a:xfrm>
          <a:prstGeom prst="rect">
            <a:avLst/>
          </a:prstGeom>
          <a:solidFill>
            <a:srgbClr val="010199"/>
          </a:solidFill>
          <a:ln w="7632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..    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Diseño y desarrollo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304920" y="1906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lanific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control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2666880" y="2422440"/>
            <a:ext cx="2438640" cy="91440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Elemento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 entrad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79880" y="2879640"/>
            <a:ext cx="234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Etap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Mecanismos de revisión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verificación y 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628000" y="3336840"/>
            <a:ext cx="187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Funcion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Desempeñ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Leg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5796000" y="2968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sulta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724360" y="3882960"/>
            <a:ext cx="2705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mplimiento d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uisi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Información pa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mpra, produc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prestación del servi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riterios de acep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Formas de uso correc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segur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iberar una vez aproba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118960" y="4708440"/>
            <a:ext cx="244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uando corresp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o según pla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vis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erific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alid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5640120" y="182736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ntrolar cambi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s entradas para el diseño: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termine cómo las entradas deben ser definidas, documentadas, comunicadas y revisad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resolver las ambigüedades o conflic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administrar las actualizaciones y cambios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s salidas d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segúrese, a través de revisiones, que las sali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relacionan hacia atrás con los requerimient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atisfacen las entradas para las actividades de diseñ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on consistentes con los criterios de salida o acep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ontienen indicaciones para el uso seguro del product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umplen los requisitos regulatori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Riesgo de no planificar y conducir revisiones formal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planifican revisiones formales, no ocurrirán cuando se necesite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llevan a cabo revisiones formales, los problemas serán visibles muy tarde en el ciclo de p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Verificaciones y validaciones del diseñ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ínalas y gestiónelas 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ones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en el pla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ben reflejar una visión independiente de aquella del diseñado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inspecciones y pruebas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son aproximaciones a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ón y la Validación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es similar a la prueba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gístrelas incluyendo las medidas tomad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fec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aracterísticas de los proce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pletitud y efectividad de la salida cumpliendo con los requerimien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5. Responsabilidad de la dire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olítica y objetivos de la calidad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6. Gestión de los recur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Trebuchet MS"/>
              </a:rPr>
              <a:t>Revisión de ISO 9001:2000 con las recome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55640" y="2492280"/>
            <a:ext cx="7993080" cy="1584360"/>
          </a:xfrm>
          <a:prstGeom prst="rect">
            <a:avLst/>
          </a:prstGeom>
          <a:noFill/>
          <a:ln w="763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1) Planificación de la realización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La organización debe planificar y desarrollar los procesos necesarios para la realización del product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eterminar cuando sea apropi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bjetivos de la calidad y requisit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ecesidad de establecer procesos, documentos y proporcionar recursos específic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 requeridas de verificación, validación, seguimiento, inspección y ensayo/prueba para el producto, y criterios de aceptación de los mism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gistros necesarios como evidenci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6: Planificación de procesos relevantes en nuevo SW de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36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La empresa va a llevar a desarrollar un nuevo SW a partir de la necesidad de controlar la alimentación de los salmones en los centros de engorda de uno de sus principales clientes: AquaChile. El SW se instalará en pontones de alimentación que reciben información de cámaras submarinas, y permiten controlar el expendio de alimen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SWS va a planificar el desarrollo de este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¿Cuáles son los procesos más importantes para su desarroll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¿Es la planificación una actividad usual en el desarrollo de SW?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1) Actualización de la planifica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planificación debe actualizarse. Si los planes no se actualizan durante el diseño y el desarrollo, los planes no representarán lo que es necesario hacer para satisfacer los requerimien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e pueden producir errores de interpretación acerca de las actividades; incluso éstas pueden ser olvid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Si los planes no se actualizan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no hay un plan real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2) Procesos relacionados con el client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los requisitos relacionados con el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pecificaciones del cliente: producto, entrega, otr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 establecidos por el cliente pero necesari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egales y reglamentarios aplica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Otros determinados por la organiz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revisar los requisitos relacionados con el producto. Antes del compromiso, asegurar qu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determinados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resueltas las diferenc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xisten las capacidades en la empres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7: Explotación del nuevo SW de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SWS-Feed está listo y va a ser ofrecido a un nuevo cliente: SalmonChile. Como su negocio son los salmones y no el SW, ellos no han entregado una declaración documentada de sus requisitos, pero se han tenido muchas reuniones de vent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debería hacer SWS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tipo de registros conviene usar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5:51Z</dcterms:modified>
  <cp:revision>507</cp:revision>
  <dc:subject/>
  <dc:title>ISO 9000 aplicado a software</dc:title>
</cp:coreProperties>
</file>