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FB9C-69C5-423C-A486-4FAA75AF4E8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52AC-51E2-46FC-91C7-6F6E1FFD03D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Keyword is transfor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pection and Test activities are addressed in 4.10 and 4.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EE21-BBBF-4F0B-990D-3C6A8EEEDEB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Keyword is transfor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pection and Test activities are addressed in 4.10 and 4.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CAE4-8971-414E-A2E5-85AA10BEB6D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Keyword is transfor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pection and Test activities are addressed in 4.10 and 4.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811A-EE2C-403F-BD45-98483661B03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Keyword is transfor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pection and Test activities are addressed in 4.10 and 4.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63AB-5867-4973-A8C1-51858526899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D32D-6E8D-4E61-82D2-A067E90D4C2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9BF8-2E7E-4296-AE9E-5AFB04BB8CF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E512-6171-4136-A90C-15BBABADE91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E26F-64DE-4DAC-9148-CA3E191F8C8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5B94-06CE-4D8E-9E47-9937C13F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45C6-61C2-4EA3-A43D-0EBBAB42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63A3-1F0A-4D18-B271-4A491EF6A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45F5-8345-48F3-B392-3BE4A34FB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6468F-CAE7-4B26-95CA-C6629D174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3AEB5-076C-4F0F-8E48-EF1C5641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7CFC9-E374-4F64-A8CE-AD160F09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517B1-7A9D-47DF-A727-8D844385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911A5-7C16-4E1C-ACD7-994FD756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2662E-4EFF-4A9E-8BFE-66C1003A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F049C-B710-4C11-8E7E-B16CC53B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75AF-B5B5-4D3E-9384-5BBFBAFD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08DBC-3CA1-45F9-9594-E14C2768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5E951-326C-4ECC-A288-A8ACD162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E9E43-2B10-44E4-8A05-11C55234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32902-3B7E-445D-A9D5-BEF7D93DB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5C2C4-4981-41C2-87F7-0D22E29D5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868F-5FD7-4467-A218-39650353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0E1E-BCBA-4B63-A41D-CF7D287B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C958-5252-4146-A0D4-078110F5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E545-4CC1-4577-ADD4-9779AED2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BEC4-E717-49E3-9B30-E1203A8B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F89A-2A71-4B06-A2F6-8C442858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D0E7-F43A-4C7B-BAD4-D2FD3B06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136C-9C9C-4AA0-B7B3-B2B7DBFD96F0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2727-12F6-40CF-BFA2-C37C8E7CC8A8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CF4D-42B2-4200-B3F0-9D13FAA74626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843D-C2CC-4750-A828-94DBF9EDE08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66"/>
                </a:solidFill>
                <a:latin typeface="Trebuchet MS"/>
              </a:rPr>
              <a:t>ISO 9000 </a:t>
            </a:r>
            <a:br>
              <a:rPr sz="6000"/>
            </a:br>
            <a:r>
              <a:rPr b="0" lang="es-ES_tradnl" sz="36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42560" y="3933360"/>
            <a:ext cx="7304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600"/>
            </a:b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(7.2) … comunicación con el client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necesario tener mecanismos de comunicación con el cliente, relativos a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Información sobre 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onsultas, contratos o atención de pedidos, incluyendo modificacion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Retroalimentación del client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Diseño y desarroll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¿Qué se entiende por diseño?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Todo el diseño y las </a:t>
            </a: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ctividades</a:t>
            </a: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 de desarrollo que transforman la especificación de los requerimientos del cliente en un producto de softwar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l diseño comienza con la salida de la revisión del contrato y evoluciona hasta transformarse en el producto a ser entregado al cliente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La organización debe…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lanificar y controlar el diseño y desarrollo del product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Etap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visión, verificación y validación apropiad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sponsabilidades y autoridad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dentificar los elementos de entrada para el diseñ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quisitos funcionales y de desempeñ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quisitos legales y reglamentari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formación de diseños previos similar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Otr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La organización debe…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ntregar los resultados del diseño y desarrollo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umpliendo requisitos de entrad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Proporcionando información adecuada para la compra, producción y prestación del servic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ontener o hacer referencia a criterios de aceptación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Especificar características esenciales para uso seguro y corre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La organización debe…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n las etapas adecuadas, revisar, verificar y validar el diseño y desarrollo según lo planificad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Ver si se van a cumplir los requisit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dentificar problemas y proponer accion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dentificar y mantener registros de los cambios del diseño y desarroll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cambios deben revisarse, verificarse y validarse, y aprobarse antes de su implementación, evaluando el efecto en las partes constitutivas y en el producto ya entregad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2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3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539640" y="1812960"/>
            <a:ext cx="7777440" cy="4419720"/>
          </a:xfrm>
          <a:prstGeom prst="rect">
            <a:avLst/>
          </a:prstGeom>
          <a:solidFill>
            <a:srgbClr val="010199"/>
          </a:solidFill>
          <a:ln w="7632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...    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Diseño y desarrollo del produc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304920" y="1906560"/>
            <a:ext cx="2438280" cy="91440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Planificar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y controlar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2666880" y="2422440"/>
            <a:ext cx="2438640" cy="914400"/>
          </a:xfrm>
          <a:custGeom>
            <a:avLst/>
            <a:gdLst>
              <a:gd name="textAreaLeft" fmla="*/ 0 w 2438640"/>
              <a:gd name="textAreaRight" fmla="*/ 2438640 w 24386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Elemento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de entrad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479880" y="2879640"/>
            <a:ext cx="2349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Etap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Mecanismos de revisión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verificación y valid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Responsabilidad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628000" y="3336840"/>
            <a:ext cx="187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q. Funcion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q. Desempeñ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q. Leg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5796000" y="2968560"/>
            <a:ext cx="2438280" cy="91440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sultad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5724360" y="3882960"/>
            <a:ext cx="2705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umplimiento d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quisi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Información pa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ompra, produc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y prestación del servic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riterios de acept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Formas de uso correcto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y segur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iberar una vez aproba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2118960" y="4708440"/>
            <a:ext cx="244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uando correspon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o según pla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evis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Verificac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Validac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5640120" y="182736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ontrolar cambi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3) Sugerencias a considerar con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Las entradas para el diseño: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Determine cómo las entradas deben ser definidas, documentadas, comunicadas y revisada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Defina cómo resolver las ambigüedades o conflict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Defina cómo administrar las actualizaciones y cambios 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3) Sugerencias a considerar con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s salidas del diseñ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segúrese, a través de revisiones, que las salid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relacionan hacia atrás con los requerimiento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atisfacen las entradas para las actividades de diseño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on consistentes con los criterios de salida o aceptación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Contienen indicaciones para el uso seguro del producto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Cumplen los requisitos regulatorio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3) Riesgo de no planificar y conducir revisiones formale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Si no se planifican revisiones formales, no ocurrirán cuando se necesiten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Si no se llevan a cabo revisiones formales, los problemas serán visibles muy tarde en el ciclo de producción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3) Verificaciones y validaciones del diseño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ínalas y gestiónelas las </a:t>
            </a:r>
            <a:r>
              <a:rPr b="0" lang="es-ES_tradnl" sz="2400" spc="-1" strike="noStrike">
                <a:solidFill>
                  <a:srgbClr val="008000"/>
                </a:solidFill>
                <a:latin typeface="Trebuchet MS"/>
              </a:rPr>
              <a:t>verificaciones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 en el pla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ben reflejar una visión independiente de aquella del diseñador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Las </a:t>
            </a:r>
            <a:r>
              <a:rPr b="0" lang="es-ES_tradnl" sz="2400" spc="-1" strike="noStrike">
                <a:solidFill>
                  <a:srgbClr val="008000"/>
                </a:solidFill>
                <a:latin typeface="Trebuchet MS"/>
              </a:rPr>
              <a:t>inspecciones y pruebas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 son aproximaciones a </a:t>
            </a:r>
            <a:r>
              <a:rPr b="0" lang="es-ES_tradnl" sz="2400" spc="-1" strike="noStrike">
                <a:solidFill>
                  <a:srgbClr val="008000"/>
                </a:solidFill>
                <a:latin typeface="Trebuchet MS"/>
              </a:rPr>
              <a:t>verificación y la Validación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 es similar a la prueba fina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gístrelas incluyendo las medidas tomad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fect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aracterísticas de los proces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ompletitud y efectividad de la salida cumpliendo con los requerimient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De la clase anterior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5. Responsabilidad de la dirección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Política y objetivos de la calidad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6. Gestión de los recurso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1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6600"/>
                </a:solidFill>
                <a:latin typeface="Trebuchet MS"/>
              </a:rPr>
              <a:t>Revisión de ISO 9001:2000 con las recome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7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7. Realización del product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1 Planificación de la realización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2 Procesos relacionados con el client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3 Diseño y 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4 Compra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5 Producción y prestación del servic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6 Control de los dispositivos de seguimiento y de medición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755640" y="2492280"/>
            <a:ext cx="7993080" cy="1584360"/>
          </a:xfrm>
          <a:prstGeom prst="rect">
            <a:avLst/>
          </a:prstGeom>
          <a:noFill/>
          <a:ln w="76320">
            <a:solidFill>
              <a:srgbClr val="ff66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(7.1) Planificación de la realización del produc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La organización debe planificar y desarrollar los procesos necesarios para la realización del producto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Determinar cuando sea apropiad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Objetivos de la calidad y requisitos para el product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Necesidad de establecer procesos, documentos y proporcionar recursos específicos para el product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ctividades requeridas de verificación, validación, seguimiento, inspección y ensayo/prueba para el producto, y criterios de aceptación de los mism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gistros necesarios como evidenci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rebuchet MS"/>
              </a:rPr>
              <a:t>Ejercicio 6: Planificación de procesos relevantes en nuevo SW de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3600" spc="-1" strike="noStrike">
                <a:solidFill>
                  <a:srgbClr val="ff9900"/>
                </a:solidFill>
                <a:latin typeface="Trebuchet MS"/>
              </a:rPr>
              <a:t>Sea Wicker Store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La empresa va a llevar a desarrollar un nuevo SW a partir de la necesidad de controlar la alimentación de los salmones en los centros de engorda de uno de sus principales clientes: AquaChile. El SW se instalará en pontones de alimentación que reciben información de cámaras submarinas, y permiten controlar el expendio de alimento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SWS va a planificar el desarrollo de este producto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¿Cuáles son los procesos más importantes para su desarrollo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¿Es la planificación una actividad usual en el desarrollo de SW?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1) Actualización de la planifica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 planificación debe actualizarse. Si los planes no se actualizan durante el diseño y el desarrollo, los planes no representarán lo que es necesario hacer para satisfacer los requerimient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e pueden producir errores de interpretación acerca de las actividades; incluso éstas pueden ser olvidad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Trebuchet MS"/>
              </a:rPr>
              <a:t>Si los planes no se actualizan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Trebuchet MS"/>
              </a:rPr>
              <a:t>¡no hay un plan real!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(7.2) Procesos relacionados con el cliente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determinar los requisitos relacionados con el producto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specificaciones del cliente: producto, entrega, otr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No establecidos por el cliente pero necesari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Legales y reglamentarios aplicabl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Otros determinados por la organiz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revisar los requisitos relacionados con el producto. Antes del compromiso, asegurar que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stán determinados los requisitos del produc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stán resueltas las diferenc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xisten las capacidades en la empres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7: Explotación del nuevo SW de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ea Wicker Store 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SWS-Feed está listo y va a ser ofrecido a un nuevo cliente: SalmonChile. Como su negocio son los salmones y no el SW, ellos no han entregado una declaración documentada de sus requisitos, pero se han tenido muchas reuniones de venta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¿Qué debería hacer SWS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¿Qué tipo de registros conviene usar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yordy</cp:lastModifiedBy>
  <dcterms:modified xsi:type="dcterms:W3CDTF">2008-09-23T16:35:51Z</dcterms:modified>
  <cp:revision>507</cp:revision>
  <dc:subject/>
  <dc:title>ISO 9000 aplicado a software</dc:title>
</cp:coreProperties>
</file>