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1629-8F0B-4760-9E16-480C4E678F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F001-189D-4A5A-AE90-1FF5464F1A2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Other examples of ISO work includ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SO film speed rat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A008-B55F-41E5-B068-33620F7B948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Other examples of ISO work includ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SO film speed rat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7E05-B5AD-4240-A821-D8FA3A7815D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F29B-4A58-4DFA-AA74-A0EBD1A1D9E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F13B-87CF-4517-A02D-2788AC7CD98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53CE-05F5-4A92-9432-9B245CCF895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36E9-776D-4985-9749-F7F98D4D3AD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45CB-E756-4409-B865-7934C400831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A9BC-CF8A-4BF6-AF33-71A801F1880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Is quality like “beauty”; is it in the eyes of the beholder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ELL: Quality is like oats sto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how the French book on Quality artifacts in the US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do they have other examples to offer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CC0B-5AAC-448E-B254-3552E3395D3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Which do you us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Relate these to clauses in ISO 9001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1=Design Control (4.5), Purchasing (4.6) Control of customer-supplied product (4.7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2=Inspection and testing (4.10),(4.11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3=Corrective and preventative action (4.14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4=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5=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8E8B-A29D-49A9-9449-5B6D8F8556A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GIVE: CMM defin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GIVE: ISO defin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5FF2-F0EF-42FA-B11F-66D8C8C278A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47C2-FD08-4D70-8BCA-457590AA8A5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C72A-0FDE-4168-8DA7-B6F8AAB8373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EC18-779A-42C3-B68B-5B099D925E2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Can anyone offer a positive result achieved from bad quality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-for the custom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-for the suppli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6C25-0F3E-4555-B2D7-16E6CF2A131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Just in case the discussion didn’t shake it out: “What specific issues do you have or anticipate in getting to registration?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A155-5475-4081-80F5-334CE755070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11240" y="72864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600080"/>
            <a:ext cx="502920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5D1-FDAB-4F19-93B3-624881C9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30B-B5A3-40F3-BF9E-5ABA2FFA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998-FE88-4B06-B6E4-42C90302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BE7D-CD8E-43D2-A8AB-1259B8E2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BC14B-6A81-4651-BFA8-C9D3FC52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008E7-16BD-4EC4-94D9-17C581D4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84666-6DA2-4841-A62A-5F5CAFA6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C71EE-08E6-4D72-8561-15C59A56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A2F09-E5FB-4C0E-B87B-2EFAB19C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C76E0-F707-4374-A7AF-BB49B459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03CB4-E6A4-4A32-BC83-76C12748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F8E0-AAF2-48EF-A4E5-C1327D2E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BC589-C49F-434F-9EF8-D0F7DBA1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7C8C0-C751-4D31-A41C-57616DA9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5950F-A2A8-4EBC-92D2-13B4E921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F42F5-57FF-443B-B806-174A4912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838A0-E171-47AE-B4D1-9F2830AD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D32-DB4C-4C14-A680-D4EB2E9A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13E3-9ED3-41A3-B8F7-A0ACA8EC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24B0-1907-4277-8CDC-A30416C6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19D-74B9-4348-BC5A-DE3A460D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7F09-578A-4915-99DC-B3EA2C21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E91-4D5A-4B5E-83B0-43B3272B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FCAB-FD5B-402E-94B1-0C8437F4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03D5-659D-493C-8CA7-F7FCAFC23E86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5A87-311E-46B3-99B5-773D215AD4C2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4B47-CD1E-419C-9C66-944BF7AF498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nn.cl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 </a:t>
            </a:r>
            <a:br>
              <a:rPr sz="6000"/>
            </a:br>
            <a:r>
              <a:rPr b="0" lang="es-ES_tradnl" sz="36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3933360"/>
            <a:ext cx="7304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tándares o modelos usar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xigencias: 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Voluntad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Obligatoriedad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lcance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Toda la organiz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ólo una parte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Foco: 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Product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Proces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Persona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Ámbito de la organización: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oftware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rvici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Electrónic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Etc.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ISO?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SO - International Organization for Standardization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Fundada en 1946, es una federación mundial de cuerpos de estandarización nacionales 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Su misión es proveer estandarización internacional para facilitar el intercambio mundial de bienes y servici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URL -&gt; http://www.iso.org/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uáles son los principios que guían a ISO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rebuchet MS"/>
              </a:rPr>
              <a:t>Consenso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Se toman en cuenta los puntos de vista de todos los interesados: fabricantes, vendedores y usuarios, grupos de consumidores, laboratorios de prueba, gobiernos, organizaciones de investigación y profesionales de la ingeniería.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rebuchet MS"/>
              </a:rPr>
              <a:t>Toda la industria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Soluciones globales para satisfacer industrias y consumidores de todo el mundo. 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rebuchet MS"/>
              </a:rPr>
              <a:t>Voluntario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La estandardización internacional es del mercado y por lo tanto basada en la implicación voluntaria de todos los intereses en el mercado.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1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332000" y="1682640"/>
            <a:ext cx="6164280" cy="4337280"/>
          </a:xfrm>
          <a:prstGeom prst="rect">
            <a:avLst/>
          </a:prstGeom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2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Muchos estándares requieren revisión periódica por muchos factore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Evolución técnic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Nuevos métodos y material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Nuevos requerimientos de seguridad y calidad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ISO estableció la regla general de revisar los estándares a intervalos de a lo más 5 añ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A la fecha el trabajo de ISO ha resultado en alrededor de 12.000 estándares internacionales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3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Para temas de Tecnologías de Información ISO trabaja en conjunto con IEC (</a:t>
            </a:r>
            <a:r>
              <a:rPr b="1" lang="es-ES" sz="2800" spc="-1" strike="noStrike">
                <a:solidFill>
                  <a:srgbClr val="003300"/>
                </a:solidFill>
                <a:latin typeface="Trebuchet MS"/>
              </a:rPr>
              <a:t>International Electrotechnical Commission - http://www.iec.ch/).</a:t>
            </a: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instancia se conoce como JTC1- </a:t>
            </a: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Joint Technical Committee 1, Information Technology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Sus estándares se reconocen por el prefijo ISO/IEC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4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El representante de Chile ante ISO es el Instituto Nacional de Normalización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cc00"/>
                </a:solidFill>
                <a:uFillTx/>
                <a:latin typeface="Trebuchet MS"/>
                <a:hlinkClick r:id="rId1"/>
              </a:rPr>
              <a:t>http://www.inn.cl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Chile es miembro Observador, por lo que puede abstenerse de participar en las votaciones, pero va a pasar a ser miembro Participante en </a:t>
            </a:r>
            <a:r>
              <a:rPr b="1" lang="es-ES" sz="2800" spc="-1" strike="noStrike">
                <a:solidFill>
                  <a:srgbClr val="003300"/>
                </a:solidFill>
                <a:latin typeface="Trebuchet MS"/>
              </a:rPr>
              <a:t>JTC 1/SC 34 - Document Description and Processing Languages (http://www.jtc1sc34.org/#wg1)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Ejemplos en Chil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00"/>
                </a:solidFill>
                <a:latin typeface="Trebuchet MS"/>
              </a:rPr>
              <a:t>Homologación ISO 9000:2000 como NCh ISO 9000:2001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Homologación idéntica de estándar ISO/IEC 9126-1  a norma chilena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NCh 2812-1 Ingeniería de software - Calidad de producto - Parte 1: Modelo de cal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Estándar voluntari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Homologación idéntica de estándar ISO/IEC 17799 a norma chilena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NCh 2777 Tecnología de la información - Código de práctica para la gestión de seguridad de la información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Estándar voluntario para la mayoría de las instituciones pero obligatorio para empresas que prestan servicios de certificación electrónica. 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Generalidades sobre ISO 9000:2000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Revisión de ISO 9001:2000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es ISO 9000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Un conjunto de normas aprobadas y editadas por primera vez en 1987, y reeditadas en 1994 y 2000 por el Comité Técnico 176 para la </a:t>
            </a: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Gestión de la Calidad</a:t>
            </a: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Generalidades sobre ISO 9000:2000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visión de ISO 9001:2000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rebuchet MS"/>
              </a:rPr>
              <a:t>Metodolog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xposición y lectur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rebuchet MS"/>
              </a:rPr>
              <a:t>Evalu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ontrol al final del curs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¿Por qué se habla de certificació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S0 9000:2000 tiene 3 parte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SO 9000: Fundamentos y vocabular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SO 9001: Requisi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SO 9004: Directrices para la mejora del desempeñ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SO 9001:2000 es un estándar cuyo cumplimiento en una organización es certificable por terceras partes de confianz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se certifica?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 certificación es para el Sistema de Gestión de la Calidad (SGC), con los alcances definidos para la organización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Toda la empres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Solamente algunos proces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se certifica?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SGC describe las formas de operar de una organización para alcanzar la calidad de sus produc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Por eso, como ISO 9001:2000 tiene requisitos para procesos,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no certifica personas ni productos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pasa con los servicios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ISO 90001:2000, cuando se habla de productos también se entiende que se refiere a servicios, si corresponde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beneficios conlleva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ejor control de la gest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ejor percepción de los problemas de procedimien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so de la norma como herramienta promocio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ejor percepción de los problemas de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ayor facilidad para eliminar los problemas de procedimien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mento de la eficaci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onservación de los clientes actua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mento de satisfacción de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yuda a captar nuevos trabajador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mento de la presencia en el mer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ién certifica?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mpresas auditoras reconocidas para realizar dicha labor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reconocimiento internacional de las certificaciones depende del reconocimiento de la empresa que otorga el certifica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Chile son acreditadas por el IN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INN acredita empresas auditoras para realizar las inspecciones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mpresas auditoras inspeccionan empresas para verificar el SGC y entregar certificad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ién certifica?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mpresas acreditadas por INN para certificar ISO 9001 en Chil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CESMEC Ltda., División Certificación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SGS ICS Chil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Instituto Colombiano de Normas Técnicas y Certificación, ICONTEC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IRAM (Argentina), Certificación de Sistem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Trebuchet MS"/>
              </a:rPr>
              <a:t>B.V.Q.I. Chile -&gt; Ha certificado varias empresas de software y TI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AENOR (España), División de Certificación de Sistem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LGAI CHILE S.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LATU Sistemas S.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Quality Management Institute, QMI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TÜV Rheinland Chile S.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SILOB Chile Ltd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Det Norske Verit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Una vez certificado, qué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l SGC debe ser seguido y mantenid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s empresas auditoras realizan inspecciones de verificación y de re certificación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La certificación se puede perder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Datos sobre Chile y el Mundo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31" name="Picture 161" descr=""/>
          <p:cNvPicPr/>
          <p:nvPr/>
        </p:nvPicPr>
        <p:blipFill>
          <a:blip r:embed="rId1"/>
          <a:stretch/>
        </p:blipFill>
        <p:spPr>
          <a:xfrm>
            <a:off x="252360" y="2637000"/>
            <a:ext cx="8712360" cy="117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Datos sobre Chile y el Mundo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1042920" y="1693800"/>
            <a:ext cx="7058160" cy="48196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1258920" y="2492280"/>
            <a:ext cx="194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ahoma"/>
              </a:rPr>
              <a:t>Chile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ahoma"/>
              </a:rPr>
              <a:t>1.124 empresas, 0.14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su guía ISO 90003:2004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 Subsidios para llevar a cabo el proye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42" name="Object 4"/>
          <p:cNvGraphicFramePr/>
          <p:nvPr/>
        </p:nvGraphicFramePr>
        <p:xfrm>
          <a:off x="163440" y="3755880"/>
          <a:ext cx="8815320" cy="157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440" y="3755880"/>
                    <a:ext cx="8815320" cy="15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5"/>
          <p:cNvSpPr/>
          <p:nvPr/>
        </p:nvSpPr>
        <p:spPr>
          <a:xfrm>
            <a:off x="838080" y="2300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osto de un PROFO para ISO 9000 y CM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Valores p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or empresa</a:t>
            </a: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,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 en UF y cofinanciamiento   60% - 40%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Agente operador: TECNOPYME (ACT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  <a:ea typeface="Times New Roman"/>
              </a:rPr>
              <a:t> </a:t>
            </a:r>
            <a:br>
              <a:rPr sz="3200"/>
            </a:br>
            <a:r>
              <a:rPr b="1" lang="es-CL" sz="3200" spc="-1" strike="noStrike">
                <a:solidFill>
                  <a:srgbClr val="003300"/>
                </a:solidFill>
                <a:latin typeface="Trebuchet MS"/>
                <a:ea typeface="Times New Roman"/>
              </a:rPr>
              <a:t>Costos estimados por consultores en Chil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00"/>
                </a:solidFill>
                <a:latin typeface="Trebuchet MS"/>
              </a:rPr>
              <a:t>*, **: Precio base para empresas PyME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154080" y="2136600"/>
          <a:ext cx="8704080" cy="20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2136600"/>
                    <a:ext cx="87040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rebuchet MS"/>
              </a:rPr>
              <a:t>Sistemas de Gestión de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Revisión de ISO 9001:2000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Qué es la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3200" spc="-1" strike="noStrike">
                <a:solidFill>
                  <a:srgbClr val="000066"/>
                </a:solidFill>
                <a:latin typeface="Trebuchet MS"/>
              </a:rPr>
              <a:t>ISO 8402 define calidad como la totalidad de las características de un producto o servicio para satisfacer las necesidades explícitas e implícitas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Cómo podemos alcanzar la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Haciendo las cosas bien al primer inten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no hacemos las cosas bien la primera vez, removiendo los defectos de manera temprana en el ciclo de produ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eviniendo defec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Haciendo que los individuos se hagan responsables por su propi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o puede requerir que pensemos de una manera diferente sobre lo que hacemos y cómo lo hacem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bando esto en el produc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igiendo la mejor forma de hacer las cos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Satisfacción de las necesidades explícitas e implícit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Trebuchet MS"/>
              </a:rPr>
              <a:t>¡Su cliente!</a:t>
            </a:r>
            <a:endParaRPr b="0" lang="en-US" sz="4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Trebuchet MS"/>
              </a:rPr>
              <a:t>¡Su negocio!</a:t>
            </a:r>
            <a:endParaRPr b="0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95280" y="2062080"/>
            <a:ext cx="4691160" cy="39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omprador extern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vee recur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cepta 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liente intern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l próximo en el proces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quipo de marketing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mer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cutivos en la compañ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 la misma organización en cuanto a generar valor y optimizar recurso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Qué requiere su cliente en términos de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lientes extern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Valor por el dinero que gast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e se logren los objetivos plantea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mple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ago jus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Trabajo segur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uando ellos son clientes internos: un buen producto del trabaj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oci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Gananc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egocios de largo plaz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ocie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Buena ética de negoci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e los requerimientos legales y sociales se cumpla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Cómo entregamos un producto satisfactorio a nuestro cliente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tendiendo los requerimien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dquiriendo un compromis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sarrollando el producto a través de pasos y enlaces en nuestro propio proceso de negoci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n el tiemp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 través de clientes intern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Usando proce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Tomando conciencia de que la calidad y satisfacción del cliente es potencialmente afectada por todas las actividades, pasos, enlaces y proces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Trebuchet MS"/>
              </a:rPr>
              <a:t>	</a:t>
            </a:r>
            <a:r>
              <a:rPr b="1" lang="es-ES_tradnl" sz="2000" spc="-1" strike="noStrike">
                <a:solidFill>
                  <a:srgbClr val="ff9900"/>
                </a:solidFill>
                <a:latin typeface="Trebuchet MS"/>
              </a:rPr>
              <a:t>¡La calidad del productos es altamente determinada por la calidad del proceso utilizado para construirlo!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¿Qué se quiere evitar con este enfoque?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Que nuestro cliente externo piense que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o nos preocup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demasiado car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despreocupad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irresponsabl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o entendemos sus neces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poco confiabl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inconsistent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..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¿Qué se quiere evitar con este enfoque?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Y que a nivel intern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erdamos dinero, tiempo y recurs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Vivamos estresad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ausemos problemas a otras personas de manera innecesari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Bajemos la moral del equipo ante los fracasos, demoras y sobre trabaj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Motiva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uzzle3"/>
          <p:cNvSpPr/>
          <p:nvPr/>
        </p:nvSpPr>
        <p:spPr>
          <a:xfrm rot="5277600">
            <a:off x="5950080" y="2964960"/>
            <a:ext cx="2433600" cy="359568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            </a:t>
            </a: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Cert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                       </a:t>
            </a: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de l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                    </a:t>
            </a: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uzzle2"/>
          <p:cNvSpPr/>
          <p:nvPr/>
        </p:nvSpPr>
        <p:spPr>
          <a:xfrm rot="5277600">
            <a:off x="2766600" y="3228840"/>
            <a:ext cx="3886200" cy="327636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Mejora de los Proces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uzzle4"/>
          <p:cNvSpPr/>
          <p:nvPr/>
        </p:nvSpPr>
        <p:spPr>
          <a:xfrm rot="5277600">
            <a:off x="3041280" y="514440"/>
            <a:ext cx="2341800" cy="418932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Calidad de los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uzzle1"/>
          <p:cNvSpPr/>
          <p:nvPr/>
        </p:nvSpPr>
        <p:spPr>
          <a:xfrm rot="5277600">
            <a:off x="4581720" y="1267560"/>
            <a:ext cx="3933720" cy="249732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Orientación al Val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j0149481"/>
          <p:cNvPicPr/>
          <p:nvPr/>
        </p:nvPicPr>
        <p:blipFill>
          <a:blip r:embed="rId1"/>
          <a:stretch/>
        </p:blipFill>
        <p:spPr>
          <a:xfrm>
            <a:off x="4383000" y="2608200"/>
            <a:ext cx="2144880" cy="21798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8"/>
          <p:cNvSpPr/>
          <p:nvPr/>
        </p:nvSpPr>
        <p:spPr>
          <a:xfrm>
            <a:off x="782640" y="3257640"/>
            <a:ext cx="2160720" cy="1079280"/>
          </a:xfrm>
          <a:prstGeom prst="wedgeRoundRectCallout">
            <a:avLst>
              <a:gd name="adj1" fmla="val 175421"/>
              <a:gd name="adj2" fmla="val -17060"/>
              <a:gd name="adj3" fmla="val 16667"/>
            </a:avLst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¿Competitividad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¿Mercado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200"/>
            </a:b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¿Cuáles son los Principios para la Gestión de la Calidad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nfoque a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Liderazg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Participación del perso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Trabajo basado en proce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Sistema para la gest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ejora continu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anejo de hechos para la toma de decis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Relaciones mutuamente beneficiosas con el proveedo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600"/>
            </a:b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¿Cómo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necesidades y expectativ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stableciendo política y objetivos de l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procesos y responsabil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y proporcionando recur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stableciendo métodos para medir eficacia y eficienci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Aplicando esas medidas para determinar eficacia y eficienci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medidas para prevenir no conformidades y eliminar sus caus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stableciendo y aplicando un proceso de mejora continu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Barreras comunes para este enfoqu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No hay suficiente tiemp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No hay suficiente diner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sólo otra iniciativa en torno a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Realmente no conduce a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Burocratiza las tare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¿Cómo empezamos entonce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Obteniendo un firme compromiso </a:t>
            </a: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Manejándolo como un proyecto en sí mismo, con responsables, presupuesto, metas y plaz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Tomando conciencia de que va a requerir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Adecuar los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proces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Capacitar al personal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Elegir un estándar o modelo</a:t>
            </a: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 para medirl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600"/>
            </a:b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Papel de la alta dire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Liderazgo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+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Acciones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=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Ambiente adecuado para operar eficazmente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El proceso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14" name="Picture 3" descr="bd06929_"/>
          <p:cNvPicPr/>
          <p:nvPr/>
        </p:nvPicPr>
        <p:blipFill>
          <a:blip r:embed="rId1"/>
          <a:stretch/>
        </p:blipFill>
        <p:spPr>
          <a:xfrm>
            <a:off x="179280" y="5013360"/>
            <a:ext cx="3313080" cy="955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j0231444"/>
          <p:cNvPicPr/>
          <p:nvPr/>
        </p:nvPicPr>
        <p:blipFill>
          <a:blip r:embed="rId2"/>
          <a:stretch/>
        </p:blipFill>
        <p:spPr>
          <a:xfrm>
            <a:off x="4067280" y="3645000"/>
            <a:ext cx="2395440" cy="2085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j0237945"/>
          <p:cNvPicPr/>
          <p:nvPr/>
        </p:nvPicPr>
        <p:blipFill>
          <a:blip r:embed="rId3"/>
          <a:stretch/>
        </p:blipFill>
        <p:spPr>
          <a:xfrm>
            <a:off x="2556000" y="1628640"/>
            <a:ext cx="1511280" cy="1251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j0297275"/>
          <p:cNvPicPr/>
          <p:nvPr/>
        </p:nvPicPr>
        <p:blipFill>
          <a:blip r:embed="rId4"/>
          <a:stretch/>
        </p:blipFill>
        <p:spPr>
          <a:xfrm>
            <a:off x="7164360" y="479736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j0238060"/>
          <p:cNvPicPr/>
          <p:nvPr/>
        </p:nvPicPr>
        <p:blipFill>
          <a:blip r:embed="rId5"/>
          <a:stretch/>
        </p:blipFill>
        <p:spPr>
          <a:xfrm>
            <a:off x="6012000" y="1413000"/>
            <a:ext cx="1657080" cy="1455480"/>
          </a:xfrm>
          <a:prstGeom prst="rect">
            <a:avLst/>
          </a:prstGeom>
          <a:ln w="0">
            <a:noFill/>
          </a:ln>
        </p:spPr>
      </p:pic>
      <p:sp>
        <p:nvSpPr>
          <p:cNvPr id="119" name="Line 8"/>
          <p:cNvSpPr/>
          <p:nvPr/>
        </p:nvSpPr>
        <p:spPr>
          <a:xfrm flipH="1">
            <a:off x="5940000" y="2924280"/>
            <a:ext cx="57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851280" y="2997360"/>
            <a:ext cx="9367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124000" y="3789360"/>
            <a:ext cx="201636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11"/>
          <p:cNvSpPr/>
          <p:nvPr/>
        </p:nvSpPr>
        <p:spPr>
          <a:xfrm flipV="1">
            <a:off x="3706920" y="5589720"/>
            <a:ext cx="4334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6588000" y="5156280"/>
            <a:ext cx="50328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307280" y="5948280"/>
            <a:ext cx="103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Mercados y Domini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859280" y="5805360"/>
            <a:ext cx="103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Proceso Softwa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15" descr="j0197662"/>
          <p:cNvPicPr/>
          <p:nvPr/>
        </p:nvPicPr>
        <p:blipFill>
          <a:blip r:embed="rId6"/>
          <a:stretch/>
        </p:blipFill>
        <p:spPr>
          <a:xfrm>
            <a:off x="7307280" y="3068640"/>
            <a:ext cx="1031760" cy="1039680"/>
          </a:xfrm>
          <a:prstGeom prst="rect">
            <a:avLst/>
          </a:prstGeom>
          <a:ln w="0">
            <a:noFill/>
          </a:ln>
        </p:spPr>
      </p:pic>
      <p:sp>
        <p:nvSpPr>
          <p:cNvPr id="127" name="Line 16"/>
          <p:cNvSpPr/>
          <p:nvPr/>
        </p:nvSpPr>
        <p:spPr>
          <a:xfrm flipH="1">
            <a:off x="6587640" y="3860640"/>
            <a:ext cx="57636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7380360" y="4148280"/>
            <a:ext cx="103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Talento Human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18" descr="j0082287"/>
          <p:cNvPicPr/>
          <p:nvPr/>
        </p:nvPicPr>
        <p:blipFill>
          <a:blip r:embed="rId7"/>
          <a:stretch/>
        </p:blipFill>
        <p:spPr>
          <a:xfrm>
            <a:off x="755640" y="2924280"/>
            <a:ext cx="1195560" cy="12081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9"/>
          <p:cNvSpPr/>
          <p:nvPr/>
        </p:nvSpPr>
        <p:spPr>
          <a:xfrm>
            <a:off x="466560" y="1773360"/>
            <a:ext cx="18241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Modelos de Proce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Proce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6959520" y="765000"/>
            <a:ext cx="1824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Modelos de Referencia de Proce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O Estándar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611280" y="4508640"/>
            <a:ext cx="21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Procesos Organizacional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Software Process Improvement (SPI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4365720"/>
            <a:ext cx="836280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00"/>
                </a:solidFill>
                <a:latin typeface="Trebuchet MS"/>
              </a:rPr>
              <a:t>Software Process Improvement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00"/>
                </a:solidFill>
                <a:latin typeface="Trebuchet MS"/>
              </a:rPr>
              <a:t>Enfoque contínuo hacia la mejora del proceso como estrategia clave para la competitividad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37" name="Picture 4" descr="mejora1"/>
          <p:cNvPicPr/>
          <p:nvPr/>
        </p:nvPicPr>
        <p:blipFill>
          <a:blip r:embed="rId1"/>
          <a:stretch/>
        </p:blipFill>
        <p:spPr>
          <a:xfrm>
            <a:off x="900000" y="2127240"/>
            <a:ext cx="7489800" cy="228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Componentes principales de una iniciativa SPI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7199280" y="443700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roceso Software Mejorad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1"/>
          <a:stretch/>
        </p:blipFill>
        <p:spPr>
          <a:xfrm>
            <a:off x="0" y="1844640"/>
            <a:ext cx="8686800" cy="3811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la estandarización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Es la actividad que tiene por objeto establecer, ante problemas reales o potenciales, disposiciones destinadas a usos comunes y repetidos, con el fin de obtener un nivel de ordenamiento óptimo en un contexto dado, que puede ser tecnológico, político o económic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La normalización persigue fundamentalmente tres </a:t>
            </a:r>
            <a:r>
              <a:rPr b="0" lang="es-ES" sz="2400" spc="-1" strike="noStrike">
                <a:solidFill>
                  <a:srgbClr val="ffcc66"/>
                </a:solidFill>
                <a:latin typeface="Trebuchet MS"/>
              </a:rPr>
              <a:t>objetivos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Trebuchet MS"/>
              </a:rPr>
              <a:t>Simplificación</a:t>
            </a: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: Se trata de reducir los modelos quedándose únicamente con los más necesarios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Trebuchet MS"/>
              </a:rPr>
              <a:t>Unificación</a:t>
            </a: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: Para permitir el intercambio a nivel internacional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Trebuchet MS"/>
              </a:rPr>
              <a:t>Especificación</a:t>
            </a: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: Se persigue evitar errores de identificación creando un lenguaje claro y preciso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80280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Por qué utilizar estándares o modelos en el mundo del software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on indispensables cuando muchas personas, productos y herramientas deben coexist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ferenciadores de mercad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ermiten la comunicación entre los desarrolladore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acilitan la implementación de los procesos de desarrollo y mantenimiento del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acilitan la capacitación del personal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veen una base para evaluar los diferentes procesos y productos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4:00Z</dcterms:modified>
  <cp:revision>572</cp:revision>
  <dc:subject/>
  <dc:title>ISO 9000 aplicado a software</dc:title>
</cp:coreProperties>
</file>