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4D40-5CEA-4CC1-92A0-722845B1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8FA-47CB-49E2-A63B-6A5106EB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2FF-4599-4A5C-BFB9-CC954C9A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35A-B965-474F-AD65-D6555B48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A697-CBBC-4945-9ADB-9E694FE3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5C5A-4F98-4455-B8F9-8DBEFF11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1A9E-1DDE-47F3-BBB2-B3DDE16C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BB72-39DF-49E6-9C49-19CDF922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F1CB-945D-4D92-9AC7-230ACA7A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B4FB-AB3B-43DC-8B3B-216436E8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2299-1CF2-49DC-8CF2-E2BD9B44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4D4-E861-46A6-99CE-55083F84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A807-1663-42D8-8FAA-A355B01D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A3AB-5122-40B4-8B41-DDDD6392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11F2-569A-420E-BBA5-F8E4F209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65F5-9B9A-4A5A-8163-13423082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2B43-039F-4A87-9A2A-B20FCB57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B6A-E62C-4C49-B782-F98B2A80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0955-7A9D-4165-8609-A4E9B0F7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6AE-C692-45DA-B5BE-A731FA57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9B2-4FA1-4E28-8C4E-91728BAA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058-796B-4A01-A11B-3E216128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CF5-A005-40D2-A316-605ECBF9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856-FA34-4E58-85A1-DE79F875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4196-5185-45EB-B152-D42582FFFF6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0406-6F9E-479B-B99F-E3088B9115A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3623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 u="sng">
                <a:solidFill>
                  <a:srgbClr val="0c4010"/>
                </a:solidFill>
                <a:uFillTx/>
                <a:latin typeface="Times New Roman"/>
              </a:rPr>
              <a:t>Anexo</a:t>
            </a:r>
            <a:r>
              <a:rPr b="1" lang="es-ES_tradnl" sz="6000" spc="-1" strike="noStrike">
                <a:solidFill>
                  <a:srgbClr val="0c4010"/>
                </a:solidFill>
                <a:latin typeface="Times New Roman"/>
              </a:rPr>
              <a:t>: principios de simulación geoestadís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3048120"/>
            <a:ext cx="85341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para la simulació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8194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ción de conjuntos aleatorios (redes de frac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0080" y="3178080"/>
            <a:ext cx="7920360" cy="2806920"/>
            <a:chOff x="730080" y="3178080"/>
            <a:chExt cx="7920360" cy="280692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3444840" y="3637080"/>
              <a:ext cx="2157480" cy="22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30080" y="318780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frac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35400" y="3178080"/>
              <a:ext cx="26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Boole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35840" y="318276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jerárqu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1036800" y="3467160"/>
              <a:ext cx="184608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6197760" y="3651120"/>
              <a:ext cx="2138040" cy="228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193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mplo: datos miner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819440"/>
            <a:ext cx="868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mulaciones con modelo multi-Gauss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438280"/>
            <a:ext cx="8610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yes de cobre simulad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una malla de 2m × 2m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50 realiza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79480" y="3541680"/>
            <a:ext cx="7426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81944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bloque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a unidades de selección minera (10m × 10m × 12m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cada bloque y cada realización, se calcula el promedio aritmético de las leyes simuladas en este blo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78040" y="3505320"/>
            <a:ext cx="7427880" cy="3070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193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mplo: datos miner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18194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valuación de las leyes de bloques y de su incertid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omedio de las realizaciones es parecido al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arianza de las realizaciones es distinta a la de kriging; en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particular, incorpora el efecto propor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25480" y="3854520"/>
            <a:ext cx="5558040" cy="2851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193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mplo: datos miner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81944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valuación de recursos recuperables sobre una ley de corte de 0.5%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álculo de tonelajes, leyes medias sobre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os mapas no pueden ser obtenidos por kriging, debido al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suavizamiento de é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19360" y="3930480"/>
            <a:ext cx="5557680" cy="2851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193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mplo: datos minero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19440"/>
            <a:ext cx="914400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tras posibles apl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nálisis de riesgo: cálculo del VAN en cada 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tegorización de recursos y re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eño de rajo óp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ificación minera: ¿qué variabilidad de leyes se espera en la plan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ol de leyes: ¿cuál es la decisión más oportuna para cada bloque: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mandar a planta o a botad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ciliación de leyes mina /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xtension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mulación multi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mulación de variables geotécnicas o metalúr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mulación de variables categó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mplo: datos minero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tiv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819440"/>
            <a:ext cx="792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uaviz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os valores estimados son menos dispersos que los valores verda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se puede predecir la ocurrencia de valores ext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uede dar la impresión de que todo es mineral (leye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estimadas sobre la ley de corte, cuando esta última es ba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arianza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 incorpora información geométrica y de continuidad espacial, pero no la información local. Luego, no mide todas las fuentes de incertidumbre (no toma en cuenta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fecto proporc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tiv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819440"/>
            <a:ext cx="7925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simulación busca construir mapas de valores que reproducen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riabilidad re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a variable en estudio (histograma, variograma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mapa representa un escenario plau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uede construir numerosos escenarios “equiprobab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o de las simu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álisis de ri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cenario más optimista / pesimis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tim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romediar los escenari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dición de la incertidumbr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qué tan distintos son l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escen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2743200"/>
            <a:ext cx="838224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tivació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81944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jemplo: leyes de cobre en un yacimiento pórfido cupríf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954160" y="2847960"/>
            <a:ext cx="5680080" cy="3301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" y="2971800"/>
            <a:ext cx="24494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tivació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819440"/>
            <a:ext cx="7925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simulación se basa en la interpretación de la variable regionalizada com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n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realización de u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 aleator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iste en construir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ot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realizaciones de este mismo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lo, es preciso conocer completamente el proceso aleatorio, es decir, el conjunto de sus distribuciones de probabilidad multi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univariable (histogra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ones bivariables (variogram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ones trivariables, 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tivación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81944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mulación no 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no toma en cuenta los valores de los datos en los sitios de muestreo. Sólo produce realizaciones de un proceso aleatorio con ciertas distribuciones multi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mulación 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reproduce además los valores de los datos en los sitios de muestreo. Produce realizaciones del proceso aleatorio condicionado a los valores de los datos (noción de distribució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osterior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rea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un sitio con dato, todos los escenarios reproducen este d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ejos de los datos, la simulación se vuelve n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para la simul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8194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mulación de variables continuas (ley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8840" y="3110040"/>
            <a:ext cx="85708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3048120"/>
            <a:ext cx="85341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para la simul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8194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mulación de variables categóricas (tipo de roc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30080" y="3178080"/>
            <a:ext cx="7920360" cy="2710080"/>
            <a:chOff x="730080" y="3178080"/>
            <a:chExt cx="7920360" cy="2710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814320" y="3565440"/>
              <a:ext cx="2303640" cy="22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3492360" y="3579840"/>
              <a:ext cx="2303640" cy="22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70760" y="360216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30080" y="318780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plurigaussi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35400" y="3178080"/>
              <a:ext cx="26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de hojas muer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35840" y="318276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jerárqu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3048120"/>
            <a:ext cx="85341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para la simulació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8194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30080" y="3178080"/>
            <a:ext cx="7920360" cy="2718000"/>
            <a:chOff x="730080" y="3178080"/>
            <a:chExt cx="7920360" cy="271800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998640" y="3571920"/>
              <a:ext cx="1819080" cy="22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30080" y="318780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untos agrup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35400" y="3178080"/>
              <a:ext cx="26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o de repul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35840" y="318276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o de Pois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835440" y="3591000"/>
              <a:ext cx="1636560" cy="22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6343560" y="3610080"/>
              <a:ext cx="16002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Xavier Emery</cp:lastModifiedBy>
  <dcterms:modified xsi:type="dcterms:W3CDTF">2007-03-30T21:47:56Z</dcterms:modified>
  <cp:revision>171</cp:revision>
  <dc:subject/>
  <dc:title>Sin título de diapositiva</dc:title>
</cp:coreProperties>
</file>