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45B-5924-44E5-8DBA-481ED9DD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8DB-F747-490E-8589-12B75CFF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E74-39ED-4C2F-9976-DC3429C9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7C1-98D6-434E-AECB-96B70EBA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4DDE-B433-497B-BDC6-6314EB01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0EA0-7867-41FF-A277-A1C0F361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A6C-3A88-4B17-BD20-98483F79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B270-E529-4EFC-89D1-E0C64563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CB60-3650-469A-8D36-5CC4EC8F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63AA-6933-403E-BEF7-C152C8EA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02A-3F4A-4319-B98D-A0F78A8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42D-7A01-44AC-A923-4F8D456E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3993-A048-4071-AA43-BFB59FA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A39C-39D2-4C07-95D4-B488576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731F-B329-4608-B23B-6DAFFE00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2471-9E5A-4312-BAAC-85677F41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0AA7-C7A7-49A2-A3DE-49809C21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2A0-E2A0-4F63-BB3F-F8D1A40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51F-CEA2-4B50-8965-94564876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FCE-F890-49D8-B983-7D871310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A75-3728-46AA-B0E4-9B8ED462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9FF-E2BE-481B-90B3-4CD8C9C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DD9-20EE-4ECB-A4B5-BFA334C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9FF-4E7C-4148-AF0B-10EA98B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305B-CA3A-40FA-84E9-FEAB5B01CB2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AF41-F45C-44B4-8C70-E877DF59B3D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3623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 u="sng">
                <a:solidFill>
                  <a:srgbClr val="0c4010"/>
                </a:solidFill>
                <a:uFillTx/>
                <a:latin typeface="Times New Roman"/>
              </a:rPr>
              <a:t>Anexo</a:t>
            </a:r>
            <a:r>
              <a:rPr b="1" lang="es-ES_tradnl" sz="6000" spc="-1" strike="noStrike">
                <a:solidFill>
                  <a:srgbClr val="0c4010"/>
                </a:solidFill>
                <a:latin typeface="Times New Roman"/>
              </a:rPr>
              <a:t>: principios de simulación geoestadís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ción de conjuntos aleatorios (redes de frac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0080" y="3178080"/>
            <a:ext cx="7920360" cy="2806920"/>
            <a:chOff x="730080" y="3178080"/>
            <a:chExt cx="7920360" cy="280692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3444840" y="3637080"/>
              <a:ext cx="2157480" cy="22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frac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Boole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1036800" y="3467160"/>
              <a:ext cx="184608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6197760" y="3651120"/>
              <a:ext cx="2138040" cy="228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819440"/>
            <a:ext cx="868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ones con modelo multi-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yes de cobre simulad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una malla de 2m × 2m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50 realiz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79480" y="3541680"/>
            <a:ext cx="7426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8194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bloque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idades de selección minera (10m × 10m × 12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bloque y cada realización, se calcula el promedio aritmético de las leyes simuladas en este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78040" y="3505320"/>
            <a:ext cx="7427880" cy="3070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819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luación de las leyes de bloques y de su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medio de las realizaciones es parecido al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nza de las realizaciones es distinta a la de kriging; en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particular, incorpora el efecto propor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25480" y="3854520"/>
            <a:ext cx="5558040" cy="285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81944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luación de recursos recuperables sobre una ley de corte de 0.5%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álculo de tonelajes, leyes medias sobre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mapas no pueden ser obtenidos por kriging, debido al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avizamiento de é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19360" y="3930480"/>
            <a:ext cx="5557680" cy="2851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19440"/>
            <a:ext cx="91440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tras posibles 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de riesgo: cálculo del VAN en cada 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tegorización de recursos y re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eño de rajo óp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ificación minera: ¿qué variabilidad de leyes se espera en la plan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ol de leyes: ¿cuál es la decisión más oportuna para cada bloqu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mandar a planta o a botad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ciliación de leyes mina /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xtens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mulación multi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geotécnicas o metalúr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ategó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81944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os valores estimados son menos dispersos qu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se puede predecir la ocurrencia de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 dar la impresión de que todo es mineral (leye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stimadas sobre la ley de corte, cuando esta última es ba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nza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 incorpora información geométrica y de continuidad espacial, pero no la información local. Luego, no mide todas las fuentes de incertidumbre (no toma en cuent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ropor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81944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ulación busca construir mapas de valores que reproducen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abilidad r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studio (histograma, variogram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mapa representa un escenario plau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construir numerosos escenarios “equiprobab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o de las sim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álisis de ri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cenario más optimista / pesimis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romediar los escenari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de la incertidumbr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qué tan distintos son l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scen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743200"/>
            <a:ext cx="838224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81944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emplo: leyes de cobre en un yacimiento pórfido cuprí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54160" y="2847960"/>
            <a:ext cx="5680080" cy="3301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2971800"/>
            <a:ext cx="24494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81944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ulación se basa en la interpretación de la variable regionalizada com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n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alización de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iste en construir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ot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alizaciones de este mismo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lo, es preciso conocer completamente el proceso aleatorio, es decir, el conjunto de sus distribuciones de probabilidad multi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univariable (hist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ones bivariables (variogram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ones trivariables, 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81944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mulación n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no toma en cuenta los valores de los datos en los sitios de muestreo. Sólo produce realizaciones de un proceso aleatorio con ciertas distribuciones multi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mulación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produce además los valores de los datos en los sitios de muestreo. Produce realizaciones del proceso aleatorio condicionado a los valores de los datos (noción de distribució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oste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re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un sitio con dato, todos los escenarios reproducen este 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ejos de los datos, la simulación se vuelve n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ontinuas (ley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8840" y="3110040"/>
            <a:ext cx="85708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ategóricas (tipo de roc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30080" y="3178080"/>
            <a:ext cx="7920360" cy="2710080"/>
            <a:chOff x="730080" y="3178080"/>
            <a:chExt cx="7920360" cy="2710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814320" y="3565440"/>
              <a:ext cx="2303640" cy="22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3492360" y="3579840"/>
              <a:ext cx="2303640" cy="22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70760" y="360216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plurigauss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de hojas muer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30080" y="3178080"/>
            <a:ext cx="7920360" cy="2718000"/>
            <a:chOff x="730080" y="3178080"/>
            <a:chExt cx="7920360" cy="271800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98640" y="3571920"/>
              <a:ext cx="181908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ntos agrup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o de repul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o de Pois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35440" y="3591000"/>
              <a:ext cx="1636560" cy="22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6343560" y="3610080"/>
              <a:ext cx="16002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3-30T21:47:56Z</dcterms:modified>
  <cp:revision>171</cp:revision>
  <dc:subject/>
  <dc:title>Sin título de diapositiva</dc:title>
</cp:coreProperties>
</file>