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C3E-75BE-43AA-A931-71EBC50F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0FC-58F5-47DF-BFE8-29B4CDBF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54A-4723-465E-8DFC-F63991F9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955-5715-468A-BF91-8E13275A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DD4F-4883-48E8-BDD7-35B488A0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F346-434C-47C9-BBBC-6A3A262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3C3-0F90-48BF-871A-C34887FC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F7FC-28F1-48FF-8F87-96D8B348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C3D-5A91-4BBF-8C4F-74AE2D0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0418-3014-4BB9-B0FC-25B8B170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5C73-3D72-4957-A02F-51314B9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1A9-34B2-4643-9F30-28E770D7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827A-408C-4F75-A8C9-28390D0A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1B42-B312-468C-A037-EAA6E0A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4E31-71F3-4EF0-BBBD-3165B7F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1258-1401-4BA9-84F8-A6E4CC68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4923-3F63-495A-B311-E069B363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F6B-DD40-4F77-83CA-FF82AC19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C34-60CD-42A9-8F5C-A2FA94F4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604-A71D-4A07-8174-22617A7E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426-31BB-4CBC-A2BF-73C546C5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662-5E0B-4D60-A90E-706EC2E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13C-B3E0-4C73-9231-EB6B8D88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032-71D1-4F30-91F3-9D80EFB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DD9-C8D1-4E58-B059-DD150738D541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07F3-5FB8-47F3-AB40-6C46A4917739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3623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 u="sng">
                <a:solidFill>
                  <a:srgbClr val="0c4010"/>
                </a:solidFill>
                <a:uFillTx/>
                <a:latin typeface="Times New Roman"/>
              </a:rPr>
              <a:t>Anexo</a:t>
            </a:r>
            <a:r>
              <a:rPr b="1" lang="es-ES_tradnl" sz="6000" spc="-1" strike="noStrike">
                <a:solidFill>
                  <a:srgbClr val="0c4010"/>
                </a:solidFill>
                <a:latin typeface="Times New Roman"/>
              </a:rPr>
              <a:t>: principios de simulación geoestadís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ción de conjuntos aleatorios (redes de frac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30080" y="3178080"/>
            <a:ext cx="7920360" cy="2806920"/>
            <a:chOff x="730080" y="3178080"/>
            <a:chExt cx="7920360" cy="280692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3444840" y="3637080"/>
              <a:ext cx="2157480" cy="22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frac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Boole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1036800" y="3467160"/>
              <a:ext cx="184608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6197760" y="3651120"/>
              <a:ext cx="2138040" cy="228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819440"/>
            <a:ext cx="868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ones con modelo multi-Gaus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438280"/>
            <a:ext cx="8610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yes de cobre simulad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una malla de 2m × 2m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50 realiza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79480" y="3541680"/>
            <a:ext cx="7426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8194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bloque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a unidades de selección minera (10m × 10m × 12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cada bloque y cada realización, se calcula el promedio aritmético de las leyes simuladas en este blo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78040" y="3505320"/>
            <a:ext cx="7427880" cy="3070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819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luación de las leyes de bloques y de su 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medio de las realizaciones es parecido al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nza de las realizaciones es distinta a la de kriging; en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particular, incorpora el efecto propor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25480" y="3854520"/>
            <a:ext cx="5558040" cy="285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81944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valuación de recursos recuperables sobre una ley de corte de 0.5%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álculo de tonelajes, leyes medias sobre una ley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os mapas no pueden ser obtenidos por kriging, debido al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suavizamiento de é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19360" y="3930480"/>
            <a:ext cx="5557680" cy="2851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19440"/>
            <a:ext cx="91440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tras posibles 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de riesgo: cálculo del VAN en cada 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tegorización de recursos y re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eño de rajo ó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ificación minera: ¿qué variabilidad de leyes se espera en la pla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ol de leyes: ¿cuál es la decisión más oportuna para cada bloqu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mandar a planta o a botad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ciliación de leyes mina /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xtension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mulación multi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geotécnicas o metalúr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ategó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25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mplo: datos minero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819440"/>
            <a:ext cx="792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os valores estimados son menos dispersos qu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se puede predecir la ocurrencia de valore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dar la impresión de que todo es mineral (leye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stimadas sobre la ley de corte, cuando esta última es ba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nza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 incorpora información geométrica y de continuidad espacial, pero no la información local. Luego, no mide todas las fuentes de incertidumbre (no toma en cuenta el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fecto proporc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8194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ulación busca construir mapas de valores que reproducen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riabilidad re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la variable en estudio (histograma, variogram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mapa representa un escenario plau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construir numerosos escenarios “equiprobab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o de las sim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álisis de ri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cenario más optimista / pesimis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tim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romediar los escenari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de la incertidumbr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qué tan distintos son lo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escen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743200"/>
            <a:ext cx="838224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81944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jemplo: leyes de cobre en un yacimiento pórfido cupríf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954160" y="2847960"/>
            <a:ext cx="5680080" cy="3301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24494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819440"/>
            <a:ext cx="792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ulación se basa en la interpretación de la variable regionalizada com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alización de un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iste en construir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ot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realizaciones de este mismo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lo, es preciso conocer completamente el proceso aleatorio, es decir, el conjunto de sus distribuciones de probabilidad multi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 univariable (histogra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ones bivariables (variogram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ones trivariables, 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tivación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81944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mulación n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no toma en cuenta los valores de los datos en los sitios de muestreo. Sólo produce realizaciones de un proceso aleatorio con ciertas distribuciones multi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mulación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produce además los valores de los datos en los sitios de muestreo. Produce realizaciones del proceso aleatorio condicionado a los valores de los datos (noción de distribució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oste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rea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un sitio con dato, todos los escenarios reproducen este 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ejos de los datos, la simulación se vuelve n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ontinuas (ley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8840" y="3110040"/>
            <a:ext cx="85708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variables categóricas (tipo de roc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30080" y="3178080"/>
            <a:ext cx="7920360" cy="2710080"/>
            <a:chOff x="730080" y="3178080"/>
            <a:chExt cx="7920360" cy="2710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814320" y="3565440"/>
              <a:ext cx="2303640" cy="22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3492360" y="3579840"/>
              <a:ext cx="2303640" cy="22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70760" y="360216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plurigauss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de hojas muer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o jerárqu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3048120"/>
            <a:ext cx="853416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Modelos para la simulació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8194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30080" y="3178080"/>
            <a:ext cx="7920360" cy="2718000"/>
            <a:chOff x="730080" y="3178080"/>
            <a:chExt cx="7920360" cy="271800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98640" y="3571920"/>
              <a:ext cx="181908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30080" y="318780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ntos agrup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35400" y="3178080"/>
              <a:ext cx="26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 de repul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5840" y="3182760"/>
              <a:ext cx="25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ceso de Poiss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35440" y="3591000"/>
              <a:ext cx="1636560" cy="22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6343560" y="361008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Xavier Emery</cp:lastModifiedBy>
  <dcterms:modified xsi:type="dcterms:W3CDTF">2007-03-30T21:47:56Z</dcterms:modified>
  <cp:revision>171</cp:revision>
  <dc:subject/>
  <dc:title>Sin título de diapositiva</dc:title>
</cp:coreProperties>
</file>