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0AC-3D40-4100-A226-AD895120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405-5465-4A4C-843C-66623472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CF8-C303-4306-BEE3-DD4C7DAF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C9B-F89E-467F-B4A9-87D53583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6570-7AB0-45EA-9C08-60919D01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4566-D3D0-4DD6-A02E-07A70C38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325A-BF7C-4040-9F85-A1917538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75DF-B9F7-4AA9-87DC-E82A9E7E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FD70-04D1-4EE5-A6C2-9D66570A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82A0-F054-41FC-8228-21673CBF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236E-58B9-4D3F-A6DC-0DFAFAA3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6A2-FAAD-46C3-BFFC-6EADDFC5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902A-5D43-4BFE-B8D7-AA65B4E1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9F3A-3705-4A85-AD0A-4AFBAF58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AE9B-4952-472E-8906-302D4843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CA1B-662D-476D-BD79-4F93BDF7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CBD4-7327-4D62-955F-B33EEC2C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E15-1164-43AA-A224-6D8874EC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815-EDB5-4E6D-86C0-FAE18086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63C-34E0-4121-98A8-44DE35DA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C4A-DA60-4991-AFA6-7D20F4EE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11E-6A04-469C-928B-08A8C5FF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C1B-5E2E-4BE4-A028-A5D50B0D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12D-8464-4BEA-A8F6-FA7FC409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6475-5EA6-48DD-BB46-A50BEB17617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3A3B-07E0-4D1B-827E-60FFB69374F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3623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4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La estimaci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ó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n lo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modelo probab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o, el error cometido debe tener una esperanza n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13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imador no tiende a sobreestimar o subestimar el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al 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1814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o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) las ma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se refieren a las magnitudes aleatorias, las 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a l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magnitudes deter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ic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2) el asterisco indica una estim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352680"/>
            <a:ext cx="3733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= 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busca minimizar la varianza del error cometido, que mide la amplitud potencial de dich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1306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úsqueda de la preci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352680"/>
            <a:ext cx="3962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ar var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datos a utilizar en la estimación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3018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utilizar todos los datos disponible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n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o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una parte de ell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403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umenta innecesariamente los tiemp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culo sin mejorar la precisión de la estimación, por lo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que se prefiere a menudo trabajar con un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que especificar la forma y el tamaño de est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alabr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refiere a la zona del espacio, centrada en el sitio a estimar, donde se busca los datos que servi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301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, la vecindad debería tener la forma de las curvas de isovalores del mapa variográfico, para tomar en cuenta la anisotropía en la correlación espacial de los datos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657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suele tomar una vecindad en forma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D) 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oid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D), lo cual corresponde teóricamente a una anisotropía geométr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en sectores ang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209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partición de los datos en torno al sitio a estimar, es recomendable dividir la vecindad en sectores angulares y buscar datos en cada sector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ctantes" descr=""/>
          <p:cNvPicPr/>
          <p:nvPr/>
        </p:nvPicPr>
        <p:blipFill>
          <a:blip r:embed="rId2"/>
          <a:stretch/>
        </p:blipFill>
        <p:spPr>
          <a:xfrm>
            <a:off x="2077920" y="3508200"/>
            <a:ext cx="500868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rámetros más relevantes a considerar son: el alcance del variograma y la densidad de la malla de muestre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aumenta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527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disminui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060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s en la continuidad espacial, irrelevancia de los datos lejanos, poca confiabilidad del variograma para las distancias muy grandes, tiempos de cál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809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,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cru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3018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plan de kriging, se puede recurrir a la validación cruzada: probar varios planes y escoger aquel que entrega los resultados más satisfac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657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alc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4267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Varios tipos de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lor promedi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regionalizada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 cual se asume representativo de cada región del espa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2162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resenta un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84480" y="3695760"/>
                <a:ext cx="289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590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e los estimadores tradicionales a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828800" y="2933640"/>
                <a:ext cx="609588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5433840"/>
                <a:ext cx="19810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2120" y="4824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anular esta esperanza, se plan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7200" y="3276720"/>
                <a:ext cx="85345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[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5800" y="512136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requiere anular las derivadas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 respecto a las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286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lega al siguiente sistema de ecuacione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54100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 rot="5400000">
            <a:off x="79246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970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4952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62120" y="2986200"/>
                <a:ext cx="792468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767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inses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133720" y="3249720"/>
                <a:ext cx="48765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e anulan y el estimador es igual a la media conoc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es igual a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940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KS espagnol" descr=""/>
          <p:cNvPicPr/>
          <p:nvPr/>
        </p:nvPicPr>
        <p:blipFill>
          <a:blip r:embed="rId2"/>
          <a:stretch/>
        </p:blipFill>
        <p:spPr>
          <a:xfrm>
            <a:off x="222120" y="4083120"/>
            <a:ext cx="8693280" cy="2469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3549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549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3549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so de la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631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dia tiene un peso complementario al peso acumulado de los datos. Su rol es compensar la falta de información cuando los datos son escasos o alej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conoce el valor promedio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uede o no tener mes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862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siderar el valor de la media como desconocido permite generalizar el estimador a situaciones donde esta media no es constante en el campo: la media puede variar de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a otra del espacio, siempre que sea aproximadamente constante en cada vecindad de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35320" y="3695760"/>
                <a:ext cx="2900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752480" y="2865600"/>
                <a:ext cx="62485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end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sconocida, 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lternativa es plant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95680" y="5372280"/>
                <a:ext cx="219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429000"/>
                <a:ext cx="8686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H="1">
            <a:off x="281916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5878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bajo l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insesgo requiere introducir una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 adicional llamad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ultiplicador de Lagra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denominad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 rot="5400000">
            <a:off x="449568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5400000">
            <a:off x="731520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0608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043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29000" y="266616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00200" y="2449440"/>
                <a:ext cx="6567480" cy="25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/>
                            </m:limUp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trod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828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514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timación local consiste en evaluar (predecir) el valor de la variable regionalizada en un sitio no muestreado del espacio, utilizando para ello los datos circundantes disponibles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imismo, se puede evaluar el valor promedio de la variable en un soporte mayor que el soporte de l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943360" y="3352680"/>
                <a:ext cx="3457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on iguales a 1/n, de modo que el estimador coincide con la media aritmética de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supera levemente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600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KO2 espagnol" descr=""/>
          <p:cNvPicPr/>
          <p:nvPr/>
        </p:nvPicPr>
        <p:blipFill>
          <a:blip r:embed="rId2"/>
          <a:stretch/>
        </p:blipFill>
        <p:spPr>
          <a:xfrm>
            <a:off x="1447920" y="2709720"/>
            <a:ext cx="60246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tros tipos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otras variantes del kr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514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int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3048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con deriv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81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ig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114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ansi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plantea en un marco 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4648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aleator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pos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datos es inc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lognorm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curre a una transformada log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715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de indicad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kriging disyuntivo, kriging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multigaussian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aracterizan el valor desconocido por un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distribución de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20574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25146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co no estacionario (media variable en el espa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28040" y="60897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95280" y="283356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Propiedade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66680" y="457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servaciones sobre el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toma en cu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133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geométri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distancias entre el sitio a estimar y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los datos; redundancias entr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048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d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ntinuidad espa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gularidad,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733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onderadores y la varianza de kriging no toman en cuenta los valores de l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4648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vo excepciones, los ponderadores de kriging pueden ser negativos, lo que a veces desemboca en estimaciones neg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638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es regular (entrega una solu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) siempre que no existan datos dupli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692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terpo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xa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un sitio con dato devuelv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valor medido en este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26067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estimados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menor que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verda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3505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iende a subestimar las zonas de altas ley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y sobreestimar las zonas de bajas l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4197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kriging del valor promedio de un sector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promedio de las estimaciones puntuales en es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34996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media de los errores cometidos en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de gran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 acerca a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 las zonas cuya estimaci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n supera una</a:t>
            </a:r>
            <a:br>
              <a:rPr sz="2400"/>
            </a:b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ley de c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media de los errores puede diferir de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dad a evitar o minimizar, de lo contrario se incurr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n una mala apreci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lor del negocio m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124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gir una vecindad de kriging suficientemente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280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ambién puede emplearse para estimar el valor de la variable regionalizada sobre un soporte mayor que el soporte de los datos (“bloque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048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13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cretizar el bloque en muchos puntos, estimar el valor d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cada punto y promediar las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425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aluar directamente el valor del bloque, sin recurrir 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495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o en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s; no permite calcular la varianza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lantear las tres etapas de constru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kriging conduce al sistema de kriging de blo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6226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siste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difiere del sistema puntual en el miembro de la derecha. El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numérico de este miembro requiere una discret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(no confundir con un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bloque vía discretización en varios pun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41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de bloques posee las siguientes propiedad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921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5378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, pero posible 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5835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95280" y="2514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plicaci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ó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n a los </a:t>
            </a:r>
            <a:br>
              <a:rPr sz="4800"/>
            </a:b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atos minero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 introdu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en los sitios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600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ara tres planes de kriging por “jack-knife”: estimar 902 datos a partir de los 1474 datos restantes. La variable en estudio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3733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4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3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48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6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cada caso, se recurre al kriging ordinario, qu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requiere especificar el modelo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(media desconocid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stogramas de los errores come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15920" y="2514600"/>
            <a:ext cx="8875800" cy="23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580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edias de los errores son casi nulas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ayor preci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alcanza en los planes 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ntre leyes reales y estim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425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esgo condicional y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 nube son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s en los planes 2 y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cross_scatplt2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855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0588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las leyes en un banco con el pla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52280" y="2820960"/>
            <a:ext cx="88394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simple de las leyes (media = 0.98%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9480" y="2133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os dato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todos los bloques estimados tienen el mismo grado de confiabilidad. Por ende, se suele definir varias categorías de recur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di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mayor grado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352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confiabilidad 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eri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ca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45277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recursos medidos + indicados se denomina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mostr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son aquellos que se consideran para el inventario de recursos. Ahora bien, la definición de cada categoría es muy vaga y depende en gran parte del criterio del especial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 una categorización similar para l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probadas, probables), que son la frac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los recursos que se puede explotar técnica y econó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29592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manera de identificar las categorías consiste en clasificar los bloques según su varianza de estimación (la definición de las varianzas límites debe tomar en cuenta el tipo de yacimiento y la malla de muestre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criter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número de datos en la vecindad de kriging, distancia promedio de los datos cercanos, criterio geológ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ertinencia de la categor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n ejemplo “molestoso”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egoriz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a partir de dos medidas de incertidumbre (varianza de kriging y varianza de un conjunto de simulaciones condi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544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diferencia del kriging, las simulaciones condicionales toman en cuenta la mayor incertidumbre que existe en las zonas de altas leyes debido al efecto propor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ategorizacion" descr=""/>
          <p:cNvPicPr/>
          <p:nvPr/>
        </p:nvPicPr>
        <p:blipFill>
          <a:blip r:embed="rId2"/>
          <a:stretch/>
        </p:blipFill>
        <p:spPr>
          <a:xfrm>
            <a:off x="1600200" y="2744640"/>
            <a:ext cx="5869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más cercano vec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ye toda la ponderación al dato más cercano al sitio a estimar. En este caso se trata del dato ubicado en C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v" descr=""/>
          <p:cNvPicPr/>
          <p:nvPr/>
        </p:nvPicPr>
        <p:blipFill>
          <a:blip r:embed="rId2"/>
          <a:stretch/>
        </p:blipFill>
        <p:spPr>
          <a:xfrm>
            <a:off x="2970360" y="3200400"/>
            <a:ext cx="3354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12760" y="1828800"/>
            <a:ext cx="8702640" cy="3110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04920" y="5502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min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6 US$/t; costo plan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4 US$/t; recu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8; costo fund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770 US$/t; precio cobr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70 US$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5029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tros asociados a una ley de corte de 0.5% C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990720" y="4363920"/>
            <a:ext cx="7086600" cy="2113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3520" y="1905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sultados eco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icos para una ley de corte de 0.5%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rcRect l="14604" t="9858" r="43622" b="12775"/>
          <a:stretch/>
        </p:blipFill>
        <p:spPr>
          <a:xfrm>
            <a:off x="4114800" y="2335320"/>
            <a:ext cx="2093760" cy="2008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rcRect l="71404" t="31891" r="2039" b="33342"/>
          <a:stretch/>
        </p:blipFill>
        <p:spPr>
          <a:xfrm>
            <a:off x="1905120" y="2590920"/>
            <a:ext cx="1981080" cy="1452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rcRect l="12075" t="9736" r="43039" b="12871"/>
          <a:stretch/>
        </p:blipFill>
        <p:spPr>
          <a:xfrm>
            <a:off x="6019920" y="2332080"/>
            <a:ext cx="2184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2590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Influencia de los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en los resultado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figu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en los sitios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8320" y="2590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ussian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0.5) + pepita (0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esferico%2005%20pepita%2005" descr=""/>
          <p:cNvPicPr/>
          <p:nvPr/>
        </p:nvPicPr>
        <p:blipFill>
          <a:blip r:embed="rId2"/>
          <a:stretch/>
        </p:blipFill>
        <p:spPr>
          <a:xfrm>
            <a:off x="114300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con discontinuidad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fecto pepita  puro (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epita%20puro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totalmente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meset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meset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toma el modelo esférico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2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alcance%201-2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alcance%201-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inverso de la dis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gna a cada dato una ponderación inversamente proporcional a (una potencia de) su distancia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nvd%201%202" descr=""/>
          <p:cNvPicPr/>
          <p:nvPr/>
        </p:nvPicPr>
        <p:blipFill>
          <a:blip r:embed="rId2"/>
          <a:stretch/>
        </p:blipFill>
        <p:spPr>
          <a:xfrm>
            <a:off x="1147680" y="3505320"/>
            <a:ext cx="670104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43000" y="304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o de la distancia        inverso del cuadrado de l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efecto de 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hoyo 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590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eno cardinal (semi-per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odo 0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efecto%20de%20hoy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anisotrop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anis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ropo (meseta 1, alcances 2 [N45E] y 0.5 [N45O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nisotropi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KO%20KS%20esf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36232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KO%20KS%20esf%20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2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bloque%200%20-%2002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23623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1.0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bloque%2005%20-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2388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un plan de kriging adecuado para las leyes de cobre y 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2057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2666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ndajes de exploraci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estimar las leyes de cobre y oro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 e 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strar las propiedades del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3886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4467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zos de tronadu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krigear las leyes de cobre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. Comparar los resultados económicos obtenidos con aquellos que se obtendrían al estimar cada bloque por su pozo cen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t3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1.dat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2.dat   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4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knife.dbg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   1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8.0    1.0e21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error_Cu_plan2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400. 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600. 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3.0    0.5  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447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ciles de ejecu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ven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029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os estimadores no toman en cuenta la continuidad de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riable regionalizada: regularidad en el espacio, 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765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ás cercano vecino apantalla a todos los otros datos, lue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mite parte de la información. El inverso de la distancia n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sidera las redundancias que existen entre datos agrup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14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mbos casos, el estimador privilegia los dato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iden la 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e21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error_Cu_plan2.ps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2.0      2.0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3520" y="1467000"/>
            <a:ext cx="80769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Cu_plan2.ps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4300560"/>
            <a:ext cx="80769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regresion.out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leyesmedias.out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r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_desfasada.dat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t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600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2133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caracterizar el valor en el sitio “?” por una distribución de probabilidad, la cual refleja la incertidumbre en este si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685800" y="1531800"/>
            <a:ext cx="8077320" cy="24624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138560" y="4008600"/>
            <a:ext cx="3405240" cy="2697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038480" y="3809880"/>
            <a:ext cx="9907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029200" y="3809880"/>
            <a:ext cx="45720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 flipH="1">
            <a:off x="5943600" y="3809880"/>
            <a:ext cx="7632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6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 flipH="1">
            <a:off x="6477120" y="3809880"/>
            <a:ext cx="45720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7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H="1">
            <a:off x="6933960" y="380988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4191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stimación de cada indicador se interpreta como la probabilidad  que el valor verdadero sea menor que la ley de corte asoc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3" dur="1" fill="hold"/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0880" y="2743200"/>
            <a:ext cx="83059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orregir las estimaciones para que sean crecientes entre 0 y 1, luego interpolarlas y hacer un eventua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a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85640" y="3267000"/>
            <a:ext cx="3857760" cy="30574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ción/extrap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rId7" action="ppaction://hlinksldjump"/>
          </p:cNvPr>
          <p:cNvSpPr/>
          <p:nvPr/>
        </p:nvSpPr>
        <p:spPr>
          <a:xfrm>
            <a:off x="8534520" y="6248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mejorar la ponderación de los datos al tomar en cuenta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5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la continuidad de la variable regionalizada (variograma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as redundancias entre los datos (posibles agrupamiento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362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us distancias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ilegia los datos cercanos si el variograma es muy regul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te la ponderación entre los datos si existe un efecto pepit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952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 de anisotropía, privilegia los datos ubicados a lo lar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e las direcciones de mayor 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ismo, el krigin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tific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estimación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de kriging se obtiene al plantear tres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3623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ne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048120"/>
            <a:ext cx="7696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la variable regionalizada en estudio,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 los sitios con datos y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l sitio que se busc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rimer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siste en escribir el estimador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lineal ponderada de lo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76720" y="4991040"/>
                <a:ext cx="2819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14400" y="5883120"/>
            <a:ext cx="7772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r los ponderadore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. n} y el coeficien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Xavier Emery</cp:lastModifiedBy>
  <dcterms:modified xsi:type="dcterms:W3CDTF">2007-05-25T13:00:38Z</dcterms:modified>
  <cp:revision>166</cp:revision>
  <dc:subject/>
  <dc:title>Sin título de diapositiva</dc:title>
</cp:coreProperties>
</file>