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3185-3A66-4624-9C10-50E9CBF32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529C-7ADF-4EDF-9D12-7A0EF896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EBD9-5F68-4765-BC89-5C533D21B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954C-3B42-407F-B991-6A43DFD1E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5471-B01D-4D88-8DFB-BAB4661FB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3C4F-108F-456E-A58A-21AE1F98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C4EC-DFBE-4637-89CC-88AD62A7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F983-5131-47BA-B210-5335200F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C1B9-82E5-4645-9E63-68B0335B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5674-EDBF-4D84-94A5-F5879A5A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CB67-FE96-48EC-AD81-B2D16228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9F62-C803-4D23-9E4B-AC1655B5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27D4-9629-4334-9DEB-1D283E11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594C-87A2-4F1E-B089-606598F9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DF73-7C0A-46EE-BAFD-5C1B4EB3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A543-4378-4B48-8109-219E52DD4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CA26-51B4-4870-8EF1-2C6169917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90F6-90B9-4B28-A85D-DCD3C4DB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207F-FB8D-4A11-84AD-0A39FB31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E464-98A8-4BE5-80A4-4540C31E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F041-2999-459C-B31F-F7376996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7979-9086-4891-9FA8-56E439D4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4FFB-D2DD-4D4A-86C2-14567C4B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7462-6D98-4723-9B3F-D1E35CFC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5E60-D504-48F8-BCB4-D05A8607FC73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D4B4-0099-494A-B4DA-704AA36A5EF4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228600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c4010"/>
                </a:solidFill>
                <a:uFillTx/>
                <a:latin typeface="Times New Roman"/>
              </a:rPr>
              <a:t>Lecci</a:t>
            </a:r>
            <a:r>
              <a:rPr b="1" lang="en-US" sz="6000" spc="-1" strike="noStrike" u="sng">
                <a:solidFill>
                  <a:srgbClr val="0c4010"/>
                </a:solidFill>
                <a:uFillTx/>
                <a:latin typeface="Times New Roman"/>
                <a:ea typeface="Times New Roman"/>
              </a:rPr>
              <a:t>ó</a:t>
            </a:r>
            <a:r>
              <a:rPr b="1" lang="en-US" sz="6000" spc="-1" strike="noStrike" u="sng">
                <a:solidFill>
                  <a:srgbClr val="0c4010"/>
                </a:solidFill>
                <a:uFillTx/>
                <a:latin typeface="Times New Roman"/>
              </a:rPr>
              <a:t>n 3</a:t>
            </a:r>
            <a:r>
              <a:rPr b="1" lang="en-US" sz="6000" spc="-1" strike="noStrike">
                <a:solidFill>
                  <a:srgbClr val="0c4010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0c4010"/>
                </a:solidFill>
                <a:latin typeface="Times New Roman"/>
              </a:rPr>
              <a:t>El cambio de soport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0948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l soporte en el variograma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regularizacion%20variograma" descr=""/>
          <p:cNvPicPr/>
          <p:nvPr/>
        </p:nvPicPr>
        <p:blipFill>
          <a:blip r:embed="rId2"/>
          <a:stretch/>
        </p:blipFill>
        <p:spPr>
          <a:xfrm>
            <a:off x="228600" y="2454120"/>
            <a:ext cx="8748720" cy="3108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09480" y="17524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lu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0948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l soporte en el histogram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histplt_cambio_soporte2" descr=""/>
          <p:cNvPicPr/>
          <p:nvPr/>
        </p:nvPicPr>
        <p:blipFill>
          <a:blip r:embed="rId2"/>
          <a:stretch/>
        </p:blipFill>
        <p:spPr>
          <a:xfrm>
            <a:off x="776160" y="1459080"/>
            <a:ext cx="752976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0948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l soporte en el histogram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8288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histograma regularizado ti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25146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isma media que el histograma pun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31240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 varianza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374976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a forma distinta (simetriz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45878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en restricciones en el cambio de forma del histograma, regidas por l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lación de Carti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0948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l soporte en el histograma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rcRect l="50527" t="0" r="0" b="51348"/>
          <a:stretch/>
        </p:blipFill>
        <p:spPr>
          <a:xfrm>
            <a:off x="4419720" y="1376280"/>
            <a:ext cx="2685960" cy="2667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33520" y="4670280"/>
            <a:ext cx="3886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nube de puntos induce los histogramas para cada so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os histogramas est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n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gados entre 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rcRect l="50527" t="0" r="0" b="0"/>
          <a:stretch/>
        </p:blipFill>
        <p:spPr>
          <a:xfrm>
            <a:off x="4419720" y="1371600"/>
            <a:ext cx="2685960" cy="5481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rcRect l="0" t="0" r="0" b="45787"/>
          <a:stretch/>
        </p:blipFill>
        <p:spPr>
          <a:xfrm>
            <a:off x="1676520" y="1371600"/>
            <a:ext cx="5429160" cy="2971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010280" y="137628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rva de regres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 diag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283356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c4010"/>
                </a:solidFill>
                <a:latin typeface="Times New Roman"/>
              </a:rPr>
              <a:t>La evaluación global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82880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el contexto minero, se desea prever la distribución global de leyes asociada al soporte de la unidad de selección, a partir de la distribución conocida de los datos de soporte casi-puntu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35812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imar el valor pro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41911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cular la varianza de las leyes de blo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48769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terminar la forma del histograma regular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medi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67652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estima la media global con un promedio ponderado de los datos disponibles {z(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1... n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3797280"/>
            <a:ext cx="80773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determina los ponderadores {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1... n} con algoritmos geométricos, para “corregir” los efectos de las irregularidades de muestreo, atribuyendo un peso mayor a los datos más aislados: opera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 de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sagrupamient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5562720"/>
            <a:ext cx="8153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ponderadores {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1... n} deben ser positivos y sumar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581280" y="2762280"/>
                <a:ext cx="20574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/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15541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étodo de las áreas de infl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21337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peso de un dato es proporcional a su área de influencia en la zona de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9718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ficultad en la definición de los bordes de l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medi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Thiessen" descr=""/>
          <p:cNvPicPr/>
          <p:nvPr/>
        </p:nvPicPr>
        <p:blipFill>
          <a:blip r:embed="rId2"/>
          <a:stretch/>
        </p:blipFill>
        <p:spPr>
          <a:xfrm>
            <a:off x="2895480" y="3538440"/>
            <a:ext cx="317196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15541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étodo de las cel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media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213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divide la zona en celdas rectangulares de igual peso; el peso de cada celda se reparte entre los datos que pertenecen a esta cel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895480" y="3538440"/>
            <a:ext cx="317196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media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resultado depende de varios paráme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24382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origen de la red de celdas (elegido al az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32004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orientación de las celdas (en general, según los ejes de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coorden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42670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tamaño de las cel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447920" y="283356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c4010"/>
                </a:solidFill>
                <a:latin typeface="Times New Roman"/>
              </a:rPr>
              <a:t>El efecto de soport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media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14479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un muestreo preferencial en las altas leyes, se suele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tomar el tamaño de celda que minimiza el valor de la media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desagrup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56545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un muestreo cualquiera, se puede escoger un tamaño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convencional, e.g. la separación promedio entre da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048120" y="2682720"/>
            <a:ext cx="319536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media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4479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ecis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 la estima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se mide por una “varianza de estimación”, la cual se expresa por medio del variograma de la variable regionaliz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2743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expresión se simplifica cuando los ponderadores son iguales y el muestreo es aleatorio puro, aleatorio estratificado o reg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3733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factores que influyen en la varianza de estimación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3434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a continuidad espac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 la variable regionali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49528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l número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55627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su disposición geométric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estratificación del muestreo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reduce la varianza de esti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media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4479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jemplo: muestreo re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20131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varianza de estimación de la media se calcula a partir de la siguiente fórmula aproxima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962520" y="3124080"/>
                <a:ext cx="11430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∘</m:t>
                        </m:r>
                        <m:r>
                          <m:t xml:space="preserve">|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762120" y="41911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de V es la celda de la grilla de muestr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676520" y="5257800"/>
                <a:ext cx="11160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∘</m:t>
                    </m:r>
                    <m:r>
                      <m:t xml:space="preserve">|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1600200" y="527364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la varianza del error cometido al estimar 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 de la celda por el valor de su dato cen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4724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es el número total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varianz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120" y="2666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A partir de un modelo variográfico (varianzas teór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3276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modela el variograma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los datos casi-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3809880"/>
            <a:ext cx="75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deduce el variograma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los valores regular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4495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varianza buscada es la meseta de este variogra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449520" y="5227560"/>
                <a:ext cx="24750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609480" y="160020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evaluar la varianza de los valores regularizados, existen dos alternati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varianz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1523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A partir de las varianzas experi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21337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varianzas experimentales dependen de dos factores: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el soporte de las mediciones y el dominio muestr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31240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órmula de Krig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relación de aditivida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plantea lo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sigui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3880" y="4086360"/>
            <a:ext cx="6629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za de la ley de un bloque en el 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za de los datos en el 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za de los datos dentro del blo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580716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ecesita una malla de muestreo relativamente den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amiento de la form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16765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análisis anteriores permiten calcular la media y la varianza de la variable regularizada, por ejemplo, la ley de cobre de las unidades de sele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30481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poder seguir adelante, se requiere un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odel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para conocer la forma del histograma regulariz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41464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punto de partida es el histograma desagrupado de los datos, al cual se aplica una transformación para obtener un modelo de histograma regulariz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amiento de la form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1828800"/>
            <a:ext cx="85345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jemplo (datos de cobre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ones puntuales y regularizadas a 25m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25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hist%201" descr=""/>
          <p:cNvPicPr/>
          <p:nvPr/>
        </p:nvPicPr>
        <p:blipFill>
          <a:blip r:embed="rId2"/>
          <a:stretch/>
        </p:blipFill>
        <p:spPr>
          <a:xfrm>
            <a:off x="609480" y="3370320"/>
            <a:ext cx="3919680" cy="2878200"/>
          </a:xfrm>
          <a:prstGeom prst="rect">
            <a:avLst/>
          </a:prstGeom>
          <a:ln w="0">
            <a:noFill/>
          </a:ln>
        </p:spPr>
      </p:pic>
      <p:pic>
        <p:nvPicPr>
          <p:cNvPr id="197" name="hist%2025" descr=""/>
          <p:cNvPicPr/>
          <p:nvPr/>
        </p:nvPicPr>
        <p:blipFill>
          <a:blip r:embed="rId3"/>
          <a:stretch/>
        </p:blipFill>
        <p:spPr>
          <a:xfrm>
            <a:off x="4495680" y="3367080"/>
            <a:ext cx="39229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amiento de la forma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447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odelo de corrección afí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5562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e modelo mantiene la forma del histograma puntual. No toma en cuenta la simetrización que acompaña el cambio de sopo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2057400"/>
            <a:ext cx="792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istograma de [z(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 – m] /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histograma de [z(v) – m] /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480" y="2608200"/>
            <a:ext cx="3919680" cy="28782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495680" y="2604960"/>
            <a:ext cx="39229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amiento de la forma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1447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odelo de corrección 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2057400"/>
            <a:ext cx="807696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istograma puntual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lognormal de media m y varianza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istograma regularizado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lognormal de media m y varianza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609480" y="3370320"/>
            <a:ext cx="3919680" cy="2878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4495680" y="3367080"/>
            <a:ext cx="39229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amiento de la forma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447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odelo de corrección 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20574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transformación matemática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3657600"/>
            <a:ext cx="6553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[ln(1 +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/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 / ln(1 +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/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]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br>
              <a:rPr sz="2400"/>
            </a:b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CL" sz="24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[1 +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/ m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s-C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1/2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[1 +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/ m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s-CL" sz="24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2819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istograma de z(v)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histograma de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[z(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]</a:t>
            </a:r>
            <a:r>
              <a:rPr b="0" i="1" lang="es-ES" sz="24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concepto de soporte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8288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oport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s el volumen sobre el cual se mide o se considera la variable en estud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2819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stigo de sond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4191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dad de selección mine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“bloqu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35053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ó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amiento de la forma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1447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odelo de corrección lognormal in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20574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plica la corrección lognormal (aunque el histograma puntual no cumpla la lognormalidad), luego ajusta el parámetro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modo que la transformación no altera la med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4405320"/>
            <a:ext cx="7848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[ln(1 +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/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 / ln(1 +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/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]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calculado de manera que z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 y z(v) tengan igual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356724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istograma de z(v)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histograma de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[z(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]</a:t>
            </a:r>
            <a:r>
              <a:rPr b="0" i="1" lang="es-ES" sz="24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53341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método de corrección lognormal indirecta no es riguroso (no respeta exactamente la varianza de los bloqu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33520" y="140184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jemplo con los datos de co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196524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ción de la distribución de leyes reales de los bloques de 25m × 25m, con las distribuciones obtenidas por los modelos de corrección afín y corrección logno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amiento de la forma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qqplt%20real-afin" descr=""/>
          <p:cNvPicPr/>
          <p:nvPr/>
        </p:nvPicPr>
        <p:blipFill>
          <a:blip r:embed="rId2"/>
          <a:stretch/>
        </p:blipFill>
        <p:spPr>
          <a:xfrm>
            <a:off x="1450800" y="3290760"/>
            <a:ext cx="3044880" cy="2881440"/>
          </a:xfrm>
          <a:prstGeom prst="rect">
            <a:avLst/>
          </a:prstGeom>
          <a:ln w="0">
            <a:noFill/>
          </a:ln>
        </p:spPr>
      </p:pic>
      <p:pic>
        <p:nvPicPr>
          <p:cNvPr id="224" name="qqplt%20real-logn" descr=""/>
          <p:cNvPicPr/>
          <p:nvPr/>
        </p:nvPicPr>
        <p:blipFill>
          <a:blip r:embed="rId3"/>
          <a:stretch/>
        </p:blipFill>
        <p:spPr>
          <a:xfrm>
            <a:off x="4495680" y="3290760"/>
            <a:ext cx="30448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amiento de la forma (8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447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Otros mode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20574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en modelos más complejos para especificar la forma del histograma de los bloq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048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delo Gaussiano discret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generaliza la corrección 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37339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delos isofactoriales discret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basados en distribuciones de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probabilidad distintas a la distribución Gaussi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49528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mbién se puede usar las técnicas de simulación condicional, que entregan una solución numé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Modelo Gaussiano discret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16002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transforma los valores de los datos en valores cuyo histograma es Gaussiano, de media 0 y varianza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581280" y="2781360"/>
                <a:ext cx="152424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4114800" y="3657600"/>
            <a:ext cx="762120" cy="27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dd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16080" y="3659040"/>
            <a:ext cx="3875040" cy="27417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4811760" y="3657600"/>
            <a:ext cx="3875040" cy="27417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80988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53341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Modelo Gaussiano discret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16002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valores de los bloques también pueden transformarse en valores Gaussianos de media 0 y varianza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14800" y="3657600"/>
            <a:ext cx="76212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dd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581280" y="2771640"/>
                <a:ext cx="16671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304920" y="3657600"/>
            <a:ext cx="3875040" cy="27417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4811760" y="3659040"/>
            <a:ext cx="3875040" cy="27417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809880" y="48006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733920" y="53341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Modelo Gaussiano discreto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1600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cada sitio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ubicado en un bloque v, se supone que el par de valores {y(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,y(v)} sigue una distribuc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 bi-Gaussiana de coeficiente de correlac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 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2590920" y="3129120"/>
            <a:ext cx="3994200" cy="31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Modelo Gaussiano discreto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1631880"/>
            <a:ext cx="78487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relac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 de Cartier permite entonces caracterizar la función de transformación de los bloque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partir de aquella de los dat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3733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donde se deduce la distribuc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de las leyes de blo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4267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o ma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camente consis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4876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 la correcc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14400" y="550224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etriza el histograma al pasar de un soporte peq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uno 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003400" y="2862360"/>
                <a:ext cx="49690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y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990720" y="2209680"/>
            <a:ext cx="7467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c4010"/>
                </a:solidFill>
                <a:latin typeface="Times New Roman"/>
              </a:rPr>
              <a:t>Las curvas de selectividad para describir los efectos </a:t>
            </a:r>
            <a:br>
              <a:rPr sz="4800"/>
            </a:br>
            <a:r>
              <a:rPr b="1" lang="en-US" sz="4800" spc="-1" strike="noStrike">
                <a:solidFill>
                  <a:srgbClr val="0c4010"/>
                </a:solidFill>
                <a:latin typeface="Times New Roman"/>
              </a:rPr>
              <a:t>de soporte e informació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fini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15238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“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urvas de selectivida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” son herramientas alternativas al histograma para visualizar la distribución de los valores de una variable. Entre ellas, las más importante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2120" y="37339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y promedio - ley de cor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ndica la media de los valo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que superan una ley de c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28195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nelaje - ley de cor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ndica la proporción de los valo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fracción del tonelaje total) que supera una ley de c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45720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y promedio - tonel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51973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ntidad de metal - ley de cor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la cantidad de metal 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fine como el producto del tonelaje por la ley pro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6095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ntidad de metal - tonel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85800" y="457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urvas de selectividad y soporte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52880" y="48322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jerarquía de estas curvas según el soporte equivale a la relación de Carti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43400" y="1523880"/>
            <a:ext cx="304920" cy="5181840"/>
          </a:xfrm>
          <a:custGeom>
            <a:avLst/>
            <a:gdLst>
              <a:gd name="textAreaLeft" fmla="*/ 0 w 304920"/>
              <a:gd name="textAreaRight" fmla="*/ 110160 w 304920"/>
              <a:gd name="textAreaTop" fmla="*/ 135000 h 5181840"/>
              <a:gd name="textAreaBottom" fmla="*/ 5046840 h 518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629400" y="44197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5140440" y="1566720"/>
            <a:ext cx="3394080" cy="27003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609480" y="1490760"/>
            <a:ext cx="3394080" cy="270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609480" y="4157640"/>
            <a:ext cx="33940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concepto de soporte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8288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valor de un bloque v se define como el promedio aritmético de los valores puntuales dentro de este blo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48006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variable z(v) lleva el nombre d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iable “regularizada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bre el soporte v. El paso de la variable puntual a la variable de bloques se llama “cambio de soporte” o “regularización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40384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de |v| designa el volumen del bloque 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429000" y="2957400"/>
                <a:ext cx="237636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</m:den>
                    </m:f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609480" y="1447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va cantidad de metal - tonel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14400" y="20574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antidad de metal es una función creciente y cóncava del tonel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457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urvas de selectividad y soporte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QT" descr=""/>
          <p:cNvPicPr/>
          <p:nvPr/>
        </p:nvPicPr>
        <p:blipFill>
          <a:blip r:embed="rId2"/>
          <a:stretch/>
        </p:blipFill>
        <p:spPr>
          <a:xfrm>
            <a:off x="2895480" y="3124080"/>
            <a:ext cx="33940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838080" y="15238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efecto de soporte se traduce en una jerarquía de las curvas cantidad de metal - tonelaje en función del so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457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urvas de selectividad y soporte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38080" y="24541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érdida de “selectividad” al cambiar de sopo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QT%201-25" descr=""/>
          <p:cNvPicPr/>
          <p:nvPr/>
        </p:nvPicPr>
        <p:blipFill>
          <a:blip r:embed="rId2"/>
          <a:stretch/>
        </p:blipFill>
        <p:spPr>
          <a:xfrm>
            <a:off x="2895480" y="3124080"/>
            <a:ext cx="33940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838080" y="152388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orrección afín asume que la curva metal - tonelaje de los bloques es un promedio ponderado entre la curva puntual y la recta lím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457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urvas de selectividad y soporte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QT%20afin" descr=""/>
          <p:cNvPicPr/>
          <p:nvPr/>
        </p:nvPicPr>
        <p:blipFill>
          <a:blip r:embed="rId2"/>
          <a:stretch/>
        </p:blipFill>
        <p:spPr>
          <a:xfrm>
            <a:off x="2895480" y="3090960"/>
            <a:ext cx="33940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44792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 informació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15238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curvas de selectividad representan los recursos recuperables en un yacimiento (tonelaje, cantidad de metal, etc.). Dependen de tres facto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90720" y="28954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ecto de sopor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mientras más voluminoso el soport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menos sele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380988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fecto de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form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algunos bloques de mineral son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subestimados y enviados equivocadamente a botadero; otro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bloques estériles son sobreestimados y enviados a pla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90720" y="50608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tricciones geométric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lgunos bloques de alta le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ueden ser abandonados si los costos para alcanzarlos s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masiado al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44792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 informació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15238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decisión de enviar un bloque a planta o botadero se efectúa en base a la ley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estimad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l bloque en lugar de la ley verdadera (desconocid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destino" descr=""/>
          <p:cNvPicPr/>
          <p:nvPr/>
        </p:nvPicPr>
        <p:blipFill>
          <a:blip r:embed="rId2"/>
          <a:stretch/>
        </p:blipFill>
        <p:spPr>
          <a:xfrm>
            <a:off x="2133720" y="2895480"/>
            <a:ext cx="506736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44792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 información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15238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 respecto al efecto de soporte, el efecto de información provoca una pérdida adicional de selectiv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3394080" cy="27003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4537080" y="3657600"/>
            <a:ext cx="3394080" cy="27003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609480" y="253044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lustra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efecto de información producido al estimar la ley de cada bloque por la ley de su pozo de tronadura cen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44792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 información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480" y="15238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arios modelos han sido desarrollados para cuantificar el efecto de información; entre ellos el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modelo Gaussiano discret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es el m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 operacion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288288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 resultado importante es el siguiente: si el método utilizado para estimar las leyes de bloques no tiene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sesgo condicion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las curvas de selectividad de las leyes estimadas corresponden a las curvas de selectividad efectivas (incluyendo ambos efectos de soporte e información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9480" y="50292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ig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s un método de estimación que suele tener poco sesgo condicional, a diferencia de otros estimadores tales como el inverso de la distancia o los polígonos de influ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44792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 información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condb" descr=""/>
          <p:cNvPicPr/>
          <p:nvPr/>
        </p:nvPicPr>
        <p:blipFill>
          <a:blip r:embed="rId2"/>
          <a:stretch/>
        </p:blipFill>
        <p:spPr>
          <a:xfrm>
            <a:off x="1787400" y="1374840"/>
            <a:ext cx="560412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jercic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3520" y="13716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arar los mapas, variogramas e histogramas de las leyes de cobre y oro en los distintos soportes (1m × 1m, 5m × 5m, 25m × 25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30481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alizar la corrección afín de las leyes de cobre y oro a partir de las muestras de explor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, luego a partir de los pozos de la grilla 25m × 25m. Comparar las curvas tonelaje-ley obteni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38080" y="42670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declus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 histplt, gammabar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ffin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gtcurv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 plo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38080" y="25146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pixel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gam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varg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hist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gtcurv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qpp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48006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arar las curvas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ey promedio - tonelaj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los bloque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5m × 25m, asociadas al efecto de soporte y al efecto de información inducido al estimar cada bloque por su pozo cen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38080" y="60199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gtcurv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 condbi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990720" y="2482920"/>
            <a:ext cx="716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c4010"/>
                </a:solidFill>
                <a:latin typeface="Times New Roman"/>
              </a:rPr>
              <a:t>Archivos de par</a:t>
            </a:r>
            <a:r>
              <a:rPr b="1" lang="en-US" sz="4800" spc="-1" strike="noStrike">
                <a:solidFill>
                  <a:srgbClr val="0c4010"/>
                </a:solidFill>
                <a:latin typeface="Times New Roman"/>
                <a:ea typeface="Times New Roman"/>
              </a:rPr>
              <a:t>á</a:t>
            </a:r>
            <a:r>
              <a:rPr b="1" lang="en-US" sz="4800" spc="-1" strike="noStrike">
                <a:solidFill>
                  <a:srgbClr val="0c4010"/>
                </a:solidFill>
                <a:latin typeface="Times New Roman"/>
              </a:rPr>
              <a:t>metros de los programas GSLi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concepto de soporte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8288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que la regularización tenga un sentido físico, se requiere que la variable en estudio se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ditiv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8954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3429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umulac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en un elemento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5257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azón de solubilid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o es una variable ad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40384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tencia de un es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46483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43000" y="304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apa de datos en grill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3520" y="1395360"/>
            <a:ext cx="815328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PIXEL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       -file with gridde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                             -  column number for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1.0e21                     -  data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ixel_pozos25_Cu.ps              -file with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realization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6   12.5    25.0                -nx,xmn,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4   12.5    25.0                -ny,ymn,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 11.0    12.0                -nz,zmn,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slice orientation: 1=XY, 2=XZ, 3=Y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                               -slice number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Leyes de cobre - pozos centrales      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ste                             -X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Norte                            -Y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0=gray scale, 1=color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=continuous, 1=categ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3.0  0.5                    -continuous:  min, max, incr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    -categorical: number of categ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3    Code_One              -category(), code(), name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1    Code_Tw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lor Codes for Categorical Variable Plott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=red, 2=orange, 3=yellow, 4=light green, 5=green, 6=light bl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=dark blue, 8=violet, 9=white, 10=black, 11=purple, 12=brow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3=pink, 14=intermediate green, 15=g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533520" y="1395360"/>
            <a:ext cx="845820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PIXEL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5x5.dat                   -file with gridde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                             -  column number for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1.0e21                     -  data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ixelplt_Cu_5m.ps                -file with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realization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0     2.5    5.0                -nx,xmn,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20    2.5    5.0                -ny,ymn,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  11.0   12.0                -nz,zmn,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slice orientation: 1=XY, 2=XZ, 3=Y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                               -slice number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oporte 5m x 5m        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ste [m]                         -X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Norte [m]                        -Y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0=gray scale, 1=color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=continuous, 1=categ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3.0  0.5                    -continuous:  min, max, incr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    -categorical: number of categ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3    Code_One              -category(), code(), name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1    Code_Tw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lor Codes for Categorical Variable Plott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=red, 2=orange, 3=yellow, 4=light green, 5=green, 6=light bl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=dark blue, 8=violet, 9=white, 10=black, 11=purple, 12=brow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3=pink, 14=intermediate green, 15=g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143000" y="304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apa de datos en grill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533520" y="1120680"/>
            <a:ext cx="84582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5x5.dat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4   5   6         -   number of variables, column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 1.0e21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out  -file for vari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-grid or realization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0   2.5   5.0        -nx, xmn, 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20  2.5   5.0        -ny, ymn, 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11.0  12.0        -nz, zmn, 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40                 -number of directions, number of l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0  0              -ixd(1),iyd(1),izd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-standardize sill? (0=no, 1=y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-number of vari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1   1             -tail variable, head variable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2   1             -tail variable, head variable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3   1             -tail variable, head variable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type 1 = traditional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= traditional cross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= covar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= corr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= general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6 = pairwise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 = semivariogram of logarith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= semimad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9 = indicator semivariogram - continu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= indicator semivariogram - categ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143000" y="304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de datos en grill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533520" y="1454040"/>
            <a:ext cx="84582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VARG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ps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       -number of variograms to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201.0                  -distance  limits (from data if max&lt;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0.5                   -variogram limits (from data if max&lt;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1.0                   -plot sill (0=no,1=yes), sill val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riogramas asociados a soportes distintos        -Title for 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out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   0   1    10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out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   0   1     1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out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0   0   1     7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lor Codes for Variogram Lines/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=red, 2=orange, 3=yellow, 4=light green, 5=green, 6=light bl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=dark blue, 8=violet, 9=white, 10=black, 11=purple, 12=brow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3=pink, 14=intermediate green, 15=g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43000" y="304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de datos en grill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533520" y="1496880"/>
            <a:ext cx="8458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DEC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.dat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3   4               -  columns for X, Y, Z, and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   1.0e21          -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declus.sum                  -file for summar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declus.out                  -file for output with data &amp; we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.0   0.25                  -Y and Z cell anisotropy (Ysize=size*Yan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-0=look for minimum declustered mean (1=ma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48.0  48.0              -number of cell sizes, min size, max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                          -number of origin off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143000" y="304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sagrupamient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3520" y="1422360"/>
            <a:ext cx="84582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HIS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declus.out  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7                        - 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1.0e21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hisplt_Cu_declus.ps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 3.0                -attribute minimum and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17                         -frequency maximum (&lt;0 for automat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                        -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frequency,  1=cumulative 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   number of cum. quantiles (&lt;0 for 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-number of decimal places (&lt;0 for auto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Histograma desagrupado de las muestras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.5                          -positioning of stats (L to R: -1 to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1e21                      -reference value for box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43000" y="304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sagrupamient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533520" y="1481040"/>
            <a:ext cx="84582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AMMAB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5.0   25.0   12.0            -X,Y,Z size of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   11     1             -X,Y,Z discret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0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-nst, nugget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1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0.0   0.0   0.0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.0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.0  1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0.2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0.0   0.0   0.0 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180.0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rrección afí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" y="38862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valor de salida           es igual a la diferencia entre la varianza de los datos y la varianza de los blo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2743200" y="3962520"/>
                <a:ext cx="8319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457200" y="4876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factor de reducción de varianza para la corrección afín v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3200400" y="5470560"/>
                <a:ext cx="22860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γ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533520" y="114300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AF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declus.out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7                     -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-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52   0.98               -reduction factor f and m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declus.out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-file for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rrección afí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3520" y="3124080"/>
            <a:ext cx="84582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HIS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declus.out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  7                        - 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1.0e21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declus.ps  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 3.0                -attribute minimum and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17                         -frequency maximum (&lt;0 for automat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                        -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frequency,  1=cumulative 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   number of cum. quantiles (&lt;0 for 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-number of decimal places (&lt;0 for auto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rreccion afin a partir de las muestras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.5                          -positioning of stats (L to R: -1 to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1e21                      -reference value for box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533520" y="114300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AF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0                     -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-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64   0.93               -reduction factor f and m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pozos.out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-file for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rrección afín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520" y="3124080"/>
            <a:ext cx="84582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HIS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pozos.out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  0                        - 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1.0e21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pozos.ps   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 3.0                -attribute minimum and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17                         -frequency maximum (&lt;0 for automat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                        -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frequency,  1=cumulative 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   number of cum. quantiles (&lt;0 for 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-number of decimal places (&lt;0 for auto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rreccion afin a partir de los pozos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.5                          -positioning of stats (L to R: -1 to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1e21                      -reference value for box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533520" y="1420920"/>
            <a:ext cx="8458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T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declus.out                         \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7                              \  columns for grad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  1.0e21                        \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                            \  clipping limit (upper lim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Cu_declus.ps               \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0.0    3.0                    \Cutoff: num,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1.0                    \Tonnes: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5.0                    \Grade: 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urvas Tonelaje-Ley [muestra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rrección afín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33520" y="4164120"/>
            <a:ext cx="8458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T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declus.out                 \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  7                              \  columns for grad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  1.0e21                        \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                            \  clipping limit (upper lim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afin_Cu_declus.ps          \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0.0    3.0                    \Cutoff: num,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1.0                    \Tonnes: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5.0                    \Grade: 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urvas Tonelaje-Ley [afin muestra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efecto de soporte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8288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nto la distribución estadística de los valores (histograma) como su continuidad en el espacio (variograma) dependen del soporte consider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323208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e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fecto de soport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tiene importantes consecuencias en la evaluación de yacimientos, pues los datos disponibles (sondajes, pozos de tronadura) no tienen el mismo soporte que las unidades a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533520" y="1420920"/>
            <a:ext cx="8458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T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pozos.out                  \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0                              \  columns for grad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  1.0e21                        \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                            \  clipping limit (upper lim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Cu_pozos.ps                \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0.0    3.0                    \Cutoff: num,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1.0                    \Tonnes: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5.0                    \Grade: 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urvas Tonelaje-Ley [pozo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rrección afín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4164120"/>
            <a:ext cx="8458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T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pozos.out                  \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  0                              \  columns for grad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  1.0e21                        \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                            \  clipping limit (upper lim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afin_Cu_pozos.ps           \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0.0    3.0                    \Cutoff: num,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1.0                    \Tonnes: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5.0                    \Grade: 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urvas Tonelaje-Ley [afin pozo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520" y="1434960"/>
            <a:ext cx="84582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PLO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s_Cu.ps                -output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2                         -number of plots in X and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Cu_declus.ps          -first plot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afin_Cu_declus.ps     -second plot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Cu_pozos.ps           -third plot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afin_Cu_pozos.ps      -fourth plot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rrección afín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3520" y="3692520"/>
            <a:ext cx="8458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QP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declus.out               -file with first set of data (X ax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  7                            -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       -file with second set of data (Y ax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0                            -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  1.0e21                -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qpplt_afin_Cu_declus.ps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=Q-Q plot, 1=P-P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number of points to plot (&lt;0 for 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                -X minimum and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                -Y minimum and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rreccion afin a partir de las muestras           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533520" y="1420920"/>
            <a:ext cx="8458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T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         \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0                              \  columns for grad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  1.0e21                        \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                            \  clipping limit (upper lim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Cu25_reales.ps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\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0.0    3.0                    \Cutoff: num,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1.0                    \Tonnes: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5.0                    \Grade: 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urvas Tonelaje-Ley [bloque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 informació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533520" y="1420920"/>
            <a:ext cx="8458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T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         \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0                              \  columns for grad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  1.0e21                        \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                            \  clipping limit (upper lim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Cu25_estimados.ps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\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0.0    3.0                    \Cutoff: num,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1.0                    \Tonnes: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5.0                    \Grade: 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urvas Tonelaje-Ley [bloques estimado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 informació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33520" y="4376880"/>
            <a:ext cx="84582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NDBIAS: Conditional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              \Input data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5                                   \column for estimate,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       \tmin,t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ndb_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u25_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regresion.out                \Output for conditional b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0                                      \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ndb_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u25_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leyesmedias.out              \Output for mean above cut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1   0.0   0.1                          \number of cutoffs, start, i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efecto de soporte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16002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anco de una faena conocido completamente, con altura 12m. La variable considerada es la ley de cob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mapas_cambio_soporte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867240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0948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l soporte en el variogram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3341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paso de un soporte pequ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a un soporte mayor es una oper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gulador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suavizamiento” de los map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038320" y="1603440"/>
            <a:ext cx="49719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l soporte en el variogram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539720"/>
            <a:ext cx="8077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presión matemática del variograma regularizado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n función del variograma puntual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34290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4038480"/>
            <a:ext cx="655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bloque v trasladado del vector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276720" y="2743200"/>
                <a:ext cx="27432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349280" y="4540320"/>
                <a:ext cx="37800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dx</m:t>
                            </m:r>
                            <m:r>
                              <m:t xml:space="preserve"> </m:t>
                            </m:r>
                            <m:r>
                              <m:t xml:space="preserve">dy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338120" y="5257800"/>
                <a:ext cx="35719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dx</m:t>
                            </m:r>
                            <m:r>
                              <m:t xml:space="preserve"> </m:t>
                            </m:r>
                            <m:r>
                              <m:t xml:space="preserve">dy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2T14:25:58Z</dcterms:created>
  <dc:creator>Depto. Ing. Minas</dc:creator>
  <dc:description/>
  <dc:language>en-US</dc:language>
  <cp:lastModifiedBy>Xavier Emery</cp:lastModifiedBy>
  <dcterms:modified xsi:type="dcterms:W3CDTF">2007-04-02T19:30:05Z</dcterms:modified>
  <cp:revision>97</cp:revision>
  <dc:subject/>
  <dc:title>Sin título de diapositiva</dc:title>
</cp:coreProperties>
</file>