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528-A542-4354-A8D2-E0C880B7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65D-375B-4476-8C1C-B453AFFE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107-CB03-4EAB-B254-DEBD65B9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E92-8F2B-48C4-9BF5-34412E73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50D9-69B8-48C3-8272-7AA4DA2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2CD-11E2-4DE0-9103-5326A45C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F4DB-AE78-444B-B80E-23FBCDB2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6E26-6F07-4A29-9FB1-0BA2A51B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AB5-C866-4EB9-A8EA-EBFCA01C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DFE-3ED0-44E9-AC89-81E2CD88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7DDB-9E6B-4AE9-A894-B3D1382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278-7A18-4E99-9CBE-2E90BBE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B4D-1FA2-4C8A-A14B-900185B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140B-3560-4752-8F32-FF712A7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76F-5D1E-4666-9390-955C4C46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3A21-5BB3-433C-8117-A66B7A53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BB64-3550-4C55-9B32-8C24D0D1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50A-23B9-4CFE-B3E8-9B9302E7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64B-7169-4976-AA57-B813EDA5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C69-9D01-40AD-8B20-E15AFC1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B2A-400E-4077-9281-F55A785B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859-7AA6-4E00-B54F-7457345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267-C2FA-4588-8324-E19E4E1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585-30DA-48F5-9524-68D28EE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217-D61A-46CC-B1CC-2B2A9964A2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71F-92F1-4799-ADC1-A5214CBC54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2.xml"/><Relationship Id="rId5" Type="http://schemas.openxmlformats.org/officeDocument/2006/relationships/slide" Target="slide39.xml"/><Relationship Id="rId6" Type="http://schemas.openxmlformats.org/officeDocument/2006/relationships/slide" Target="slide38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4.xml"/><Relationship Id="rId10" Type="http://schemas.openxmlformats.org/officeDocument/2006/relationships/slide" Target="slide45.xml"/><Relationship Id="rId11" Type="http://schemas.openxmlformats.org/officeDocument/2006/relationships/slide" Target="slide46.xml"/><Relationship Id="rId12" Type="http://schemas.openxmlformats.org/officeDocument/2006/relationships/slide" Target="slide43.xml"/><Relationship Id="rId1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reducir número de láminas; ver el límite fijado en pauta y considerar que falta el resto de las secciones, resultados encuestas, diagrama sistémico; conclusiones…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20640"/>
            <a:ext cx="867564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es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Usar más lenguaje estándar para presentar el modelo de negocio; lo hablamos varias veces; en el fondo es una organización pública que administra 2 seguros (pensiones y accidentes del trabaj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INP es un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</a:rPr>
              <a:t>organismo autónomo (autónomo?...solo en el sentido administrativo; me imagino que es como la mayoría de las instituciones públicas un “servicio descentralizado”)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que administra el sistema de pensiones de las ex cajas de previsión social, además del seguro de accidentes del trabajo y otros beneficios previsionales y asisten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productos entrega el INP?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os Previsionales (Pago Pensiones, Atenciones Previsional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ono Recono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caud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ministración del Seguro de Accidentes del Trabajo y Enfermedades  Profesion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ogramas Sociales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A quiénes están dirigidos las acciones y beneficios que otorga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(clie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as distintas ex Cajas de Previ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Imponentes INP y AF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le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Trabajadores dependientes e independ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resas y trabajadores afiliados al I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ultos May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sonas con discapacid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eyes y Programas especi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arios de Pensiones Asistenciales y Subsidio Único Familiar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2000" y="1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24000" y="1052640"/>
          <a:ext cx="4392720" cy="1823760"/>
        </p:xfrm>
        <a:graphic>
          <a:graphicData uri="http://schemas.openxmlformats.org/drawingml/2006/table">
            <a:tbl>
              <a:tblPr/>
              <a:tblGrid>
                <a:gridCol w="1149480"/>
                <a:gridCol w="1093680"/>
                <a:gridCol w="1052640"/>
                <a:gridCol w="10969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idad Juríd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Cent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Reg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or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340000" y="3213000"/>
          <a:ext cx="4032360" cy="24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213000"/>
                    <a:ext cx="4032360" cy="245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79640" y="5812560"/>
            <a:ext cx="490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Fuente: Estadísticas SUSESO año 2006, Base Empleadores Abril 20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23960" y="990720"/>
            <a:ext cx="568476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43280" y="2997360"/>
          <a:ext cx="4496040" cy="295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997360"/>
                    <a:ext cx="449604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9600" y="2997360"/>
          <a:ext cx="4676760" cy="295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00" y="2997360"/>
                    <a:ext cx="46767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71640" y="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Verdana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115920"/>
            <a:ext cx="64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81080" y="1557360"/>
            <a:ext cx="932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2133720"/>
          <a:ext cx="7978680" cy="2122200"/>
        </p:xfrm>
        <a:graphic>
          <a:graphicData uri="http://schemas.openxmlformats.org/drawingml/2006/table">
            <a:tbl>
              <a:tblPr/>
              <a:tblGrid>
                <a:gridCol w="2714400"/>
                <a:gridCol w="1316160"/>
                <a:gridCol w="1316160"/>
                <a:gridCol w="1315800"/>
                <a:gridCol w="1316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AC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MU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Empresas adher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4.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.3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.6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16.0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Trabajadores cubier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68.5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060.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55.8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1.210.8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maño promedio 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emuneración imponible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.461.665.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.812.799.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54.249.7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594.285.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n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32.458.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90.347.6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502.6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50.343.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E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22.526.8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8.034.5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372.8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8.125.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907920"/>
            <a:ext cx="8675640" cy="65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jes principales del INP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(qué es un eje; me imagino que se refieren a los 2 negocios o procesos de negocios principales del INP; usar este lenguaje mejor, es más estándar y clar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staciones previsionales vigente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vención de riesgos y salud labo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Objetivos Estratégicos del INP: </a:t>
            </a:r>
            <a:r>
              <a:rPr b="1" lang="es-CL" sz="1600" spc="-1" strike="noStrike">
                <a:solidFill>
                  <a:srgbClr val="ff3300"/>
                </a:solidFill>
                <a:latin typeface="Verdana"/>
              </a:rPr>
              <a:t>(dividirlos por negoci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Recaudar, conceder y pagar las prestaciones y beneficios previsionales, asistenciales y espe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Asegurar la atención eficaz y oportuna de los usuarios del Instituto, mediante la capacitación, motivación, reconocimiento y mejora en las condiciones laborales de sus trabajadores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cultura de prevención de riesgos, ampliando la cobertura de los beneficios de la Ley 16.744 a los trabajadores desprotegidos, a fin de reducir la incidencia de los accidentes del trabajo y enfermedades profesion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integración social de los pensionados adultos mayores, personas con discapacidad y en situación de extrema pobreza, a través de la focalización de programas y beneficios sociales, con la finalidad de mejorar su bienestar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Ley Nº 19.744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obre Accidentes de Trabajo y Enfermedades Profesionales</a:t>
            </a: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(no aporta mucho; simplificar al máximo) Usar terminología de “productos” y “servicios”; “atributos distintivos” de amb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2640"/>
            <a:ext cx="867564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ta ley es un seguro social obligatorio contra riesgos del trabajo, que establece los siguientes objetivos: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evenir: Con el propósito de evitar que ocurra el accidente o se contraiga la Enfermedad Profesion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 Atención Médica: para restituir al trabajador en lo posible, TODA su capacidad de trabaj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s Prestaciones Económicas: para Repara la pérdida de la capacidad de ganancia del trabajador y sus derecho-habit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habilitar: al trabajador para devolver en todo o en parte sus capacidad de gana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educar: al afectado para darle posibilidades de desempeñar un nuevo oficio o profesión, considerando su capacidad residual de trabajo. 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uro Social Obligatorio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los títulos deben ser autocomprensivos; decir algo fácil de entender a la primera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86756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Administració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Seguro es Administrado por el Estado y Organismos Privados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608360" cy="13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79280" y="3141720"/>
            <a:ext cx="88934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Financiamien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La fuente principal de financiamiento de esta ley son las cotizaciones de cargo del Empleador y que son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Básic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rresponde al 0.95% </a:t>
            </a:r>
            <a:r>
              <a:rPr b="1" lang="es-ES" sz="1300" spc="-1" strike="noStrike">
                <a:solidFill>
                  <a:srgbClr val="ff3300"/>
                </a:solidFill>
                <a:latin typeface="Verdana"/>
              </a:rPr>
              <a:t>(mucho detalles para un análisis de gestión)DE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LAS REMUNERACIONES IMPONIBLES que 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ancelen a los trabajadores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Adicional Diferenciad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e cancela en función de la actividad o riesgo de la empresa que oscil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entre el 0.00 y el 3.40% de las remuneraciones que paga el empleador 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u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rabajadores (Decreto Nº110). Esta cotización puede aumentarse o rebajar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dependiendo del incremento o disminución de los riesgos, TASA DE RIESGO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(Decreto Nº173).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asa Adicional por Siniestralidad Efectiva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31904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Grava la siniestralidad de las empresas antiguas (Decreto Nº67, Nº días perdidos por accidente laboral / Nº trabajadores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staciones del seguro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es estándar este tipo de prestaciones con la industria o hay algo especial; destacarlo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907920"/>
            <a:ext cx="867564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Méd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Atención Médica, Quirúrgica y Dent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Hospital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edicamentos y Productos farmacéu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Prótesis y aparatos ortopédicos y su repa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habilitación 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educación profesional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ubsid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Indem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en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2720" indent="-34272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vención de Riesgos, Obligaciones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vale comentario anterior sobre cómo deben ser los títulos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17680"/>
            <a:ext cx="86756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stado</a:t>
            </a:r>
            <a:r>
              <a:rPr b="1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es-CL" sz="1800" spc="-1" strike="noStrike">
                <a:solidFill>
                  <a:srgbClr val="ff3300"/>
                </a:solidFill>
                <a:latin typeface="Verdana"/>
              </a:rPr>
              <a:t>(en general no queda claro el sentido de esta lámina, aclarar mejor en la forma de present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upervigilancia y Fiscaliz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rescribir todas las medidas de Higiene y Segur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7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Mutual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scribir todas las medidas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plicar variación de cotización adic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alizar actividades permanentes de Prevención de Riesg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5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mple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lantar las medidas de preven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y mantener al día un Reglamento Interno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el departamento de Prevención de Riesgos cuando cuenten con más de 100 trabajado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nformar sobre los riesgos laboral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6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4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Trabaj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o establecido en el reglamento interno de orden higiene y seguridad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Usar y cuidar los elementos de protección person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as normas e instrucciones impartidas por el servicio de salud, el organismo administrador, el departamento de prevención de riegos o el comité paritario de higiene y seguridad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 ACTIVO INP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867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ctor Activo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Organismo a cargo de la administración de la Ley de Accidentes del Trabajo y Enfermedades Profesionales, en conjunto con el sistema de mutuales privadas, promoviend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gestión preventiva al interior de las organizaciones, a fin de minimizar la ocurrencia de eventos de siniestralidad labor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as funciones básicas que cumplen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tregar cobertura de salud a los trabajadores en caso de accidentes o enfermedades laborale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sesorar a los empleadores y trabajadores en prevención de riesgo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agar subsidios o pensiones si un accidente o enfermedad incapacita temporal o permanentemente a un trabajador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ATEP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Departamento encargado de gestionar los productos y actividades estratégicas asociados al Rol de Administración del Seguro de accidentes del trabajo y enfermedades profes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08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26920" y="1628640"/>
            <a:ext cx="784872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hlinkClick r:id="rId3" action="ppaction://hlinksldjump"/>
              </a:rPr>
              <a:t>3.  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581360"/>
            <a:ext cx="136836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5  Peticiones o Reclamos de otros Organism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4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2124720" y="3429360"/>
            <a:ext cx="4969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125360"/>
          <a:ext cx="8353080" cy="335160"/>
        </p:xfrm>
        <a:graphic>
          <a:graphicData uri="http://schemas.openxmlformats.org/drawingml/2006/table">
            <a:tbl>
              <a:tblPr/>
              <a:tblGrid>
                <a:gridCol w="6827400"/>
                <a:gridCol w="152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P Sector A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ransvers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258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PA DE PROCESO 2º NIVEL:  PREVEN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(usar lenguaje autocomprensivo; por ej “tasas”???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421000"/>
            <a:ext cx="12970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2    Prestaciones Preventiv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5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99280" y="3141720"/>
            <a:ext cx="432000" cy="43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1989000"/>
            <a:ext cx="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98900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989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19890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198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528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781360"/>
            <a:ext cx="927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.1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Tas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6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4221000"/>
            <a:ext cx="136836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stión de Consulta no Estructur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2349360"/>
            <a:ext cx="115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3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7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781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4Concurr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8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64500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3.7 Atención de Dictame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9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797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8 Atención de Resoluci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0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5229360"/>
            <a:ext cx="122364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9 Salud Ocup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1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371628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6 Contratación de Servic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2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9080" y="349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gani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58920" y="816120"/>
          <a:ext cx="6337440" cy="52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816120"/>
                    <a:ext cx="633744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9:41:53Z</dcterms:created>
  <dc:creator>Direcon</dc:creator>
  <dc:description/>
  <dc:language>en-US</dc:language>
  <cp:lastModifiedBy>Jinostroza</cp:lastModifiedBy>
  <dcterms:modified xsi:type="dcterms:W3CDTF">2007-11-15T23:11:04Z</dcterms:modified>
  <cp:revision>10</cp:revision>
  <dc:subject/>
  <dc:title>INTRODUCCIÓN </dc:title>
</cp:coreProperties>
</file>