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651-E67B-4C89-9514-3B93E4F0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F32-9DFE-4901-8DF3-736CB8DA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1AD-633A-4CC9-AD7A-FB88B959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A73-3ACC-4A14-8D8B-F9E529A5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A08D-F27E-453E-954C-8E9926D4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FA38-873F-417A-BCB9-211F3858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3804-458B-4860-8EEB-5FE58B3D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1C49-7E4D-48AA-9C62-3B52B435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53E2-2903-4645-9827-CB230E50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769D-970E-4C39-83E0-B713A30C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4F60-B7D4-464E-AB55-D0466920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ACB-B4A8-4249-965A-83214908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A10D-0E18-424C-8B76-C16054F8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E72F-D2DF-4AC7-83F7-4C624F36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02B7-5FB0-454A-81A3-598A6ADE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CDA4-D91A-48A3-B410-23AD1C0B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A389-F6C8-4B94-A141-2D871057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3FE-F466-49DF-88A5-59F6D9F1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A4D-1928-4FEF-A28B-5451DA17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393-8AA7-4EDB-A673-64FF013E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69B-77E0-49A7-AFA8-5D37F237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652-0A52-4715-916D-985FACA8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E2B-3465-43B5-91F8-CD96FDDB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625-7D8F-4541-824C-A6D31F46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E566-DE97-4EEA-AAD6-7353C5EB51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85E4-4C79-443B-BD45-27AC99E436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2.xml"/><Relationship Id="rId5" Type="http://schemas.openxmlformats.org/officeDocument/2006/relationships/slide" Target="slide39.xml"/><Relationship Id="rId6" Type="http://schemas.openxmlformats.org/officeDocument/2006/relationships/slide" Target="slide38.xml"/><Relationship Id="rId7" Type="http://schemas.openxmlformats.org/officeDocument/2006/relationships/slide" Target="slide40.xml"/><Relationship Id="rId8" Type="http://schemas.openxmlformats.org/officeDocument/2006/relationships/slide" Target="slide41.xml"/><Relationship Id="rId9" Type="http://schemas.openxmlformats.org/officeDocument/2006/relationships/slide" Target="slide44.xml"/><Relationship Id="rId10" Type="http://schemas.openxmlformats.org/officeDocument/2006/relationships/slide" Target="slide45.xml"/><Relationship Id="rId11" Type="http://schemas.openxmlformats.org/officeDocument/2006/relationships/slide" Target="slide46.xml"/><Relationship Id="rId12" Type="http://schemas.openxmlformats.org/officeDocument/2006/relationships/slide" Target="slide43.xml"/><Relationship Id="rId1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INTRODUCCIÓN</a:t>
            </a:r>
            <a:br>
              <a:rPr sz="2800"/>
            </a:b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(reducir número de láminas; ver el límite fijado en pauta y considerar que falta el resto de las secciones, resultados encuestas, diagrama sistémico; conclusiones…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620640"/>
            <a:ext cx="8675640" cy="66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¿Qué es el INP? </a:t>
            </a:r>
            <a:r>
              <a:rPr b="1" lang="es-ES" sz="1600" spc="-1" strike="noStrike">
                <a:solidFill>
                  <a:srgbClr val="ff3300"/>
                </a:solidFill>
                <a:latin typeface="Verdana"/>
              </a:rPr>
              <a:t>Usar más lenguaje estándar para presentar el modelo de negocio; lo hablamos varias veces; en el fondo es una organización pública que administra 2 seguros (pensiones y accidentes del trabaj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INP es un </a:t>
            </a:r>
            <a:r>
              <a:rPr b="1" lang="es-ES" sz="1400" spc="-1" strike="noStrike">
                <a:solidFill>
                  <a:srgbClr val="ff3300"/>
                </a:solidFill>
                <a:latin typeface="Verdana"/>
              </a:rPr>
              <a:t>organismo autónomo (autónomo?...solo en el sentido administrativo; me imagino que es como la mayoría de las instituciones públicas un “servicio descentralizado”)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que administra el sistema de pensiones de las ex cajas de previsión social, además del seguro de accidentes del trabajo y otros beneficios previsionales y asistencia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¿Qué productos entrega el INP?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Beneficios Previsionales (Pago Pensiones, Atenciones Previsional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Bono Recono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Recaud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Administración del Seguro de Accidentes del Trabajo y Enfermedades  Profesiona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rogramas Sociales.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¿A quiénes están dirigidos las acciones y beneficios que otorga el INP? </a:t>
            </a:r>
            <a:r>
              <a:rPr b="1" lang="es-ES" sz="1600" spc="-1" strike="noStrike">
                <a:solidFill>
                  <a:srgbClr val="ff3300"/>
                </a:solidFill>
                <a:latin typeface="Verdana"/>
              </a:rPr>
              <a:t>(client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nsionados de las distintas ex Cajas de Previ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Imponentes INP y AF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mple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Trabajadores dependientes e independ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mpresas y trabajadores afiliados al IN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Adultos May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sonas con discapacida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nsionados de Leyes y Programas especia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722160" indent="-27936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Beneficiarios de Pensiones Asistenciales y Subsidio Único Familiar.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332000" y="189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24000" y="1052640"/>
          <a:ext cx="4392720" cy="1823760"/>
        </p:xfrm>
        <a:graphic>
          <a:graphicData uri="http://schemas.openxmlformats.org/drawingml/2006/table">
            <a:tbl>
              <a:tblPr/>
              <a:tblGrid>
                <a:gridCol w="1149480"/>
                <a:gridCol w="1093680"/>
                <a:gridCol w="1052640"/>
                <a:gridCol w="109692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lidad Jurídi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Cent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ivel Reg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a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r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nora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340000" y="3213000"/>
          <a:ext cx="4032360" cy="245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3213000"/>
                    <a:ext cx="4032360" cy="2454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79640" y="5812560"/>
            <a:ext cx="490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Arial"/>
                <a:ea typeface="Times New Roman"/>
              </a:rPr>
              <a:t>Fuente: Estadísticas SUSESO año 2006, Base Empleadores Abril 200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23960" y="990720"/>
            <a:ext cx="5684760" cy="19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643280" y="2997360"/>
          <a:ext cx="4496040" cy="2950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997360"/>
                    <a:ext cx="449604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9600" y="2997360"/>
          <a:ext cx="4676760" cy="2950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00" y="2997360"/>
                    <a:ext cx="467676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71640" y="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Verdana"/>
              </a:rPr>
              <a:t>ANÁLISIS COMPARATIVO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47640" y="115920"/>
            <a:ext cx="64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ANÁLISIS COMPARATIVO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81080" y="1557360"/>
            <a:ext cx="9325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2133720"/>
          <a:ext cx="7978680" cy="2122200"/>
        </p:xfrm>
        <a:graphic>
          <a:graphicData uri="http://schemas.openxmlformats.org/drawingml/2006/table">
            <a:tbl>
              <a:tblPr/>
              <a:tblGrid>
                <a:gridCol w="2714400"/>
                <a:gridCol w="1316160"/>
                <a:gridCol w="1316160"/>
                <a:gridCol w="1315800"/>
                <a:gridCol w="13161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AC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MUTU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I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006666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Garamond"/>
                          <a:ea typeface="Arial"/>
                        </a:rPr>
                        <a:t>IN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6666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° Empresas adheri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4.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1.3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6.6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416.0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° Trabajadores cubier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.668.5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.060.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55.8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1.210.8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amaño promedio empres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9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7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Remuneración imponible (M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.461.665.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.812.799.7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.654.249.7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2.594.285.1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Ingresos Operacionales (M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32.458.9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90.347.6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5.502.6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50.343.9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Egresos Operacionales (M$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22.526.8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8.034.5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5.372.8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Garamond"/>
                          <a:ea typeface="Arial"/>
                        </a:rPr>
                        <a:t>48.125.9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339933"/>
                      </a:solidFill>
                    </a:lnL>
                    <a:lnR w="13680">
                      <a:solidFill>
                        <a:srgbClr val="339933"/>
                      </a:solidFill>
                    </a:lnR>
                    <a:lnT w="13680">
                      <a:solidFill>
                        <a:srgbClr val="339933"/>
                      </a:solidFill>
                    </a:lnT>
                    <a:lnB w="13680">
                      <a:solidFill>
                        <a:srgbClr val="3399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TRODUCCIÓN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907920"/>
            <a:ext cx="8675640" cy="65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Ejes principales del INP: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CL" sz="1400" spc="-1" strike="noStrike">
                <a:solidFill>
                  <a:srgbClr val="ff3300"/>
                </a:solidFill>
                <a:latin typeface="Verdana"/>
              </a:rPr>
              <a:t>(qué es un eje; me imagino que se refieren a los 2 negocios o procesos de negocios principales del INP; usar este lenguaje mejor, es más estándar y clar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Prestaciones previsionales vigentes,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Prevención de riesgos y salud labor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Objetivos Estratégicos del INP: </a:t>
            </a:r>
            <a:r>
              <a:rPr b="1" lang="es-CL" sz="1600" spc="-1" strike="noStrike">
                <a:solidFill>
                  <a:srgbClr val="ff3300"/>
                </a:solidFill>
                <a:latin typeface="Verdana"/>
              </a:rPr>
              <a:t>(dividirlos por negoci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Recaudar, conceder y pagar las prestaciones y beneficios previsionales, asistenciales y especia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Asegurar la atención eficaz y oportuna de los usuarios del Instituto, mediante la capacitación, motivación, reconocimiento y mejora en las condiciones laborales de sus trabajadores. 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Fomentar la cultura de prevención de riesgos, ampliando la cobertura de los beneficios de la Ley 16.744 a los trabajadores desprotegidos, a fin de reducir la incidencia de los accidentes del trabajo y enfermedades profesional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Fomentar la integración social de los pensionados adultos mayores, personas con discapacidad y en situación de extrema pobreza, a través de la focalización de programas y beneficios sociales, con la finalidad de mejorar su bienestar. 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 algn="ctr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1360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Verdana"/>
              </a:rPr>
              <a:t>Ley Nº 19.744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obre Accidentes de Trabajo y Enfermedades Profesionales</a:t>
            </a: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es-ES" sz="4000" spc="-1" strike="noStrike">
                <a:solidFill>
                  <a:srgbClr val="ff3300"/>
                </a:solidFill>
                <a:latin typeface="Garamond"/>
              </a:rPr>
              <a:t>(no aporta mucho; simplificar al máximo) Usar terminología de “productos” y “servicios”; “atributos distintivos” de ambo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52640"/>
            <a:ext cx="8675640" cy="53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sta ley es un seguro social obligatorio contra riesgos del trabajo, que establece los siguientes objetivos: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revenir: Con el propósito de evitar que ocurra el accidente o se contraiga la Enfermedad Profesiona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Otorgar la Atención Médica: para restituir al trabajador en lo posible, TODA su capacidad de trabaj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Otorgar las Prestaciones Económicas: para Repara la pérdida de la capacidad de ganancia del trabajador y sus derecho-habita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Rehabilitar: al trabajador para devolver en todo o en parte sus capacidad de gananc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Reeducar: al afectado para darle posibilidades de desempeñar un nuevo oficio o profesión, considerando su capacidad residual de trabajo. </a:t>
            </a:r>
            <a:br>
              <a:rPr sz="14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Seguro Social Obligatorio </a:t>
            </a:r>
            <a:r>
              <a:rPr b="1" lang="es-ES" sz="2800" spc="-1" strike="noStrike">
                <a:solidFill>
                  <a:srgbClr val="ff3300"/>
                </a:solidFill>
                <a:latin typeface="Verdana"/>
              </a:rPr>
              <a:t>(los títulos deben ser autocomprensivos; decir algo fácil de entender a la primera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907920"/>
            <a:ext cx="86756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Administració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l Seguro es Administrado por el Estado y Organismos Privados</a:t>
            </a: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4608360" cy="138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179280" y="3141720"/>
            <a:ext cx="889344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Financiamien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La fuente principal de financiamiento de esta ley son las cotizaciones de cargo del Empleador y que son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otización Básica: </a:t>
            </a:r>
            <a:br>
              <a:rPr sz="1300"/>
            </a:b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orresponde al 0.95% </a:t>
            </a:r>
            <a:r>
              <a:rPr b="1" lang="es-ES" sz="1300" spc="-1" strike="noStrike">
                <a:solidFill>
                  <a:srgbClr val="ff3300"/>
                </a:solidFill>
                <a:latin typeface="Verdana"/>
              </a:rPr>
              <a:t>(mucho detalles para un análisis de gestión)DE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 LAS REMUNERACIONES IMPONIBLES que se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ancelen a los trabajadores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Cotización Adicional Diferenciada: </a:t>
            </a:r>
            <a:br>
              <a:rPr sz="1300"/>
            </a:b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Se cancela en función de la actividad o riesgo de la empresa que oscila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entre el 0.00 y el 3.40% de las remuneraciones que paga el empleador a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sus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trabajadores (Decreto Nº110). Esta cotización puede aumentarse o rebajarse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dependiendo del incremento o disminución de los riesgos, TASA DE RIESGOS 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(Decreto Nº173). </a:t>
            </a:r>
            <a:br>
              <a:rPr sz="1300"/>
            </a:b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Tasa Adicional por Siniestralidad Efectiva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1319040" indent="-3427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Verdana"/>
              </a:rPr>
              <a:t>Grava la siniestralidad de las empresas antiguas (Decreto Nº67, Nº días perdidos por accidente laboral / Nº trabajadores)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estaciones del seguro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(es estándar este tipo de prestaciones con la industria o hay algo especial; destacarlo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907920"/>
            <a:ext cx="8675640" cy="56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restaciones Méd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Atención Médica, Quirúrgica y Denta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Hospital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Medicamentos y Productos farmacéu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Prótesis y aparatos ortopédicos y su repa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Rehabilitación fí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Reeducación profesional.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Prestacione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Subsid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Indemniz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Pen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12720" indent="-342720">
              <a:lnSpc>
                <a:spcPct val="12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9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9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evención de Riesgos, Obligaciones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(vale comentario anterior sobre cómo deben ser los títulos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17680"/>
            <a:ext cx="86756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stado</a:t>
            </a:r>
            <a:r>
              <a:rPr b="1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1" lang="es-CL" sz="1800" spc="-1" strike="noStrike">
                <a:solidFill>
                  <a:srgbClr val="ff3300"/>
                </a:solidFill>
                <a:latin typeface="Verdana"/>
              </a:rPr>
              <a:t>(en general no queda claro el sentido de esta lámina, aclarar mejor en la forma de presenta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Supervigilancia y Fiscaliz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Prescribir todas las medidas de Higiene y Segur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7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2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Mutual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rescribir todas las medidas de higiene y segurid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Aplicar variación de cotización adicion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Realizar actividades permanentes de Prevención de Riesgo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5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3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mple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lantar las medidas de preven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stablecer y mantener al día un Reglamento Interno de Higiene y segurid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stablecer el departamento de Prevención de Riesgos cuando cuenten con más de 100 trabajador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nformar sobre los riesgos laborale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6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Verdana"/>
              <a:buAutoNum type="arabicPeriod" startAt="4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Trabajador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Cumplir con lo establecido en el reglamento interno de orden higiene y seguridad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Usar y cuidar los elementos de protección personal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370080">
              <a:lnSpc>
                <a:spcPct val="11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Cumplir con las normas e instrucciones impartidas por el servicio de salud, el organismo administrador, el departamento de prevención de riegos o el comité paritario de higiene y seguridad.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TOR ACTIVO INP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125360"/>
            <a:ext cx="8675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ctr">
              <a:lnSpc>
                <a:spcPct val="12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Sector Activo: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Organismo a cargo de la administración de la Ley de Accidentes del Trabajo y Enfermedades Profesionales, en conjunto con el sistema de mutuales privadas, promoviendo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la gestión preventiva al interior de las organizaciones, a fin de minimizar la ocurrencia de eventos de siniestralidad laboral</a:t>
            </a: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as funciones básicas que cumplen s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ntregar cobertura de salud a los trabajadores en caso de accidentes o enfermedades laborales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Asesorar a los empleadores y trabajadores en prevención de riesgos,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Pagar subsidios o pensiones si un accidente o enfermedad incapacita temporal o permanentemente a un trabajador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DATEP: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s-CL" sz="1400" spc="-1" strike="noStrike">
                <a:solidFill>
                  <a:srgbClr val="ffffff"/>
                </a:solidFill>
                <a:latin typeface="Verdana"/>
              </a:rPr>
              <a:t>Departamento encargado de gestionar los productos y actividades estratégicas asociados al Rol de Administración del Seguro de accidentes del trabajo y enfermedades profesion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2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1360" indent="-441360">
              <a:lnSpc>
                <a:spcPct val="100000"/>
              </a:lnSpc>
              <a:tabLst>
                <a:tab algn="l" pos="0"/>
                <a:tab algn="l" pos="274680"/>
                <a:tab algn="l" pos="441360"/>
                <a:tab algn="l" pos="533520"/>
                <a:tab algn="l" pos="242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30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085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826920" y="1628640"/>
            <a:ext cx="7848720" cy="360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99"/>
                </a:solidFill>
                <a:uFillTx/>
                <a:latin typeface="Arial"/>
                <a:hlinkClick r:id="rId3" action="ppaction://hlinksldjump"/>
              </a:rPr>
              <a:t>3.   PREVEN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4581360"/>
            <a:ext cx="1368360" cy="7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5  Peticiones o Reclamos de otros Organism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4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-2124720" y="3429360"/>
            <a:ext cx="496908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1125360"/>
          <a:ext cx="8353080" cy="335160"/>
        </p:xfrm>
        <a:graphic>
          <a:graphicData uri="http://schemas.openxmlformats.org/drawingml/2006/table">
            <a:tbl>
              <a:tblPr/>
              <a:tblGrid>
                <a:gridCol w="6827400"/>
                <a:gridCol w="1525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NP Sector Ac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ransvers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125892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PA DE PROCESO 2º NIVEL:  PREVEN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IÓN (usar lenguaje autocomprensivo; por ej “tasas”???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2421000"/>
            <a:ext cx="129708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2    Prestaciones Preventiv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5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80360" y="1989000"/>
            <a:ext cx="0" cy="4248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99280" y="3141720"/>
            <a:ext cx="432000" cy="431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1989000"/>
            <a:ext cx="0" cy="324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198900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1989000"/>
            <a:ext cx="0" cy="172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989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0360" y="198900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1989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8720" y="198900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198900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2000" y="198900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15280" y="3573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2781360"/>
            <a:ext cx="927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.1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Tas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00ff99"/>
                </a:solidFill>
                <a:uFillTx/>
                <a:latin typeface="Arial"/>
                <a:hlinkClick r:id="rId6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4221000"/>
            <a:ext cx="136836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stión de Consulta no Estructurad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11640" y="2349360"/>
            <a:ext cx="1152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3 Prestaciones Médic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7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278136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4Concurr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8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6360" y="364500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3.7 Atención de Dictame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 u="sng">
                <a:solidFill>
                  <a:srgbClr val="00ff99"/>
                </a:solidFill>
                <a:uFillTx/>
                <a:latin typeface="Arial"/>
                <a:hlinkClick r:id="rId9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479736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8 Atención de Resolucio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10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5229360"/>
            <a:ext cx="122364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9 Salud Ocupac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11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3716280"/>
            <a:ext cx="1224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.6 Contratación de Servici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ff99"/>
                </a:solidFill>
                <a:uFillTx/>
                <a:latin typeface="Arial"/>
                <a:hlinkClick r:id="rId12" action="ppaction://hlinksldjump"/>
              </a:rPr>
              <a:t>N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89080" y="349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rgani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58920" y="816120"/>
          <a:ext cx="6337440" cy="52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816120"/>
                    <a:ext cx="633744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9:41:53Z</dcterms:created>
  <dc:creator>Direcon</dc:creator>
  <dc:description/>
  <dc:language>en-US</dc:language>
  <cp:lastModifiedBy>Jinostroza</cp:lastModifiedBy>
  <dcterms:modified xsi:type="dcterms:W3CDTF">2007-11-15T23:11:04Z</dcterms:modified>
  <cp:revision>10</cp:revision>
  <dc:subject/>
  <dc:title>INTRODUCCIÓN </dc:title>
</cp:coreProperties>
</file>