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112-E860-49DF-BE5B-3EC07073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18A-03A2-43C9-88DC-0E91CD16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1F5-88A3-455B-824B-4DE82910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AA8-8BC3-4255-A3F1-405E1782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853B-ECC5-4567-BD7F-7F4AEAD6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93D8-EF49-4458-8AE4-58B001D9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820D-D22F-4F52-BA32-FC807D9B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CA7C-C5F8-4EB4-A342-AC9940B9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BE6B-0CF8-434E-8BB4-B54EB352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D442-0094-40A8-9DCF-5CC6E088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91A0-460E-4065-8C69-8FADB43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034-9266-4977-8F21-E6A13AAD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37B1-E3F6-4A40-881C-D5B4D17E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627F-F070-4160-B81E-040635CC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E3AC-1398-48D9-98AB-A4CFB142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CD6D-30CF-4F2B-BBF3-620B4913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BF35-7710-4596-BADD-4F4E8210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E15-74CD-44EF-91F6-55D044BD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A70-B5FA-415C-8A45-740E694D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96F-1C17-4404-AE39-29AD4EAD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816-2EA5-4178-A2C9-59C6A2C9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06F-A7C4-46B7-BCE0-72DBCD05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F6E-5164-4D0F-A1ED-0BB1745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9D0-4B53-461C-AB1E-799330A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E097-E6BB-43C6-9A43-827D08ED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C2F5-9D3E-4C2A-9180-63279272B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Resultados Detección de</a:t>
            </a:r>
            <a:br>
              <a:rPr sz="4400"/>
            </a:b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Quiebres en Gestión Públ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ploma en Gerencia Pública (PO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erazgo y RRH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formal e informal entre colega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de funciones (genér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tica reclutamiento de personal (profesionalizar proces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indu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soportes no soportan: unidad de gestión de personas (poca claridad en información, procedimientos, reglas, manejo información inte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el equipo (impacto en la institu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cía política en el negocio - SML (balances entre actividades del servic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del equipo directivo (conversación estratégica priorizando en temas urg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de tecnologí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quo… Sacar de la inercia a los equipos y funcio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a vertical (no existe discurso común ni compart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cionamiento (mediátic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exión en servicios públicos: intervención en el territorio. No existe coordinación en intervención (desde lo formal a lo estructu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otaje de información (ocultar inform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gencia en los equi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ovación gerencial (nuevas habilidades y conocimientos / ideas / llegada a otros 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ones (procesos internos y exter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 generac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datos fidedignos y actualizados) y coordinación entre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ítica mortal a los directivos (compromisos, nombramient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adicion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cultura de innovació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ga administrativa versus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9:34:13Z</dcterms:created>
  <dc:creator>Alvaro Ramírez</dc:creator>
  <dc:description/>
  <dc:language>en-US</dc:language>
  <cp:lastModifiedBy>Alvaro Ramirez</cp:lastModifiedBy>
  <dcterms:modified xsi:type="dcterms:W3CDTF">2007-11-12T18:29:46Z</dcterms:modified>
  <cp:revision>3</cp:revision>
  <dc:subject/>
  <dc:title>Quiebres </dc:title>
</cp:coreProperties>
</file>