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D7F2-CF41-42A3-ADB4-9588E1F8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678-5F7C-4FEB-9917-9F1D1A87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552-FDBC-4220-96DA-D7B3EB55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907-CC7B-4BDB-BBE9-C723AB0F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03AB-A9E3-4639-B11D-7ABCBFD5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D298-1945-421E-9D52-E3AAC04F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5A3B-5A1C-40ED-B966-D114A31A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AAE0-02D6-4757-B843-65172142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681A-6215-4AC3-BFD1-58A873D8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8882-D4A9-4F56-A6BC-D8A1F3C8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0245-FB2B-49D2-B925-5CEA7633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498-659F-4F86-B3B5-FDF1E53C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7303-DA40-4F40-9E23-B699DB11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FD49-F31B-4076-87C0-81EEC963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ED03-2F73-43C6-A3BF-9B2EDDC4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A594-39D6-4960-B389-3990C036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1378-3967-4E8D-A190-18A2C102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C49C-8907-4814-A77E-7F786009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2CB3-A926-42F9-A786-3B811371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957-3D2D-4E4A-8493-7E4845F9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DB8-A2EC-48ED-9760-3541FB13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161-FAE5-4AAC-8679-C8015A4D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B74-2A1B-4C20-86F9-BB739AAD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616-8407-4339-881B-F7AF0453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F4AA-2DAC-464D-A9C6-CBC9567A5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56C3-C1EE-4B6D-9B7D-6DE3241C3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Resultados Detección de</a:t>
            </a:r>
            <a:br>
              <a:rPr sz="4400"/>
            </a:b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Quiebres en Gestión Públ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ploma en Gerencia Pública (POL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derazgo y RRH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ción formal e informal entre colegas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ción de funciones (genér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ítica reclutamiento de personal (profesionalizar proces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de información (indu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soportes no soportan: unidad de gestión de personas (poca claridad en información, procedimientos, reglas, manejo información inte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os en el equipo (impacto en la institu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cía política en el negocio - SML (balances entre actividades del servic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ción del equipo directivo (conversación estratégica priorizando en temas urg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ción de tecnologí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quo… Sacar de la inercia a los equipos y funcio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va vertical (no existe discurso común ni comparti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cionamiento (mediátic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onexión en servicios públicos: intervención en el territorio. No existe coordinación en intervención (desde lo formal a lo estructu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otaje de información (ocultar inform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gencia en los equip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ovación gerencial (nuevas habilidades y conocimientos / ideas / llegada a otros 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ciones (procesos internos y exter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o generac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de información (datos fidedignos y actualizados) y coordinación entre equi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ítica mortal a los directivos (compromisos, nombramiento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adicion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cultura de innovació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ga administrativa versus giro d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9:34:13Z</dcterms:created>
  <dc:creator>Alvaro Ramírez</dc:creator>
  <dc:description/>
  <dc:language>en-US</dc:language>
  <cp:lastModifiedBy>Alvaro Ramirez</cp:lastModifiedBy>
  <dcterms:modified xsi:type="dcterms:W3CDTF">2007-11-12T18:29:46Z</dcterms:modified>
  <cp:revision>3</cp:revision>
  <dc:subject/>
  <dc:title>Quiebres </dc:title>
</cp:coreProperties>
</file>