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63D-0E68-4FFF-98C3-806FFE17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91F-8689-46CF-B251-FBAC15A0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B01-24DD-4F52-847E-C5DF1FCE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C42-484F-41CD-A532-5C31C1DD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F7AD-A724-45CC-816C-501FBBB7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808C-709D-4F4F-B83F-F11AE138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F5D3-26B3-44E2-BAD4-C36B806C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9130-71CE-466E-9EF6-5ADEF586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AA6D-89FB-4843-BC15-B7DB0DE7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AA81-0AD6-4C29-8AA7-FB43F7BF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419E-2F9C-4E1C-B80B-D64F72E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4C5-A20F-44C9-B911-0E66061F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0D52-86B6-4058-8531-31CE2CB5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1D5B-F70C-4CE3-A464-BCAC403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7013-0D11-4F3D-93F0-D0F4E07B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21E5-A262-467B-B1E8-8B85F5D9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C775-D670-478C-ABC9-331696AE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FEB-8802-4A01-8EC0-1E87586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FAF-7A28-4B01-9043-CBFA5668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7DE-F0C9-432B-AA89-E4F564AF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D31-C42A-4E35-A0B0-0E73953E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5AA-34B5-418D-818F-52824D89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883-5609-4353-9B81-81B0747A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670-853A-4F40-8A84-246513E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0B87-A25B-4AB5-B028-81857A80C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1026-1D80-47FF-AF69-2403D8BCA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Resultados Detección de</a:t>
            </a:r>
            <a:br>
              <a:rPr sz="4400"/>
            </a:b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Quiebres en Gestión Públ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ploma en Gerencia Pública (PO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erazgo y RRH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formal e informal entre colega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de funciones (genér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tica reclutamiento de personal (profesionalizar proces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indu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soportes no soportan: unidad de gestión de personas (poca claridad en información, procedimientos, reglas, manejo información inte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el equipo (impacto en la institu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cía política en el negocio - SML (balances entre actividades del servic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del equipo directivo (conversación estratégica priorizando en temas urg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de tecnologí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quo… Sacar de la inercia a los equipos y funcio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a vertical (no existe discurso común ni compart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cionamiento (mediátic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exión en servicios públicos: intervención en el territorio. No existe coordinación en intervención (desde lo formal a lo estructu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otaje de información (ocultar inform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gencia en los equi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ovación gerencial (nuevas habilidades y conocimientos / ideas / llegada a otros 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ones (procesos internos y exter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 generac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datos fidedignos y actualizados) y coordinación entre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ítica mortal a los directivos (compromisos, nombramient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adicion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cultura de innovació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ga administrativa versus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9:34:13Z</dcterms:created>
  <dc:creator>Alvaro Ramírez</dc:creator>
  <dc:description/>
  <dc:language>en-US</dc:language>
  <cp:lastModifiedBy>Alvaro Ramirez</cp:lastModifiedBy>
  <dcterms:modified xsi:type="dcterms:W3CDTF">2007-11-12T18:29:46Z</dcterms:modified>
  <cp:revision>3</cp:revision>
  <dc:subject/>
  <dc:title>Quiebres </dc:title>
</cp:coreProperties>
</file>