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B638-95E4-4B70-A2B1-5E9804A6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487D-8939-44E4-8EED-F5C0B04C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2CC9-6A9F-4997-B109-5EFE2B81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55A5-5424-4872-80D9-C59805ED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CC1B-B700-444C-81DE-F7E0DA0B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2DB0-B9A0-4949-8FC9-CECA7DBB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A429-974F-436C-BF30-F24D0CF2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B37B-62B4-4352-8B58-DF432D96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878-4F29-445E-9201-2540EFC2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48FA-A3F3-48F0-BA09-D5DBCFBE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0B58-36CC-4C76-82FD-FE2FF9B0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699D-A7A6-42C6-BDBB-65F39415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AE02-8F4C-48E4-9016-57AF97C3A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ES%20LUTHIERS-DANIEL%20RABINOVICH" descr=""/>
          <p:cNvPicPr/>
          <p:nvPr/>
        </p:nvPicPr>
        <p:blipFill>
          <a:blip r:embed="rId1"/>
          <a:stretch/>
        </p:blipFill>
        <p:spPr>
          <a:xfrm>
            <a:off x="6572160" y="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42" name="LES%20LUTHIERS-C%20LOPEZ%20PUCCIO" descr=""/>
          <p:cNvPicPr/>
          <p:nvPr/>
        </p:nvPicPr>
        <p:blipFill>
          <a:blip r:embed="rId2"/>
          <a:stretch/>
        </p:blipFill>
        <p:spPr>
          <a:xfrm>
            <a:off x="3286080" y="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43" name="LES%20LUTHIERS-C%20NUÑEZ%20CORTEZ" descr=""/>
          <p:cNvPicPr/>
          <p:nvPr/>
        </p:nvPicPr>
        <p:blipFill>
          <a:blip r:embed="rId3"/>
          <a:stretch/>
        </p:blipFill>
        <p:spPr>
          <a:xfrm>
            <a:off x="1600200" y="342900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LES%20LUTHIERS-MARCOS%20MUNDSTOCK" descr=""/>
          <p:cNvPicPr/>
          <p:nvPr/>
        </p:nvPicPr>
        <p:blipFill>
          <a:blip r:embed="rId4"/>
          <a:stretch/>
        </p:blipFill>
        <p:spPr>
          <a:xfrm>
            <a:off x="0" y="0"/>
            <a:ext cx="256068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LES%20LUTHIERS-JORGE%20MARONNA" descr=""/>
          <p:cNvPicPr/>
          <p:nvPr/>
        </p:nvPicPr>
        <p:blipFill>
          <a:blip r:embed="rId5"/>
          <a:stretch/>
        </p:blipFill>
        <p:spPr>
          <a:xfrm>
            <a:off x="4876920" y="3429000"/>
            <a:ext cx="2571480" cy="3429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2476440"/>
            <a:ext cx="77724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Frases Imperdibl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de Les Luthi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LES%20LUTHIERS-C%20NUÑEZ%20CORTEZ" descr=""/>
          <p:cNvPicPr/>
          <p:nvPr/>
        </p:nvPicPr>
        <p:blipFill>
          <a:blip r:embed="rId1"/>
          <a:stretch/>
        </p:blipFill>
        <p:spPr>
          <a:xfrm>
            <a:off x="0" y="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3429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i no eres parte de la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olución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res parte del problem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LES%20LUTHIERS-JORGE%20MARONNA" descr=""/>
          <p:cNvPicPr/>
          <p:nvPr/>
        </p:nvPicPr>
        <p:blipFill>
          <a:blip r:embed="rId1"/>
          <a:stretch/>
        </p:blipFill>
        <p:spPr>
          <a:xfrm>
            <a:off x="0" y="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3429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Una muj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e arrastró a la bebida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 nunca tuve la cortesía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 darle las gracia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LES%20LUTHIERS-MARCOS%20MUNDSTOCK" descr=""/>
          <p:cNvPicPr/>
          <p:nvPr/>
        </p:nvPicPr>
        <p:blipFill>
          <a:blip r:embed="rId1"/>
          <a:stretch/>
        </p:blipFill>
        <p:spPr>
          <a:xfrm>
            <a:off x="0" y="0"/>
            <a:ext cx="2560680" cy="3429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2280" y="3429000"/>
            <a:ext cx="883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rrar es humano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ero echarle la culpa a otro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s m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 humano todaví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LES%20LUTHIERS-C%20LOPEZ%20PUCCIO" descr=""/>
          <p:cNvPicPr/>
          <p:nvPr/>
        </p:nvPicPr>
        <p:blipFill>
          <a:blip r:embed="rId1"/>
          <a:stretch/>
        </p:blipFill>
        <p:spPr>
          <a:xfrm>
            <a:off x="0" y="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3429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o importante no es saber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ino tener el teléfono del que sab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LES%20LUTHIERS-DANIEL%20RABINOVICH" descr=""/>
          <p:cNvPicPr/>
          <p:nvPr/>
        </p:nvPicPr>
        <p:blipFill>
          <a:blip r:embed="rId1"/>
          <a:stretch/>
        </p:blipFill>
        <p:spPr>
          <a:xfrm>
            <a:off x="0" y="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3429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o no sufro de locura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 disfruto a cada minut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LES%20LUTHIERS-C%20NUÑEZ%20CORTEZ" descr=""/>
          <p:cNvPicPr/>
          <p:nvPr/>
        </p:nvPicPr>
        <p:blipFill>
          <a:blip r:embed="rId1"/>
          <a:stretch/>
        </p:blipFill>
        <p:spPr>
          <a:xfrm>
            <a:off x="0" y="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95360" y="342900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s bueno dejar el trago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o malo es no acordarse don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LES%20LUTHIERS-JORGE%20MARONNA" descr=""/>
          <p:cNvPicPr/>
          <p:nvPr/>
        </p:nvPicPr>
        <p:blipFill>
          <a:blip r:embed="rId1"/>
          <a:stretch/>
        </p:blipFill>
        <p:spPr>
          <a:xfrm>
            <a:off x="0" y="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3429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 inteligencia me persigue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ero yo soy m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 rápid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LES%20LUTHIERS-MARCOS%20MUNDSTOCK" descr=""/>
          <p:cNvPicPr/>
          <p:nvPr/>
        </p:nvPicPr>
        <p:blipFill>
          <a:blip r:embed="rId1"/>
          <a:stretch/>
        </p:blipFill>
        <p:spPr>
          <a:xfrm>
            <a:off x="0" y="0"/>
            <a:ext cx="2560680" cy="3429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280" y="3429000"/>
            <a:ext cx="883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 verdad absoluta no existe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 esto 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bsolutamente cierto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LES%20LUTHIERS-C%20LOPEZ%20PUCCIO" descr=""/>
          <p:cNvPicPr/>
          <p:nvPr/>
        </p:nvPicPr>
        <p:blipFill>
          <a:blip r:embed="rId1"/>
          <a:stretch/>
        </p:blipFill>
        <p:spPr>
          <a:xfrm>
            <a:off x="0" y="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3429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ay un mundo mejor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ero es carísim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LES%20LUTHIERS-DANIEL%20RABINOVICH" descr=""/>
          <p:cNvPicPr/>
          <p:nvPr/>
        </p:nvPicPr>
        <p:blipFill>
          <a:blip r:embed="rId1"/>
          <a:stretch/>
        </p:blipFill>
        <p:spPr>
          <a:xfrm>
            <a:off x="0" y="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34290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 muj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que no tiene suer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n los hombres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o sab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 suerte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que tien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LES%20LUTHIERS-MARCOS%20MUNDSTOCK" descr=""/>
          <p:cNvPicPr/>
          <p:nvPr/>
        </p:nvPicPr>
        <p:blipFill>
          <a:blip r:embed="rId1"/>
          <a:stretch/>
        </p:blipFill>
        <p:spPr>
          <a:xfrm>
            <a:off x="0" y="0"/>
            <a:ext cx="2560680" cy="3429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342900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odo tiempo pasado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ue anterior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LES%20LUTHIERS-C%20NUÑEZ%20CORTEZ" descr=""/>
          <p:cNvPicPr/>
          <p:nvPr/>
        </p:nvPicPr>
        <p:blipFill>
          <a:blip r:embed="rId1"/>
          <a:stretch/>
        </p:blipFill>
        <p:spPr>
          <a:xfrm>
            <a:off x="0" y="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95360" y="3429000"/>
            <a:ext cx="81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 pereza es la mad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 todos los vicio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 como madre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ay que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spetarl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LES%20LUTHIERS-JORGE%20MARONNA" descr=""/>
          <p:cNvPicPr/>
          <p:nvPr/>
        </p:nvPicPr>
        <p:blipFill>
          <a:blip r:embed="rId1"/>
          <a:stretch/>
        </p:blipFill>
        <p:spPr>
          <a:xfrm>
            <a:off x="0" y="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34290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i un pajarito te dice algo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bes estar loc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ues los pájaros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o habl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LES%20LUTHIERS-MARCOS%20MUNDSTOCK" descr=""/>
          <p:cNvPicPr/>
          <p:nvPr/>
        </p:nvPicPr>
        <p:blipFill>
          <a:blip r:embed="rId1"/>
          <a:stretch/>
        </p:blipFill>
        <p:spPr>
          <a:xfrm>
            <a:off x="0" y="0"/>
            <a:ext cx="2560680" cy="3429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2280" y="3429000"/>
            <a:ext cx="883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o te tomes la vida en serio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l fin y al cab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o saldrás vivo de ell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LES%20LUTHIERS-C%20LOPEZ%20PUCCIO" descr=""/>
          <p:cNvPicPr/>
          <p:nvPr/>
        </p:nvPicPr>
        <p:blipFill>
          <a:blip r:embed="rId1"/>
          <a:stretch/>
        </p:blipFill>
        <p:spPr>
          <a:xfrm>
            <a:off x="0" y="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3429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lices los que nada esperan, porque nunca serán defraudad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LES%20LUTHIERS-DANIEL%20RABINOVICH" descr=""/>
          <p:cNvPicPr/>
          <p:nvPr/>
        </p:nvPicPr>
        <p:blipFill>
          <a:blip r:embed="rId1"/>
          <a:stretch/>
        </p:blipFill>
        <p:spPr>
          <a:xfrm>
            <a:off x="0" y="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3429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 triste no es ir al cementerio, sino quedar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LES%20LUTHIERS-C%20NUÑEZ%20CORTEZ" descr=""/>
          <p:cNvPicPr/>
          <p:nvPr/>
        </p:nvPicPr>
        <p:blipFill>
          <a:blip r:embed="rId1"/>
          <a:stretch/>
        </p:blipFill>
        <p:spPr>
          <a:xfrm>
            <a:off x="0" y="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95360" y="3429000"/>
            <a:ext cx="81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ay dos palabr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que te abrirá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uchas puertas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ire y Empuje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LES%20LUTHIERS-JORGE%20MARONNA" descr=""/>
          <p:cNvPicPr/>
          <p:nvPr/>
        </p:nvPicPr>
        <p:blipFill>
          <a:blip r:embed="rId1"/>
          <a:stretch/>
        </p:blipFill>
        <p:spPr>
          <a:xfrm>
            <a:off x="0" y="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3429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ara que tomar y manej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i puedes fumar y volar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LES%20LUTHIERS-MARCOS%20MUNDSTOCK" descr=""/>
          <p:cNvPicPr/>
          <p:nvPr/>
        </p:nvPicPr>
        <p:blipFill>
          <a:blip r:embed="rId1"/>
          <a:stretch/>
        </p:blipFill>
        <p:spPr>
          <a:xfrm>
            <a:off x="0" y="0"/>
            <a:ext cx="2560680" cy="3429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280" y="3429000"/>
            <a:ext cx="883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 cada diez person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que miran televisión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inco son la mit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LES%20LUTHIERS-C%20LOPEZ%20PUCCIO" descr=""/>
          <p:cNvPicPr/>
          <p:nvPr/>
        </p:nvPicPr>
        <p:blipFill>
          <a:blip r:embed="rId1"/>
          <a:stretch/>
        </p:blipFill>
        <p:spPr>
          <a:xfrm>
            <a:off x="0" y="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429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ener la conciencia limpi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toma de mala memoria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LES%20LUTHIERS-DANIEL%20RABINOVICH" descr=""/>
          <p:cNvPicPr/>
          <p:nvPr/>
        </p:nvPicPr>
        <p:blipFill>
          <a:blip r:embed="rId1"/>
          <a:stretch/>
        </p:blipFill>
        <p:spPr>
          <a:xfrm>
            <a:off x="0" y="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429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ez que lucha contra la corriente, muere electrocutado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ES%20LUTHIERS-C%20NUÑEZ%20CORTEZ" descr=""/>
          <p:cNvPicPr/>
          <p:nvPr/>
        </p:nvPicPr>
        <p:blipFill>
          <a:blip r:embed="rId1"/>
          <a:stretch/>
        </p:blipFill>
        <p:spPr>
          <a:xfrm>
            <a:off x="0" y="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95360" y="342900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os honestos son inadaptados sociales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ES%20LUTHIERS-JORGE%20MARONNA" descr=""/>
          <p:cNvPicPr/>
          <p:nvPr/>
        </p:nvPicPr>
        <p:blipFill>
          <a:blip r:embed="rId1"/>
          <a:stretch/>
        </p:blipFill>
        <p:spPr>
          <a:xfrm>
            <a:off x="0" y="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3429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que nace pobre y feo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iene grandes posibilidad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 que al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recer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e le desarrollen ambas condicio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ES%20LUTHIERS-MARCOS%20MUNDSTOCK" descr=""/>
          <p:cNvPicPr/>
          <p:nvPr/>
        </p:nvPicPr>
        <p:blipFill>
          <a:blip r:embed="rId1"/>
          <a:stretch/>
        </p:blipFill>
        <p:spPr>
          <a:xfrm>
            <a:off x="0" y="0"/>
            <a:ext cx="2560680" cy="3429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3429000"/>
            <a:ext cx="883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i la montaña viene hacia ti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..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¡¡¡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rre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s un derrumb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LES%20LUTHIERS-C%20LOPEZ%20PUCCIO" descr=""/>
          <p:cNvPicPr/>
          <p:nvPr/>
        </p:nvPicPr>
        <p:blipFill>
          <a:blip r:embed="rId1"/>
          <a:stretch/>
        </p:blipFill>
        <p:spPr>
          <a:xfrm>
            <a:off x="0" y="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3429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o importante no es ganar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ino hacer perder al otr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ES%20LUTHIERS-DANIEL%20RABINOVICH" descr=""/>
          <p:cNvPicPr/>
          <p:nvPr/>
        </p:nvPicPr>
        <p:blipFill>
          <a:blip r:embed="rId1"/>
          <a:stretch/>
        </p:blipFill>
        <p:spPr>
          <a:xfrm>
            <a:off x="0" y="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3429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o soy un completo inútil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or lo menos sirvo de mal ejempl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0:42:50Z</dcterms:created>
  <dc:creator>ANGEL HUMBERTO GARCIA CUELLO</dc:creator>
  <dc:description/>
  <dc:language>en-US</dc:language>
  <cp:lastModifiedBy>Alvaro Ramírez</cp:lastModifiedBy>
  <dcterms:modified xsi:type="dcterms:W3CDTF">2007-09-14T02:23:44Z</dcterms:modified>
  <cp:revision>11</cp:revision>
  <dc:subject/>
  <dc:title>Presentación de PowerPoint</dc:title>
</cp:coreProperties>
</file>