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F58-BB7D-4673-B057-C790EB80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776-1E54-4807-A054-341BBB2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F52-C46C-451A-8BF3-A6AD3C35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A2D-4696-44D6-9163-9AD183A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866-FC8E-4523-A432-917857F6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E00-908C-43D9-9625-2AE50C06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CC7-C786-497B-A2BC-69AFFF58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61B-9665-46CA-B4E3-76C6E6EF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C66-14BF-42AD-AFD8-79A6004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262-D25E-4982-BE35-8D3FD76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71C-36E5-4B04-9282-BAFEC97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E82-7B35-4B18-9D40-3794D47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C940-6C32-4829-89A8-1B1CFE51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ódul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br>
              <a:rPr sz="2800"/>
            </a:br>
            <a:br>
              <a:rPr sz="2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rabajo de Evalu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6913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trabajo se desarrolla en los mismos grupos del trabajo general y se aplica sobre la misma institución bajo estud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a de dos sec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eño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gnóstico 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45072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dicacione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7560" y="4941720"/>
            <a:ext cx="35701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zo de entrega: 7 de 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o de entrega: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o: Reporte en formato p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) Rediseño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proceso de negocio relevante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 un diagnóstico del proceso, que incluya mapa del proceso, análisis de sus métricas y evaluación sintética de su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ule un proyecto de rediseño y justifíq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 rediseño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a estrategia de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blezca los mecanismos de verificación del éxito del re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) Diagnóstico 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institución objeto de estudio, realice un análisis del estado de su apoyo de Tecnologías de Información y Comunicaciones abordando los siguiente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er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principales servicios y aplicaciones TIC que utiliza hoy en día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tecnologías se utilizan en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nivel de comunicación interna tien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apoyo TIC tienen los procesos sustantivos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acuerdo con la estrategia de la institución, que elementos del apoyo TIC son relevante en su desarrol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la conexión con otras institu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en el proceso de interacción con clientes/usuarios extern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Realice un análisis FODA del actual soporte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ómo se organiza el soport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Hacia donde se orienta el desarrollo TIC de la institución? ¿Qué proyectos están en desarrollo o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ámbitos prioritarios de acción en materia d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recomendaciones haría sobre el desarrollo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21:17Z</dcterms:created>
  <dc:creator>.</dc:creator>
  <dc:description/>
  <dc:language>en-US</dc:language>
  <cp:lastModifiedBy>.</cp:lastModifiedBy>
  <dcterms:modified xsi:type="dcterms:W3CDTF">2007-10-26T11:44:15Z</dcterms:modified>
  <cp:revision>3</cp:revision>
  <dc:subject/>
  <dc:title>Módulo de Procesos Tecnologías de Información y  Gobierno Electrónico   Trabajo de Evaluación </dc:title>
</cp:coreProperties>
</file>