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4B5C-75EC-48DF-9EF8-D0C440FC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4E2-0C75-467E-87DE-FA9E1468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7DB-01BD-4C5D-8A4B-772A8722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DD3-4A0B-4E2C-B41E-044F56AD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D617-7E8C-4878-A0EB-A5BCF6AB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106-D8EF-4BFA-9738-1F2A59EE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E44-DFA0-48EC-956D-DED90556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E9AB-B905-432F-87C7-A24873EE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4E0D-14F4-4D66-8650-57733D6B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C33-FFE7-4AEA-A0E8-BDC2519C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85A3-28B9-422F-A43D-7965656E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AEC1-5E04-4381-A38D-F1144A92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96E4-84D0-449E-8813-B6694DB98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ódulo de Proces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ecnologías de Información y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obierno Electrónico </a:t>
            </a:r>
            <a:br>
              <a:rPr sz="2800"/>
            </a:br>
            <a:br>
              <a:rPr sz="28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rabajo de Evaluac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042560" y="1628280"/>
            <a:ext cx="69138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trabajo se desarrolla en los mismos grupos del trabajo general y se aplica sobre la misma institución bajo estud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a de dos sec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iseño de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agnóstico 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450720"/>
            <a:ext cx="30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dicaciones Ge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07560" y="4941720"/>
            <a:ext cx="357012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zo de entrega: 7 de Dicie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dio de entrega: 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to: Reporte en formato p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) Rediseño de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un proceso de negocio relevante de la instit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ga un diagnóstico del proceso, que incluya mapa del proceso, análisis de sus métricas y evaluación sintética de su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ule un proyecto de rediseño y justifíq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tee un rediseño del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tee una estrategia de imple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blezca los mecanismos de verificación del éxito del re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) Diagnóstico 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la institución objeto de estudio, realice un análisis del estado de su apoyo de Tecnologías de Información y Comunicaciones abordando los siguientes aspec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enera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Cuáles son los principales servicios y aplicaciones TIC que utiliza hoy en día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Qué tecnologías se utilizan en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Qué nivel de comunicación interna tiene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Qué apoyo TIC tienen los procesos sustantivos de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De acuerdo con la estrategia de la institución, que elementos del apoyo TIC son relevante en su desarroll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Apoyan las TIC la conexión con otras institucion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Apoyan las TIC en el proceso de interacción con clientes/usuarios extern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Realice un análisis FODA del actual soporte TIC de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Cómo se organiza el soporte TIC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Hacia donde se orienta el desarrollo TIC de la institución? ¿Qué proyectos están en desarrollo o planificad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Cuáles son los ámbitos prioritarios de acción en materia de TIC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Qué recomendaciones haría sobre el desarrollo TIC de la instituc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1:21:17Z</dcterms:created>
  <dc:creator>.</dc:creator>
  <dc:description/>
  <dc:language>en-US</dc:language>
  <cp:lastModifiedBy>.</cp:lastModifiedBy>
  <dcterms:modified xsi:type="dcterms:W3CDTF">2007-10-26T11:44:15Z</dcterms:modified>
  <cp:revision>3</cp:revision>
  <dc:subject/>
  <dc:title>Módulo de Procesos Tecnologías de Información y  Gobierno Electrónico   Trabajo de Evaluación </dc:title>
</cp:coreProperties>
</file>