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E19-E062-44ED-9201-302C7887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7A9-2925-4E9D-BB3F-D4471450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A6A-CD37-4441-9C23-E1F99D6F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584-19B4-459F-92FF-90A5EE81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393-5082-48D5-A011-B1550A8B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83F-BF8F-4928-BC44-AAF4C13F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8E0-32A1-48B4-B121-70653898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B346-E75F-46CA-9CF8-3E73B17C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A06-399F-4919-8A6F-8E51B08C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B2B-15FD-492C-B239-F4B90EFA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3DD-6896-4C83-86A8-FE2E8972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EF7-8A22-481A-A3EC-D306BDB5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CDD1-40ED-4D9D-AB6D-3888570BD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ódulo de Proces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ecnologías de Información y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obierno Electrónico </a:t>
            </a:r>
            <a:br>
              <a:rPr sz="2800"/>
            </a:br>
            <a:br>
              <a:rPr sz="28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rabajo de Evalua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42560" y="1628280"/>
            <a:ext cx="69138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trabajo se desarrolla en los mismos grupos del trabajo general y se aplica sobre la misma institución bajo estud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a de dos sec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eño de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agnóstico 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450720"/>
            <a:ext cx="30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dicacione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7560" y="4941720"/>
            <a:ext cx="357012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zo de entrega: 7 de Dic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o de entrega: 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o: Reporte en formato p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) Rediseño de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un proceso de negocio relevante de la instit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ga un diagnóstico del proceso, que incluya mapa del proceso, análisis de sus métricas y evaluación sintética de su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ule un proyecto de rediseño y justifíq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tee un rediseño d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tee una estrategia de 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blezca los mecanismos de verificación del éxito del re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) Diagnóstico 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la institución objeto de estudio, realice un análisis del estado de su apoyo de Tecnologías de Información y Comunicaciones abordando los siguientes aspec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enera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Cuáles son los principales servicios y aplicaciones TIC que utiliza hoy en día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Qué tecnologías se utilizan en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Qué nivel de comunicación interna tiene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Qué apoyo TIC tienen los procesos sustantivos de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De acuerdo con la estrategia de la institución, que elementos del apoyo TIC son relevante en su desarroll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Apoyan las TIC la conexión con otras institucion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Apoyan las TIC en el proceso de interacción con clientes/usuarios extern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Realice un análisis FODA del actual soporte TIC de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Cómo se organiza el soporte TIC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Hacia donde se orienta el desarrollo TIC de la institución? ¿Qué proyectos están en desarrollo o planific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Cuáles son los ámbitos prioritarios de acción en materia de TIC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Qué recomendaciones haría sobre el desarrollo TIC de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1:21:17Z</dcterms:created>
  <dc:creator>.</dc:creator>
  <dc:description/>
  <dc:language>en-US</dc:language>
  <cp:lastModifiedBy>.</cp:lastModifiedBy>
  <dcterms:modified xsi:type="dcterms:W3CDTF">2007-10-26T11:44:15Z</dcterms:modified>
  <cp:revision>3</cp:revision>
  <dc:subject/>
  <dc:title>Módulo de Procesos Tecnologías de Información y  Gobierno Electrónico   Trabajo de Evaluación </dc:title>
</cp:coreProperties>
</file>