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92AF-89F0-4A88-9BE3-D19DB4F5EA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4DF-C5C8-42C6-8601-D31B4707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BDF-4C83-4ED8-83ED-C5A02E0D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581-ABB7-46E1-9683-89B12765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F5D-C5F9-4C54-AC45-E5E7127C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93C-2C31-4918-A421-FCBE11EC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EA3-20BE-49A8-927B-D58F493C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E6F-A2FE-4081-BFC4-26D20EE8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629-8EA9-409C-AC76-5CD16220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427-F5FD-4C87-B974-3B857D3A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681-7A65-4637-BBC8-CABDBBE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925-0A12-43E3-B034-7CDD2F6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C71-71AA-4527-AA42-9829603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73C-C1AD-46B9-A928-412BDA66B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image" Target="../media/image6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447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AGRAMA DE ISHIK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40000" y="1773360"/>
            <a:ext cx="7047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una de las causas principales (2-6) se escriben en un recuadro y se conectan con la flech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104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10000" y="1279440"/>
            <a:ext cx="539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-252360" y="314172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7760" y="200016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5013360"/>
            <a:ext cx="5133960" cy="639720"/>
          </a:xfrm>
          <a:prstGeom prst="rightArrow">
            <a:avLst>
              <a:gd name="adj1" fmla="val 62500"/>
              <a:gd name="adj2" fmla="val 190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2000" y="5084640"/>
            <a:ext cx="133200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657600"/>
            <a:ext cx="173988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6076800"/>
            <a:ext cx="29718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cisiones de la Di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6076800"/>
            <a:ext cx="258588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municación inefic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3657600"/>
            <a:ext cx="14778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ferta limit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81720" y="5520960"/>
            <a:ext cx="34776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76720" y="5520960"/>
            <a:ext cx="34776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0000" y="4493880"/>
            <a:ext cx="439200" cy="62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7560" y="4493880"/>
            <a:ext cx="439200" cy="62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92360" y="1700280"/>
            <a:ext cx="8091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ñadir causas para cad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áre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princip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l final de líneas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zadas paralela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la flecha central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044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4880" y="1120680"/>
            <a:ext cx="5394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610000" cy="337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98900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6021360"/>
            <a:ext cx="5132520" cy="639720"/>
          </a:xfrm>
          <a:prstGeom prst="rightArrow">
            <a:avLst>
              <a:gd name="adj1" fmla="val 62500"/>
              <a:gd name="adj2" fmla="val 71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6137280"/>
            <a:ext cx="154764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3962520"/>
            <a:ext cx="1120680" cy="19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724280"/>
            <a:ext cx="10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741640" y="5761080"/>
            <a:ext cx="13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81360" y="520056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07120" y="4800600"/>
            <a:ext cx="130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3581280"/>
            <a:ext cx="2361960" cy="43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3962520"/>
            <a:ext cx="1943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4419720"/>
            <a:ext cx="20890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xceso de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11760" y="4479840"/>
            <a:ext cx="1479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21600" y="5440320"/>
            <a:ext cx="22622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33600" y="44798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92360" y="1557360"/>
            <a:ext cx="79182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ñadir causas relacionadas para cada causa ya anotadas y así sucesi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1044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84600" y="1039680"/>
            <a:ext cx="539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2436840" cy="337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1773360"/>
            <a:ext cx="1654200" cy="112068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600 h 1120680"/>
              <a:gd name="textAreaBottom" fmla="*/ 86508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6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6218280"/>
            <a:ext cx="5132520" cy="639720"/>
          </a:xfrm>
          <a:prstGeom prst="rightArrow">
            <a:avLst>
              <a:gd name="adj1" fmla="val 62500"/>
              <a:gd name="adj2" fmla="val 71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4648320"/>
            <a:ext cx="1044720" cy="17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6019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895120" y="56386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71440" y="502920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3657600" cy="43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2095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4000" y="6237360"/>
            <a:ext cx="144000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724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sencia de man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ubuso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260280"/>
            <a:ext cx="6846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8880" y="1511280"/>
            <a:ext cx="560736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52840" y="1603440"/>
            <a:ext cx="5487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ff"/>
                </a:solidFill>
                <a:latin typeface="Times New Roman"/>
              </a:rPr>
              <a:t>Diagrama que muestra la relación sistemática entre un resultado fijo y sus ca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352680"/>
            <a:ext cx="8534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herramienta es útil en la identificación de las posibles causas de un problema, y representa las relaciones entre algunos efectos y sus cau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ambiente no-manufacturero, las categorías de causas potenciales incluyen políticas, personal, procedimientos y planta (las 4 P'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240" y="2590920"/>
            <a:ext cx="273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75560" y="72720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20880" y="1955880"/>
            <a:ext cx="3975120" cy="163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09680" y="4635360"/>
            <a:ext cx="4467240" cy="1222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31840" y="4148280"/>
            <a:ext cx="328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de procesos por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616720" y="1911240"/>
            <a:ext cx="2349360" cy="1451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67440" y="3462480"/>
            <a:ext cx="197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pa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0880" y="1521000"/>
            <a:ext cx="249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de var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88080" y="89856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2158920"/>
            <a:ext cx="8394480" cy="3289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3400" y="2298600"/>
            <a:ext cx="78519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aborarlo es una labor educativa en sí misma, favorece el intercambio de técnicas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yuda a determinar el tipo de datos a obtener con el fin de confirmar si los factores seleccionados fueron realmente las causas del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a prevenir problemas, cuando se detectan causas potenciales de un problema, éstas pueden prevenirse si se adoptan controles aprop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uestra la habilidad profesional que posee el personal encargado del proceso; entre más alto sea el nivel, mejor será el diagrama resul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9400" y="88740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50920" y="1844640"/>
            <a:ext cx="2422080" cy="1199880"/>
            <a:chOff x="250920" y="1844640"/>
            <a:chExt cx="2422080" cy="1199880"/>
          </a:xfrm>
        </p:grpSpPr>
        <p:sp>
          <p:nvSpPr>
            <p:cNvPr id="95" name=""/>
            <p:cNvSpPr/>
            <p:nvPr/>
          </p:nvSpPr>
          <p:spPr>
            <a:xfrm>
              <a:off x="250920" y="1844640"/>
              <a:ext cx="2422080" cy="1199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41160" y="1944720"/>
              <a:ext cx="1718640" cy="899280"/>
              <a:chOff x="641160" y="1944720"/>
              <a:chExt cx="1718640" cy="899280"/>
            </a:xfrm>
          </p:grpSpPr>
          <p:sp>
            <p:nvSpPr>
              <p:cNvPr id="97" name=""/>
              <p:cNvSpPr/>
              <p:nvPr/>
            </p:nvSpPr>
            <p:spPr>
              <a:xfrm>
                <a:off x="797400" y="2444400"/>
                <a:ext cx="156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7400" y="1944720"/>
                <a:ext cx="54648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44240" y="1944720"/>
                <a:ext cx="468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41160" y="2444040"/>
                <a:ext cx="39060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1188000" y="2444040"/>
                <a:ext cx="31248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735200" y="2444040"/>
                <a:ext cx="31212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127320"/>
            <a:ext cx="1670040" cy="3730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49360"/>
            <a:ext cx="914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desarro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1736640"/>
            <a:ext cx="617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cep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agrama Causa efecto es una forma de organizar y representar las diferentes causas de un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agrama Causa - Efecto se conoce también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ina de 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4360" y="2708280"/>
            <a:ext cx="1739880" cy="1001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56000" y="1125360"/>
            <a:ext cx="609264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r claramente  el efecto o síntoma cuyas causas han de ser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dentificada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ciones a tener en cuent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Síntom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señal aparente de una anormalid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Teorí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Es una explicación no pr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ada de una anormalid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Caus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es una razón probada de la existencia de los sínto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243000"/>
            <a:ext cx="8748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11280" y="620640"/>
            <a:ext cx="539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7760" y="200016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4880" y="2133720"/>
            <a:ext cx="609912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locar en un recuadro a la derecha el </a:t>
            </a: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EFECTO o s</a:t>
            </a: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í</a:t>
            </a: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ntom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 dibujar una flecha central apuntándole </a:t>
            </a:r>
            <a:r>
              <a:rPr b="0" lang="es-ES" sz="3600" spc="-1" strike="noStrike">
                <a:solidFill>
                  <a:srgbClr val="993300"/>
                </a:solidFill>
                <a:latin typeface="Arial"/>
              </a:rPr>
              <a:t>(CAUSA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-9360"/>
            <a:ext cx="91486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32000" y="1274760"/>
            <a:ext cx="472608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3162240"/>
            <a:ext cx="2990880" cy="340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7760" y="1987560"/>
            <a:ext cx="1449360" cy="1133640"/>
          </a:xfrm>
          <a:custGeom>
            <a:avLst/>
            <a:gdLst>
              <a:gd name="textAreaLeft" fmla="*/ 330840 w 1449360"/>
              <a:gd name="textAreaRight" fmla="*/ 1118520 w 1449360"/>
              <a:gd name="textAreaTop" fmla="*/ 258840 h 1133640"/>
              <a:gd name="textAreaBottom" fmla="*/ 87480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59280" y="4869000"/>
            <a:ext cx="5836320" cy="1218600"/>
            <a:chOff x="3059280" y="4869000"/>
            <a:chExt cx="5836320" cy="1218600"/>
          </a:xfrm>
        </p:grpSpPr>
        <p:sp>
          <p:nvSpPr>
            <p:cNvPr id="118" name=""/>
            <p:cNvSpPr/>
            <p:nvPr/>
          </p:nvSpPr>
          <p:spPr>
            <a:xfrm>
              <a:off x="3059280" y="4869000"/>
              <a:ext cx="4094280" cy="1218600"/>
            </a:xfrm>
            <a:prstGeom prst="rightArrow">
              <a:avLst>
                <a:gd name="adj1" fmla="val 50000"/>
                <a:gd name="adj2" fmla="val 8399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s-ES_tradnl" sz="2600" spc="-1" strike="noStrike">
                  <a:solidFill>
                    <a:srgbClr val="993300"/>
                  </a:solidFill>
                  <a:latin typeface="Arial"/>
                </a:rPr>
                <a:t>CAUS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7800" y="5021280"/>
              <a:ext cx="1567800" cy="4971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s-ES_tradnl" sz="2600" spc="-1" strike="noStrike">
                  <a:solidFill>
                    <a:srgbClr val="000000"/>
                  </a:solidFill>
                  <a:latin typeface="Arial"/>
                </a:rPr>
                <a:t>EFECT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91120" y="4038480"/>
            <a:ext cx="2819160" cy="1078200"/>
          </a:xfrm>
          <a:prstGeom prst="wedgeEllipseCallout">
            <a:avLst>
              <a:gd name="adj1" fmla="val -47523"/>
              <a:gd name="adj2" fmla="val 49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c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82680" y="1557360"/>
            <a:ext cx="69613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tilizar el brainstorming o un enfoque racional paso a paso para identificar las posibles caus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0441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97120" y="1200240"/>
            <a:ext cx="5394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880" y="2000160"/>
            <a:ext cx="1652760" cy="1121040"/>
          </a:xfrm>
          <a:custGeom>
            <a:avLst/>
            <a:gdLst>
              <a:gd name="textAreaLeft" fmla="*/ 377280 w 1652760"/>
              <a:gd name="textAreaRight" fmla="*/ 1275480 w 165276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348000" y="4218120"/>
            <a:ext cx="87012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804000" y="4005360"/>
            <a:ext cx="25621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35:38Z</dcterms:created>
  <dc:creator>.</dc:creator>
  <dc:description/>
  <dc:language>en-US</dc:language>
  <cp:lastModifiedBy>.</cp:lastModifiedBy>
  <dcterms:modified xsi:type="dcterms:W3CDTF">2007-10-17T20:35:49Z</dcterms:modified>
  <cp:revision>1</cp:revision>
  <dc:subject/>
  <dc:title>Diapositiva 1</dc:title>
</cp:coreProperties>
</file>