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3FF-7DFF-497E-9FDA-3CA513BD59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A69-C142-403A-BF73-7F12EB33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2F5-12D1-4B6C-94F3-BDBB9996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A7F-41BB-47CA-9539-D1F25183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41B-EF74-4E57-BAEF-7057B2F0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1C6-318A-4921-AA6A-28990BAE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19E-8F5C-4A12-A54F-AD428EFC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0F9-B6D7-46EB-A8F7-08031D3A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EF4-F1E8-4310-950F-94BC0E27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1B6-FD2E-47F4-AAF1-F589618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685-0631-42FA-9B57-B639437F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363-99A5-4030-B67B-2E65628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6A6-6D80-4208-BBD8-82578C05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FF2D-668E-466A-8898-8719B1959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447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40000" y="1773360"/>
            <a:ext cx="70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una de las causas principales (2-6) se escriben en un recuadro y se conectan con la flech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104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10000" y="127944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-252360" y="314172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5013360"/>
            <a:ext cx="5133960" cy="639720"/>
          </a:xfrm>
          <a:prstGeom prst="rightArrow">
            <a:avLst>
              <a:gd name="adj1" fmla="val 62500"/>
              <a:gd name="adj2" fmla="val 190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5084640"/>
            <a:ext cx="1332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657600"/>
            <a:ext cx="1739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6076800"/>
            <a:ext cx="2971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cisiones de la 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6076800"/>
            <a:ext cx="2585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unicación inefic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3657600"/>
            <a:ext cx="1477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ferta limit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81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76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000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756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92360" y="1700280"/>
            <a:ext cx="8091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ñadir causas para cad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áre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princip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l final de líneas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zadas paralel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la flecha central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4880" y="112068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610000" cy="337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98900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602136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6137280"/>
            <a:ext cx="154764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3962520"/>
            <a:ext cx="1120680" cy="19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724280"/>
            <a:ext cx="10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741640" y="5761080"/>
            <a:ext cx="13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81360" y="520056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07120" y="4800600"/>
            <a:ext cx="130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3581280"/>
            <a:ext cx="236196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962520"/>
            <a:ext cx="1943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4419720"/>
            <a:ext cx="20890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xceso de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11760" y="4479840"/>
            <a:ext cx="1479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21600" y="5440320"/>
            <a:ext cx="22622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33600" y="44798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92360" y="1557360"/>
            <a:ext cx="79182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ñadir causas relacionadas para cada causa ya anotadas y así sucesi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84600" y="103968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2436840" cy="337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1773360"/>
            <a:ext cx="1654200" cy="112068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600 h 1120680"/>
              <a:gd name="textAreaBottom" fmla="*/ 86508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6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621828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4648320"/>
            <a:ext cx="1044720" cy="17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6019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95120" y="56386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71440" y="502920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365760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2095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4000" y="6237360"/>
            <a:ext cx="1440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724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sencia de m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ubus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260280"/>
            <a:ext cx="6846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8880" y="1511280"/>
            <a:ext cx="560736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52840" y="1603440"/>
            <a:ext cx="5487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ff"/>
                </a:solidFill>
                <a:latin typeface="Times New Roman"/>
              </a:rPr>
              <a:t>Diagrama que muestra la relación sistemática entre un resultado fijo y sus ca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352680"/>
            <a:ext cx="8534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herramienta es útil en la identificación de las posibles causas de un problema, y representa las relaciones entre algunos efectos y sus ca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ambiente no-manufacturero, las categorías de causas potenciales incluyen políticas, personal, procedimientos y planta (las 4 P'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240" y="2590920"/>
            <a:ext cx="273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75560" y="7272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0880" y="1955880"/>
            <a:ext cx="3975120" cy="163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09680" y="4635360"/>
            <a:ext cx="4467240" cy="1222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31840" y="4148280"/>
            <a:ext cx="328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de procesos por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616720" y="1911240"/>
            <a:ext cx="2349360" cy="145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67440" y="3462480"/>
            <a:ext cx="197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p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0880" y="1521000"/>
            <a:ext cx="249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de var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88080" y="89856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2158920"/>
            <a:ext cx="8394480" cy="328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3400" y="2298600"/>
            <a:ext cx="78519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aborarlo es una labor educativa en sí misma, favorece el intercambio de técnicas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yuda a determinar el tipo de datos a obtener con el fin de confirmar si los factores seleccionados fueron realmente las causas del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a prevenir problemas, cuando se detectan causas potenciales de un problema, éstas pueden prevenirse si se adoptan controles aprop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estra la habilidad profesional que posee el personal encargado del proceso; entre más alto sea el nivel, mejor será el diagrama resul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9400" y="8874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0920" y="1844640"/>
            <a:ext cx="2422080" cy="1199880"/>
            <a:chOff x="250920" y="1844640"/>
            <a:chExt cx="2422080" cy="1199880"/>
          </a:xfrm>
        </p:grpSpPr>
        <p:sp>
          <p:nvSpPr>
            <p:cNvPr id="95" name=""/>
            <p:cNvSpPr/>
            <p:nvPr/>
          </p:nvSpPr>
          <p:spPr>
            <a:xfrm>
              <a:off x="250920" y="1844640"/>
              <a:ext cx="2422080" cy="119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41160" y="1944720"/>
              <a:ext cx="1718640" cy="899280"/>
              <a:chOff x="641160" y="1944720"/>
              <a:chExt cx="1718640" cy="899280"/>
            </a:xfrm>
          </p:grpSpPr>
          <p:sp>
            <p:nvSpPr>
              <p:cNvPr id="97" name=""/>
              <p:cNvSpPr/>
              <p:nvPr/>
            </p:nvSpPr>
            <p:spPr>
              <a:xfrm>
                <a:off x="797400" y="2444400"/>
                <a:ext cx="156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7400" y="1944720"/>
                <a:ext cx="54648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44240" y="1944720"/>
                <a:ext cx="468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41160" y="2444040"/>
                <a:ext cx="39060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188000" y="2444040"/>
                <a:ext cx="31248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735200" y="2444040"/>
                <a:ext cx="31212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127320"/>
            <a:ext cx="1670040" cy="373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49360"/>
            <a:ext cx="914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desarro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1736640"/>
            <a:ext cx="617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cep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efecto es una forma de organizar y representar las diferentes causas de un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- Efecto se conoce también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ina de 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4360" y="2708280"/>
            <a:ext cx="1739880" cy="1001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56000" y="1125360"/>
            <a:ext cx="609264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r claramente  el efecto o síntoma cuyas causas han de ser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dentificad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ciones a tener en cuent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Síntom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señal aparente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Teorí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explicación no pr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ada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Caus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razón probada de la existencia de los sínto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243000"/>
            <a:ext cx="8748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11280" y="620640"/>
            <a:ext cx="539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4880" y="2133720"/>
            <a:ext cx="609912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locar en un recuadro a la derecha el 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EFECTO o s</a:t>
            </a: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í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ntom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 dibujar una flecha central apuntándole </a:t>
            </a:r>
            <a:r>
              <a:rPr b="0" lang="es-ES" sz="3600" spc="-1" strike="noStrike">
                <a:solidFill>
                  <a:srgbClr val="993300"/>
                </a:solidFill>
                <a:latin typeface="Arial"/>
              </a:rPr>
              <a:t>(CAUSA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-9360"/>
            <a:ext cx="91486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32000" y="1274760"/>
            <a:ext cx="472608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3162240"/>
            <a:ext cx="2990880" cy="340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7760" y="1987560"/>
            <a:ext cx="1449360" cy="1133640"/>
          </a:xfrm>
          <a:custGeom>
            <a:avLst/>
            <a:gdLst>
              <a:gd name="textAreaLeft" fmla="*/ 330840 w 1449360"/>
              <a:gd name="textAreaRight" fmla="*/ 1118520 w 1449360"/>
              <a:gd name="textAreaTop" fmla="*/ 258840 h 1133640"/>
              <a:gd name="textAreaBottom" fmla="*/ 87480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59280" y="4869000"/>
            <a:ext cx="5836320" cy="1218600"/>
            <a:chOff x="3059280" y="4869000"/>
            <a:chExt cx="5836320" cy="1218600"/>
          </a:xfrm>
        </p:grpSpPr>
        <p:sp>
          <p:nvSpPr>
            <p:cNvPr id="118" name=""/>
            <p:cNvSpPr/>
            <p:nvPr/>
          </p:nvSpPr>
          <p:spPr>
            <a:xfrm>
              <a:off x="3059280" y="4869000"/>
              <a:ext cx="4094280" cy="1218600"/>
            </a:xfrm>
            <a:prstGeom prst="rightArrow">
              <a:avLst>
                <a:gd name="adj1" fmla="val 50000"/>
                <a:gd name="adj2" fmla="val 8399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993300"/>
                  </a:solidFill>
                  <a:latin typeface="Arial"/>
                </a:rPr>
                <a:t>CAUS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7800" y="5021280"/>
              <a:ext cx="1567800" cy="4971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000000"/>
                  </a:solidFill>
                  <a:latin typeface="Arial"/>
                </a:rPr>
                <a:t>EFECT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91120" y="4038480"/>
            <a:ext cx="2819160" cy="1078200"/>
          </a:xfrm>
          <a:prstGeom prst="wedgeEllipseCallout">
            <a:avLst>
              <a:gd name="adj1" fmla="val -47523"/>
              <a:gd name="adj2" fmla="val 49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c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2680" y="1557360"/>
            <a:ext cx="69613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tilizar el brainstorming o un enfoque racional paso a paso para identificar las posibles caus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0441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97120" y="120024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880" y="2000160"/>
            <a:ext cx="1652760" cy="1121040"/>
          </a:xfrm>
          <a:custGeom>
            <a:avLst/>
            <a:gdLst>
              <a:gd name="textAreaLeft" fmla="*/ 377280 w 1652760"/>
              <a:gd name="textAreaRight" fmla="*/ 1275480 w 165276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348000" y="4218120"/>
            <a:ext cx="87012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25621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35:38Z</dcterms:created>
  <dc:creator>.</dc:creator>
  <dc:description/>
  <dc:language>en-US</dc:language>
  <cp:lastModifiedBy>.</cp:lastModifiedBy>
  <dcterms:modified xsi:type="dcterms:W3CDTF">2007-10-17T20:35:49Z</dcterms:modified>
  <cp:revision>1</cp:revision>
  <dc:subject/>
  <dc:title>Diapositiva 1</dc:title>
</cp:coreProperties>
</file>