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7445-8E8A-4A8F-BA3E-B8032D9788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838080" y="4324320"/>
            <a:ext cx="51055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"/>
          <p:cNvSpPr/>
          <p:nvPr/>
        </p:nvSpPr>
        <p:spPr>
          <a:xfrm>
            <a:off x="838080" y="4324320"/>
            <a:ext cx="51055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838080" y="4324320"/>
            <a:ext cx="51055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838080" y="4324320"/>
            <a:ext cx="51055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CA4-994F-4D59-BFC8-CF6ADB08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1FF-769B-4DB4-BF2C-EF2471AF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B37-EF90-47E9-ADB0-99DE2472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644-253D-4AEC-8044-4634EF3D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D6F-D4A4-4BDD-8AAA-BAD7458A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110-7152-4847-9FE6-44794843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BE8D-D886-4661-8F95-D4EBD291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06F-C9C7-4EC4-A959-6165C1AA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4E3-9B7F-4A19-9D3D-7F19416E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91E-7A91-41BD-BDF8-5517CE97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F75-877E-4B23-A130-F1F6A056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AB6-7781-4D9A-9DF0-5BC55E2B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02F9-78FD-4105-91D5-8B170AD1E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image" Target="../media/image6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447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IAGRAMA DE ISHIKA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340000" y="1773360"/>
            <a:ext cx="7047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una de las causas principales (2-6) se escriben en un recuadro y se conectan con la flecha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104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10000" y="1279440"/>
            <a:ext cx="5394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-252360" y="3141720"/>
            <a:ext cx="2957400" cy="3371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7760" y="2000160"/>
            <a:ext cx="1654200" cy="1121040"/>
          </a:xfrm>
          <a:custGeom>
            <a:avLst/>
            <a:gdLst>
              <a:gd name="textAreaLeft" fmla="*/ 377640 w 1654200"/>
              <a:gd name="textAreaRight" fmla="*/ 1276560 w 1654200"/>
              <a:gd name="textAreaTop" fmla="*/ 255960 h 1121040"/>
              <a:gd name="textAreaBottom" fmla="*/ 8650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4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5013360"/>
            <a:ext cx="5133960" cy="639720"/>
          </a:xfrm>
          <a:prstGeom prst="rightArrow">
            <a:avLst>
              <a:gd name="adj1" fmla="val 62500"/>
              <a:gd name="adj2" fmla="val 190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993300"/>
                </a:solidFill>
                <a:latin typeface="Arial"/>
              </a:rPr>
              <a:t>CAU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12000" y="5084640"/>
            <a:ext cx="1332000" cy="4060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657600"/>
            <a:ext cx="173988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co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6076800"/>
            <a:ext cx="297180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ecisiones de la Dir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6076800"/>
            <a:ext cx="258588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Comunicación inefica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3657600"/>
            <a:ext cx="147780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ferta limit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481720" y="5520960"/>
            <a:ext cx="347760" cy="63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176720" y="5520960"/>
            <a:ext cx="347760" cy="63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20000" y="4493880"/>
            <a:ext cx="439200" cy="627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67560" y="4493880"/>
            <a:ext cx="439200" cy="627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92360" y="1700280"/>
            <a:ext cx="8091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ñadir causas para cad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áre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princip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al final de líneas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zadas paralela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a la flecha central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104410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4880" y="1120680"/>
            <a:ext cx="53942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2610000" cy="3371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1989000"/>
            <a:ext cx="1654200" cy="1121040"/>
          </a:xfrm>
          <a:custGeom>
            <a:avLst/>
            <a:gdLst>
              <a:gd name="textAreaLeft" fmla="*/ 377640 w 1654200"/>
              <a:gd name="textAreaRight" fmla="*/ 1276560 w 1654200"/>
              <a:gd name="textAreaTop" fmla="*/ 255960 h 1121040"/>
              <a:gd name="textAreaBottom" fmla="*/ 8650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5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6021360"/>
            <a:ext cx="5132520" cy="639720"/>
          </a:xfrm>
          <a:prstGeom prst="rightArrow">
            <a:avLst>
              <a:gd name="adj1" fmla="val 62500"/>
              <a:gd name="adj2" fmla="val 716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993300"/>
                </a:solidFill>
                <a:latin typeface="Arial"/>
              </a:rPr>
              <a:t>CAU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6137280"/>
            <a:ext cx="1547640" cy="4060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3962520"/>
            <a:ext cx="1120680" cy="19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4724280"/>
            <a:ext cx="10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741640" y="5761080"/>
            <a:ext cx="139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81360" y="520056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307120" y="4800600"/>
            <a:ext cx="130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3581280"/>
            <a:ext cx="2361960" cy="43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co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3962520"/>
            <a:ext cx="19432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4419720"/>
            <a:ext cx="20890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xceso de tra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11760" y="4479840"/>
            <a:ext cx="1479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co 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21600" y="5440320"/>
            <a:ext cx="22622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hor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133600" y="44798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92360" y="1557360"/>
            <a:ext cx="79182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ñadir causas relacionadas para cada causa ya anotadas y así sucesiv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104410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84600" y="1039680"/>
            <a:ext cx="5394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2852640"/>
            <a:ext cx="2436840" cy="3372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1773360"/>
            <a:ext cx="1654200" cy="1120680"/>
          </a:xfrm>
          <a:custGeom>
            <a:avLst/>
            <a:gdLst>
              <a:gd name="textAreaLeft" fmla="*/ 377640 w 1654200"/>
              <a:gd name="textAreaRight" fmla="*/ 1276560 w 1654200"/>
              <a:gd name="textAreaTop" fmla="*/ 255600 h 1120680"/>
              <a:gd name="textAreaBottom" fmla="*/ 86508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6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6218280"/>
            <a:ext cx="5132520" cy="639720"/>
          </a:xfrm>
          <a:prstGeom prst="rightArrow">
            <a:avLst>
              <a:gd name="adj1" fmla="val 62500"/>
              <a:gd name="adj2" fmla="val 716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993300"/>
                </a:solidFill>
                <a:latin typeface="Arial"/>
              </a:rPr>
              <a:t>CAU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4648320"/>
            <a:ext cx="1044720" cy="176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6019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895120" y="563868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971440" y="502920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3581280"/>
            <a:ext cx="3657600" cy="43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co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20955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04000" y="6237360"/>
            <a:ext cx="1440000" cy="4060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4724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sencia de man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5334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Subuso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92360" y="260280"/>
            <a:ext cx="68468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Diagrama de Ishika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6697440" y="17524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plomado en Calidad en 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89920" y="638172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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rechos Reservado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9240" y="71280"/>
          <a:ext cx="15699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71280"/>
                    <a:ext cx="1569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8680320" y="3848040"/>
            <a:ext cx="0" cy="2400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13000" y="6248520"/>
            <a:ext cx="592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9440" y="60199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uan Antonio Vega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8880" y="1511280"/>
            <a:ext cx="5607360" cy="8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52840" y="1603440"/>
            <a:ext cx="5487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ff"/>
                </a:solidFill>
                <a:latin typeface="Times New Roman"/>
              </a:rPr>
              <a:t>Diagrama que muestra la relación sistemática entre un resultado fijo y sus ca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352680"/>
            <a:ext cx="8534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 herramienta es útil en la identificación de las posibles causas de un problema, y representa las relaciones entre algunos efectos y sus cau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un ambiente no-manufacturero, las categorías de causas potenciales incluyen políticas, personal, procedimientos y planta (las 4 P'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240" y="2590920"/>
            <a:ext cx="273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¿Para qué si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75560" y="727200"/>
            <a:ext cx="591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DIAGRAMA DE ISHIKA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20880" y="1955880"/>
            <a:ext cx="3975120" cy="163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09680" y="4635360"/>
            <a:ext cx="4467240" cy="1222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31840" y="4148280"/>
            <a:ext cx="328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 de procesos por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616720" y="1911240"/>
            <a:ext cx="2349360" cy="1451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67440" y="3462480"/>
            <a:ext cx="197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 para 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0880" y="1521000"/>
            <a:ext cx="249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de var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6697440" y="17524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plomado en Calidad en 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89920" y="638172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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rechos Reservado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9240" y="71280"/>
          <a:ext cx="1569960" cy="198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71280"/>
                    <a:ext cx="1569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8680320" y="3848040"/>
            <a:ext cx="0" cy="2400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13000" y="6248520"/>
            <a:ext cx="592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9440" y="60199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uan Antonio Vega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88080" y="898560"/>
            <a:ext cx="591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DIAGRAMA DE ISHIKA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7480" y="2158920"/>
            <a:ext cx="8394480" cy="3289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16200000">
            <a:off x="6697440" y="17524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plomado en Calidad en 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89920" y="638172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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rechos Reservado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19240" y="71280"/>
          <a:ext cx="156996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240" y="71280"/>
                    <a:ext cx="1569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8680320" y="3848040"/>
            <a:ext cx="0" cy="2400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6248520"/>
            <a:ext cx="592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9440" y="60199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uan Antonio Vega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63400" y="2298600"/>
            <a:ext cx="78519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aborarlo es una labor educativa en sí misma, favorece el intercambio de técnicas y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yuda a determinar el tipo de datos a obtener con el fin de confirmar si los factores seleccionados fueron realmente las causas del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a prevenir problemas, cuando se detectan causas potenciales de un problema, éstas pueden prevenirse si se adoptan controles apropi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uestra la habilidad profesional que posee el personal encargado del proceso; entre más alto sea el nivel, mejor será el diagrama resul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9400" y="887400"/>
            <a:ext cx="591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DIAGRAMA DE ISHIKA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6697440" y="17524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plomado en Calidad en 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89920" y="638172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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rechos Reservado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19240" y="71280"/>
          <a:ext cx="15699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71280"/>
                    <a:ext cx="1569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8680320" y="3848040"/>
            <a:ext cx="0" cy="2400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13000" y="6248520"/>
            <a:ext cx="592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9440" y="60199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uan Antonio Vega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250920" y="1844640"/>
            <a:ext cx="2422080" cy="1199880"/>
            <a:chOff x="250920" y="1844640"/>
            <a:chExt cx="2422080" cy="1199880"/>
          </a:xfrm>
        </p:grpSpPr>
        <p:sp>
          <p:nvSpPr>
            <p:cNvPr id="95" name=""/>
            <p:cNvSpPr/>
            <p:nvPr/>
          </p:nvSpPr>
          <p:spPr>
            <a:xfrm>
              <a:off x="250920" y="1844640"/>
              <a:ext cx="2422080" cy="1199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41160" y="1944720"/>
              <a:ext cx="1718640" cy="899280"/>
              <a:chOff x="641160" y="1944720"/>
              <a:chExt cx="1718640" cy="899280"/>
            </a:xfrm>
          </p:grpSpPr>
          <p:sp>
            <p:nvSpPr>
              <p:cNvPr id="97" name=""/>
              <p:cNvSpPr/>
              <p:nvPr/>
            </p:nvSpPr>
            <p:spPr>
              <a:xfrm>
                <a:off x="797400" y="2444400"/>
                <a:ext cx="156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97400" y="1944720"/>
                <a:ext cx="546480" cy="49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44240" y="1944720"/>
                <a:ext cx="468720" cy="49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641160" y="2444040"/>
                <a:ext cx="39060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1188000" y="2444040"/>
                <a:ext cx="31248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1735200" y="2444040"/>
                <a:ext cx="31212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3127320"/>
            <a:ext cx="1670040" cy="3730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49360"/>
            <a:ext cx="9144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o desarroll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1736640"/>
            <a:ext cx="617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ncep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diagrama Causa efecto es una forma de organizar y representar las diferentes causas de un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Diagrama Causa - Efecto se conoce también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1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grama de Ishik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1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pina de pes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164360" y="2708280"/>
            <a:ext cx="1739880" cy="1001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56000" y="1125360"/>
            <a:ext cx="609264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finir claramente  el efecto o síntoma cuyas causas han de ser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dentificada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finiciones a tener en cuent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75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cc6600"/>
                </a:solidFill>
                <a:latin typeface="Arial"/>
              </a:rPr>
              <a:t>Síntoma: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señal aparente de una anormalid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75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cc6600"/>
                </a:solidFill>
                <a:latin typeface="Arial"/>
              </a:rPr>
              <a:t>Teoría: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Es una explicación no pro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ada de una anormalid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75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cc6600"/>
                </a:solidFill>
                <a:latin typeface="Arial"/>
              </a:rPr>
              <a:t>Causa: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es una razón probada de la existencia de los sínto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-243000"/>
            <a:ext cx="8748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411280" y="620640"/>
            <a:ext cx="5394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2957400" cy="3371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7760" y="2000160"/>
            <a:ext cx="1654200" cy="1121040"/>
          </a:xfrm>
          <a:custGeom>
            <a:avLst/>
            <a:gdLst>
              <a:gd name="textAreaLeft" fmla="*/ 377640 w 1654200"/>
              <a:gd name="textAreaRight" fmla="*/ 1276560 w 1654200"/>
              <a:gd name="textAreaTop" fmla="*/ 255960 h 1121040"/>
              <a:gd name="textAreaBottom" fmla="*/ 8650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4880" y="2133720"/>
            <a:ext cx="609912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locar en un recuadro a la derecha el </a:t>
            </a:r>
            <a:r>
              <a:rPr b="0" lang="es-ES" sz="3600" spc="-1" strike="noStrike">
                <a:solidFill>
                  <a:srgbClr val="ffcc00"/>
                </a:solidFill>
                <a:latin typeface="Arial"/>
              </a:rPr>
              <a:t>EFECTO o s</a:t>
            </a:r>
            <a:r>
              <a:rPr b="0" lang="es-ES_tradnl" sz="3600" spc="-1" strike="noStrike">
                <a:solidFill>
                  <a:srgbClr val="ffcc00"/>
                </a:solidFill>
                <a:latin typeface="Arial"/>
              </a:rPr>
              <a:t>í</a:t>
            </a:r>
            <a:r>
              <a:rPr b="0" lang="es-ES" sz="3600" spc="-1" strike="noStrike">
                <a:solidFill>
                  <a:srgbClr val="ffcc00"/>
                </a:solidFill>
                <a:latin typeface="Arial"/>
              </a:rPr>
              <a:t>ntom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y dibujar una flecha central apuntándole </a:t>
            </a:r>
            <a:r>
              <a:rPr b="0" lang="es-ES" sz="3600" spc="-1" strike="noStrike">
                <a:solidFill>
                  <a:srgbClr val="993300"/>
                </a:solidFill>
                <a:latin typeface="Arial"/>
              </a:rPr>
              <a:t>(CAUSA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-9360"/>
            <a:ext cx="91486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132000" y="1274760"/>
            <a:ext cx="472608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3162240"/>
            <a:ext cx="2990880" cy="3409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47760" y="1987560"/>
            <a:ext cx="1449360" cy="1133640"/>
          </a:xfrm>
          <a:custGeom>
            <a:avLst/>
            <a:gdLst>
              <a:gd name="textAreaLeft" fmla="*/ 330840 w 1449360"/>
              <a:gd name="textAreaRight" fmla="*/ 1118520 w 1449360"/>
              <a:gd name="textAreaTop" fmla="*/ 258840 h 1133640"/>
              <a:gd name="textAreaBottom" fmla="*/ 87480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59280" y="4869000"/>
            <a:ext cx="5836320" cy="1218600"/>
            <a:chOff x="3059280" y="4869000"/>
            <a:chExt cx="5836320" cy="1218600"/>
          </a:xfrm>
        </p:grpSpPr>
        <p:sp>
          <p:nvSpPr>
            <p:cNvPr id="118" name=""/>
            <p:cNvSpPr/>
            <p:nvPr/>
          </p:nvSpPr>
          <p:spPr>
            <a:xfrm>
              <a:off x="3059280" y="4869000"/>
              <a:ext cx="4094280" cy="1218600"/>
            </a:xfrm>
            <a:prstGeom prst="rightArrow">
              <a:avLst>
                <a:gd name="adj1" fmla="val 50000"/>
                <a:gd name="adj2" fmla="val 8399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s-ES_tradnl" sz="2600" spc="-1" strike="noStrike">
                  <a:solidFill>
                    <a:srgbClr val="993300"/>
                  </a:solidFill>
                  <a:latin typeface="Arial"/>
                </a:rPr>
                <a:t>CAUS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27800" y="5021280"/>
              <a:ext cx="1567800" cy="4971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s-ES_tradnl" sz="2600" spc="-1" strike="noStrike">
                  <a:solidFill>
                    <a:srgbClr val="000000"/>
                  </a:solidFill>
                  <a:latin typeface="Arial"/>
                </a:rPr>
                <a:t>EFECT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91120" y="4038480"/>
            <a:ext cx="2819160" cy="1078200"/>
          </a:xfrm>
          <a:prstGeom prst="wedgeEllipseCallout">
            <a:avLst>
              <a:gd name="adj1" fmla="val -47523"/>
              <a:gd name="adj2" fmla="val 49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ca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82680" y="1557360"/>
            <a:ext cx="69613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tilizar el brainstorming o un enfoque racional paso a paso para identificar las posibles caus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10441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697120" y="1200240"/>
            <a:ext cx="53942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2957400" cy="3371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4880" y="2000160"/>
            <a:ext cx="1652760" cy="1121040"/>
          </a:xfrm>
          <a:custGeom>
            <a:avLst/>
            <a:gdLst>
              <a:gd name="textAreaLeft" fmla="*/ 377280 w 1652760"/>
              <a:gd name="textAreaRight" fmla="*/ 1275480 w 1652760"/>
              <a:gd name="textAreaTop" fmla="*/ 255960 h 1121040"/>
              <a:gd name="textAreaBottom" fmla="*/ 8650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3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348000" y="4218120"/>
            <a:ext cx="870120" cy="2639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804000" y="4005360"/>
            <a:ext cx="256212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0:35:38Z</dcterms:created>
  <dc:creator>.</dc:creator>
  <dc:description/>
  <dc:language>en-US</dc:language>
  <cp:lastModifiedBy>.</cp:lastModifiedBy>
  <dcterms:modified xsi:type="dcterms:W3CDTF">2007-10-17T20:35:49Z</dcterms:modified>
  <cp:revision>1</cp:revision>
  <dc:subject/>
  <dc:title>Diapositiva 1</dc:title>
</cp:coreProperties>
</file>