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BF5-25BE-4385-BC02-DBC0B0D4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FD6-B9B5-47BC-BB37-515285C6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018-5DF0-40F9-832E-E01379D2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EBB-8304-4127-996F-74470725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CC7-FA96-4C02-A29B-77BE2D28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68E-7A43-4489-B4AC-56BF735B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CAA-92FC-4AE7-B34F-9799AA1E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61C-8F45-4CAF-8BFF-A91F8395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200-F2A3-416F-971E-AF28A913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E43-A60C-48CE-9560-81F99903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A5A-BE42-4160-A94B-D2C732C4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52E-F46B-485B-BCF9-01627B58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29A2-68CA-42B1-8DA4-11163EAF5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rcicio 2: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apeo y Rediseño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1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 agua ‘ AGUA SANTA’ abastece una gran ciudad latinoamricana de varios millones de habi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sta el año 2001, su proceso para facturar y cobrar a sus clientes, es que se describe a contin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a brevemente 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alice un mapeo del proceso, a través del método que le parezca más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gerencia comercial determina y programaba rutas de le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través de una empresa externa se hacia la medición casa 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medición era básicamente visual, con registro manual en un formulario del resultado de la med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mpresa externa entregaba sus planillas y se le pagaba según medición real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vez recibida la información se enviaba a un área interna de digitación, que ingresaba la información de las planillas al sistema compu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sistema procedía a calcular las facturas, de acuerdo a las tarifas aprobadas por la autoridad guberna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viamente validaba datos para evitar problemas: Se eliminaban lecturas invalidas, las que eran enviadas a la gerencia comercial para un proceso especial de manejo de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sistema calculaba e imprimía las fac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uego las facturas eran enviadas a una empresa de despacho, para ser ensobradas y distribuidas a nivel domicili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lientes recibían las facturas, que debían pagar en cierto banco de la pla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vez que se realizaba el pago de facturas por parte del cliente, la información era enviada a la empresa ‘AGUA SANTA’ para efectos de actualizar saldos y alimentar otros procesos comer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49:34Z</dcterms:created>
  <dc:creator>.</dc:creator>
  <dc:description/>
  <dc:language>en-US</dc:language>
  <cp:lastModifiedBy>.</cp:lastModifiedBy>
  <dcterms:modified xsi:type="dcterms:W3CDTF">2007-10-01T12:49:50Z</dcterms:modified>
  <cp:revision>1</cp:revision>
  <dc:subject/>
  <dc:title>Ejercicio 2:  Mapeo y Rediseño de Procesos</dc:title>
</cp:coreProperties>
</file>